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9DC-1EDE-40B2-8FD8-B746B530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6DCA-5FE6-4AA9-B319-34E783A5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C093-22AA-45E7-9A78-16C5B6F5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31FA-2019-4216-9044-4990490F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6642-6E39-4066-8626-EA3299AA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5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7E6-E8CB-4CE8-A5A8-8AD7EBF5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EFB-CF64-4935-A2F0-B2841C50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FC4B-9397-402C-A9C3-8C6CCB76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67A-7359-4B55-BDEB-CFCB9239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F32-CF54-4532-B947-4D6D9AF9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90FA-79FF-4F65-80A7-3F5403B3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32B-BAC3-4B4E-BA77-92532B67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5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5626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01560" y="609480"/>
            <a:ext cx="8534520" cy="1022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8eae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553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8172360" y="695160"/>
            <a:ext cx="85752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F322-53B4-432F-A9B1-7A0F07A02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49440"/>
            <a:ext cx="8534520" cy="1022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8eae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185320" y="73836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553680"/>
            <a:ext cx="746748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Unit Service 10 Commandments</a:t>
            </a:r>
            <a:endParaRPr b="1" i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0384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428040" indent="-4280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unit leader is the most important person in Scout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8040" indent="-4280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 leaders are not dependent on us; we are dependent on th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8040" indent="-4280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s are not interruptions of our work; they are the purpose of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8040" indent="-4280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 adults do us a favor when they ca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8040" indent="-4280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unit Scouter is central to our team - not an outsid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8040" indent="-4280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 leaders are not cold statistics; they are human beings with feelings and emotions like our ow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8040" indent="-4280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unit leader is not someone to argue or match wits wit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8040" indent="-4280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 adults bring us their needs; it is our job to meet those need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8040" indent="-4280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 folk are deserving of the most courteous treatment we can give th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28040" indent="-42804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unit is the lifeblood of the counci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rick Kenney</cp:lastModifiedBy>
  <cp:lastPrinted>2007-02-20T06:46:54Z</cp:lastPrinted>
  <dcterms:modified xsi:type="dcterms:W3CDTF">2007-02-20T16:44:06Z</dcterms:modified>
  <cp:revision>10</cp:revision>
  <dc:subject/>
  <dc:title>UNIT VISITATION</dc:title>
</cp:coreProperties>
</file>