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AC97-8700-4757-847B-E7304AE90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3B1A-2CAF-44C7-A7A0-C6C6ED1D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3B7B-2F56-4C64-82CA-6B0015A9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0BC7-DEF9-4B6A-8E3F-015F95FD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8170-2968-4689-88BD-11CFBCF9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55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2EC9-8C1D-4458-A653-BAC409CE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341C-BF57-497E-9BEC-1049808F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B0F5-D6DD-46E6-8CCF-E98FDC4F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CA2E-5D9C-4E32-AD75-E3481040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76A0-E39A-43AE-95EA-C5B24F02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4E89-A9AF-4C81-9AA4-0E31275DE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B9E5-B7F9-4964-9EE5-B85892CF3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55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-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5626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01560" y="609480"/>
            <a:ext cx="8534520" cy="1022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e8eae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8172360" y="695160"/>
            <a:ext cx="857520" cy="85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570A-F0F5-4E22-8565-F774617B9E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649440"/>
            <a:ext cx="8534520" cy="10220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e8eae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185320" y="73836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553680"/>
            <a:ext cx="746748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Everything You Need to Know</a:t>
            </a: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2438280"/>
            <a:ext cx="8001000" cy="4267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60440" indent="-460440">
              <a:lnSpc>
                <a:spcPct val="80000"/>
              </a:lnSpc>
              <a:spcBef>
                <a:spcPts val="550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n’t miss the boa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80000"/>
              </a:lnSpc>
              <a:spcBef>
                <a:spcPts val="550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n’t forget that we’re all in the same boa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80000"/>
              </a:lnSpc>
              <a:spcBef>
                <a:spcPts val="550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lan ahead. It wasn’t raining when Noah built the boa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80000"/>
              </a:lnSpc>
              <a:spcBef>
                <a:spcPts val="550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y fit. When you’re 600 years old, someone might ask you to do something really big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80000"/>
              </a:lnSpc>
              <a:spcBef>
                <a:spcPts val="550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n’t listen to critics; just get on with what has to be don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80000"/>
              </a:lnSpc>
              <a:spcBef>
                <a:spcPts val="550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uild your future on high groun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80000"/>
              </a:lnSpc>
              <a:spcBef>
                <a:spcPts val="550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wo heads are better than on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80000"/>
              </a:lnSpc>
              <a:spcBef>
                <a:spcPts val="550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ed isn’t always an advantage; the snails were on board with the cheetah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80000"/>
              </a:lnSpc>
              <a:spcBef>
                <a:spcPts val="550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you’re stressed, float awhi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80000"/>
              </a:lnSpc>
              <a:spcBef>
                <a:spcPts val="550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member that woodpeckers inside are a larger threat than the storm outsid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676520"/>
            <a:ext cx="7467480" cy="685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  <a:ea typeface="MS Pゴシック"/>
              </a:rPr>
              <a:t>Everything I Need to Know I Learned From Noah and the Northern California Commissioners Confe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trick Kenney</cp:lastModifiedBy>
  <cp:lastPrinted>2007-02-20T16:44:16Z</cp:lastPrinted>
  <dcterms:modified xsi:type="dcterms:W3CDTF">2007-02-20T16:52:58Z</dcterms:modified>
  <cp:revision>11</cp:revision>
  <dc:subject/>
  <dc:title>UNIT VISITATION</dc:title>
</cp:coreProperties>
</file>