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move the slid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81BD7-EDDD-4237-80B7-CEEB63E85FA4}" type="slidenum"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[This slide needs to be modified to show the organization in your local counci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866880"/>
            <a:ext cx="4114800" cy="30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93840" y="3886200"/>
            <a:ext cx="6045120" cy="44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[Your representatives to the council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uncil Commissioner, through district commissio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ct Chai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any Board and Council committe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embership, finance, camping, training, urban emphasis, recognition, long range planning, endowment, administration, etc.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fessional staff works for SE—ultimate job of providing service to boys and expansion of the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staff works for SE—trading post, registration, advancement, finance clerks, executives’ secretaries, camp rangers—all so kids can get their badges and have f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Volunteer staff—work for president and V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any specialized functions: Training, CR, camping, etc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[You may have to modify the last three bullets slightly to fit your situation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o back to the main assembly hall now please. [If no assembly is scheduled, hand out appropriate certificates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866880"/>
            <a:ext cx="4114800" cy="28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393840" y="3809880"/>
            <a:ext cx="6045120" cy="46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couting’s special relationship between volunteers and professionals is the core of its suc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[1.  Neither can succeed without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any jobs volunteers can not or will not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fessional cannot deliver program to k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.  Volunteers should make the important deci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Based on best data and knowledge of the j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fessionals will fill the vacuu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.  Should be based on mutual respect/understa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E serves whole district, not one or three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E is higher level resource, not errand b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DE should be interested in unit major events, leadership chang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4.  UC provides on the spot assistance, diagnosis, 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C gets help from other district volunteers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C keeps ADC, DC, DE informed of serious probl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.  Communicate!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[We will talk about each of the fou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But first -- Who are the Key 3?  What do they 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hairman:  Top volunteer.  Often not an expert.  Good contacts in the community.  Recruiter.  Money pers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mmissioner:  Usually program expert.  May be an “old Scouter.”  Knows unit peo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xecutive:  Scouting salesperson.  Recruiter of boys and adults.  Often new to profession, high turnover.  Very demanding job.  They need to have a life!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[Ya got to have boys to have a progra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sually one or even zero deep.  Draws on other resources to get the job d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How the membership committee is used depends a great deal on the D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[Each district must raise the salary and benefits of the DEs, and make a contribution toward the support staff and ca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any volunteer Scouters think that because they wear a uniform and pay for going on campouts that they should not have to contribute to S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any parents never hear that money is needed to support Scouting beyond the troop or pack d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commissioners can help with unit campaigns by telling our story well, and by setting the example by giving what they can afford to FOS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[Here is where Unit Commissioners can help—but they can do too mu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Your primary job is to serve units!  Don’t let the fun stuff get in the way of servic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I do expect commissioners to serve on training teams, or Day Camp staff, or boards of review.  Just don’t neglect your units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[How are we a fri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are our tools to evaluate wi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How do we provide help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How do we encourage unit participation in activiti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How do we report unit statu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How does the UC use the operating committee resources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580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6716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444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580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6716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36680" y="28080"/>
            <a:ext cx="7346880" cy="75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580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6716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444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580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6716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6680" y="28080"/>
            <a:ext cx="7346880" cy="75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2448"/>
              </a:gs>
              <a:gs pos="50000">
                <a:srgbClr val="003366"/>
              </a:gs>
              <a:gs pos="100000">
                <a:srgbClr val="0024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86920" y="2533320"/>
            <a:ext cx="870588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9440" y="290160"/>
            <a:ext cx="787536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dddddd"/>
                </a:solidFill>
                <a:latin typeface="FrancineHmk"/>
              </a:rPr>
              <a:t>The Commissioner</a:t>
            </a:r>
            <a:br>
              <a:rPr sz="6000"/>
            </a:br>
            <a:r>
              <a:rPr b="0" lang="en-GB" sz="6000" spc="-1" strike="noStrike">
                <a:solidFill>
                  <a:srgbClr val="dddddd"/>
                </a:solidFill>
                <a:latin typeface="FrancineHmk"/>
              </a:rPr>
              <a:t>And the District</a:t>
            </a:r>
            <a:br>
              <a:rPr sz="8000"/>
            </a:b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BCS 103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NorCal Commissioner's Colle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Edited by: David D. Frydenlund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ific Skyline Counci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8400" y="50652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Council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Organization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Council Organiza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couting Districts 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rning for Lif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-School Scouting - elementary &amp; H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or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Council Suppor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ecutive Board - governanc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fessional staff - servic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upport staff - servic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olunteer staff - servic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ining - Pow Wow, Wood Badge, etc.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ssioners - RTRT, CCS, etc.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mping - camps, high adventure, etc.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8400" y="50652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Successful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Districts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8400" y="176040"/>
            <a:ext cx="819144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Quality District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09440" y="1283760"/>
            <a:ext cx="777852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0% Quality Un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% unit growth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% </a:t>
            </a:r>
            <a:r>
              <a:rPr b="0" i="1" lang="en-GB" sz="32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alanced membership growth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e goal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-time reregistration goal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unit commissioner for each 3 un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 the standard district structur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key volunteer position filled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ld annual conference with each IH 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6640" y="2408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How Do You Contribute?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" y="141768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n-time recharter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Quality Uni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mbership growth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door program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ined leader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ommunicate the need for finance driv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 quality program for kids!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581880" y="1698480"/>
            <a:ext cx="1717560" cy="24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98400" y="50652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Questions?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Comments!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8400" y="55080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8360" y="227484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8400" y="50652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 </a:t>
            </a: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Volunteers and Professionals</a:t>
            </a:r>
            <a:br>
              <a:rPr sz="6000"/>
            </a:b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Working Together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elationship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makes the relationship work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o makes the important decisions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flavor of the relationship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do UC and DE work best together?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to avoid common problem area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8400" y="50652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District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Organization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8400" y="271440"/>
            <a:ext cx="819144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Four-Function Pla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Servic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600" spc="-1" strike="noStrike">
                <a:solidFill>
                  <a:srgbClr val="ffff00"/>
                </a:solidFill>
                <a:latin typeface="Arial"/>
              </a:rPr>
              <a:t>Key 3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trict Chairman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trict Commissioner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trict Executiv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45480" y="90360"/>
            <a:ext cx="1298520" cy="1244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46600" y="2712960"/>
            <a:ext cx="533160" cy="53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846600" y="2154240"/>
            <a:ext cx="558720" cy="561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846600" y="1604880"/>
            <a:ext cx="552240" cy="555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854520" y="3225960"/>
            <a:ext cx="534960" cy="54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053040" y="4626000"/>
            <a:ext cx="647640" cy="652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064200" y="5253120"/>
            <a:ext cx="63360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6066000" y="5892840"/>
            <a:ext cx="633240" cy="6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8400" y="2995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Membership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chool nigh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ssioners needed!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undup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atrol plu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ew unit organiza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ssioner needed!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69080" y="139680"/>
            <a:ext cx="125892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Financ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istrict goals support council servic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istrict campaig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campaig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commissioner explain / suppor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78800" y="100080"/>
            <a:ext cx="1249200" cy="121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3314880" y="4686480"/>
          <a:ext cx="231120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4880" y="4686480"/>
                    <a:ext cx="231120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8400" y="229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rogram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686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C support, take people to training!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mping / Outdoo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mmer camp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y camp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door program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dvancemen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69080" y="130320"/>
            <a:ext cx="1308240" cy="1255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27760" y="3557520"/>
            <a:ext cx="3635280" cy="24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9040" y="1616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Unit Servic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686800" cy="54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C a friend to the unit’s leader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C evaluates program, provides help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C encourages activiti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C reports unit statu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C helps unit solve problem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vancemen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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doors / Activiti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Crowl</dc:creator>
  <dc:description>revised March 1998</dc:description>
  <dc:language>en-US</dc:language>
  <cp:lastModifiedBy>George Crowl</cp:lastModifiedBy>
  <cp:revision>0</cp:revision>
  <dc:subject/>
  <dc:title>Classification: Marking</dc:title>
</cp:coreProperties>
</file>