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ct" ContentType="image/x-pict"/>
  <Override PartName="/ppt/media/image9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sldImg"/>
          </p:nvPr>
        </p:nvSpPr>
        <p:spPr>
          <a:xfrm>
            <a:off x="1142640" y="694800"/>
            <a:ext cx="4568760" cy="34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dddddd"/>
                </a:solidFill>
                <a:latin typeface="FrancineHmk"/>
              </a:rPr>
              <a:t>Click to move the slide</a:t>
            </a:r>
            <a:endParaRPr b="0" lang="en-US" sz="4800" spc="-1" strike="noStrike">
              <a:solidFill>
                <a:srgbClr val="dddddd"/>
              </a:solidFill>
              <a:latin typeface="FrancineHm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&lt;header&gt;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1"/>
          </p:nvPr>
        </p:nvSpPr>
        <p:spPr>
          <a:xfrm>
            <a:off x="38811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44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&lt;footer&gt;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1160" y="868644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748B28-766E-44DF-AB3B-DC7C23C81AB1}" type="slidenum">
              <a:rPr b="0" lang="en-US" sz="2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247760" y="866880"/>
            <a:ext cx="4344840" cy="325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body"/>
          </p:nvPr>
        </p:nvSpPr>
        <p:spPr>
          <a:xfrm>
            <a:off x="393840" y="4190760"/>
            <a:ext cx="6045120" cy="4105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Go back to the main assembly hall now please. [If no assembly is scheduled, hand out appropriate certificates.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68760" cy="342612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a Flash Video you can download from Unit Visit Tracking site (about 18.5 mgs in siz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247760" y="866880"/>
            <a:ext cx="4344840" cy="325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body"/>
          </p:nvPr>
        </p:nvSpPr>
        <p:spPr>
          <a:xfrm>
            <a:off x="393840" y="4190760"/>
            <a:ext cx="6045120" cy="41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Brainstorm ways to help a un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Prioritize your un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Spend your time with the weakest un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Strong units need contact.  Weak units need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attentio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Keep a positive attitu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247760" y="866880"/>
            <a:ext cx="4344840" cy="325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body"/>
          </p:nvPr>
        </p:nvSpPr>
        <p:spPr>
          <a:xfrm>
            <a:off x="393840" y="4190760"/>
            <a:ext cx="6045120" cy="41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Unit meetings—where Scouting really happens—bottom line.  These meetings are your best way to observe what’s happen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Unit committee meetings—often your best opportunity to interact with unit adul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Individual get-together with unit l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Visit with other unit adul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Effective phone contac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247760" y="866880"/>
            <a:ext cx="4344840" cy="325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body"/>
          </p:nvPr>
        </p:nvSpPr>
        <p:spPr>
          <a:xfrm>
            <a:off x="304560" y="4190760"/>
            <a:ext cx="6134040" cy="41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You go as a friend of the unit—not as the district “superspy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Constantly ask yourself how can you help the un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Know what is best for the success of your un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Your help should strengthen the roles of unit adults, not glorify the commissioner.  “It’s better to teach a person to fish than to feed him a fish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The commissioner operates quietly, generally in the backgrou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Be helpful, not critic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It’s usually better to call fir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         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It’s common courtes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         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Calling beforehand helps assure you’ll be welco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         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It shows you’re not there to snoo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Know your units, do your homework, know what to exp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247760" y="866880"/>
            <a:ext cx="4344840" cy="325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93840" y="4190760"/>
            <a:ext cx="6045120" cy="41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Watch and list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Be careful not to disrupt the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Stay long enough to get an accurate impres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Avoid making notes during the vis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Chat with other adults who are “on the sidelines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Get to know some of the boy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Don’t distract the leader—talk with him or her during free time, perhaps not until after the meeting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Always give the leader a chance to mention problems or ask ques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Always take some freebies—even if only 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247760" y="866880"/>
            <a:ext cx="4344840" cy="325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393840" y="4190760"/>
            <a:ext cx="6045120" cy="41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After, not during the meeting, review and fill out a commissioner worksheet (in the back of the </a:t>
            </a:r>
            <a:r>
              <a:rPr b="1" i="1" lang="en-GB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Commissioner Fieldbook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Determine the priority needs of the unit.  At any point in time, different units will have different priority needs, and needs change over tim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Determine how can you (or others in the district) be most helpful.  Perhaps it’s only to provide a personal “well done” or “congratulations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Discuss special needs with your ADC, district commissioner, or district executive.  If there is a crisis, communicate immediatel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247760" y="866880"/>
            <a:ext cx="4344840" cy="325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body"/>
          </p:nvPr>
        </p:nvSpPr>
        <p:spPr>
          <a:xfrm>
            <a:off x="685800" y="4338720"/>
            <a:ext cx="5484960" cy="413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247760" y="866880"/>
            <a:ext cx="4344840" cy="325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393840" y="4114800"/>
            <a:ext cx="6045120" cy="449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5000"/>
              </a:lnSpc>
              <a:spcBef>
                <a:spcPts val="88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(If time permits—discuss)  Notify youth and adults a month in advance, so people know it is coming.  Don’t embarrass anyon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Bef>
                <a:spcPts val="88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Hand out uniform inspection sheets 7-14 days in advance.  Let them know the standards.  Grade by the sheet, boys who have 100% uniform will be rewarded.  If the unit doesn’t expect Scout pants, understand both position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Bef>
                <a:spcPts val="88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Prepare your team before the inspection.  Insure their uniforms are correct, that they will grade the same way, and understand the need for spe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Bef>
                <a:spcPts val="88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Inspect the inspectors first.  This is a show, the real inspection came before.  It lets the boys know we expect the same of inspector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Bef>
                <a:spcPts val="88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1-2 inspectors per den / patrol.  The entire inspection should take no more than 10 minutes, that is about 1 minute per boy in a den / patrol.  With two inspectors, one can record while the other inspect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Bef>
                <a:spcPts val="88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Give an honest grade and move o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Bef>
                <a:spcPts val="88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Don’t sweat the small stuff.  If a boy’s insignia is off 1/2”, don’t worry.  Tell him, perhaps, but don’t dock him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Bef>
                <a:spcPts val="88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Compliment the boys and adults.  Tell them uniforming is important.  Congratulate them on their inspection.  Provide results to leaders later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247760" y="866880"/>
            <a:ext cx="4344840" cy="325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body"/>
          </p:nvPr>
        </p:nvSpPr>
        <p:spPr>
          <a:xfrm>
            <a:off x="393840" y="4190760"/>
            <a:ext cx="6045120" cy="41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Counsel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Counseling is the ability to listen and react in a way that will help others solve their own problem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This section of the </a:t>
            </a:r>
            <a:r>
              <a:rPr b="1" i="1" lang="en-GB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Fieldbook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 is your counselor’s guide.  MCS 306 provides further instruction in commissioner counseling skill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247760" y="866880"/>
            <a:ext cx="4344840" cy="325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685800" y="4338720"/>
            <a:ext cx="5484960" cy="413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36680" y="28080"/>
            <a:ext cx="7346880" cy="163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dddddd"/>
              </a:solidFill>
              <a:latin typeface="FrancineHm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4440" y="1544400"/>
            <a:ext cx="8226360" cy="23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2000"/>
              </a:lnSpc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04440" y="4157280"/>
            <a:ext cx="8226360" cy="23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2000"/>
              </a:lnSpc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36680" y="28080"/>
            <a:ext cx="7346880" cy="163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dddddd"/>
              </a:solidFill>
              <a:latin typeface="FrancineHm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4440" y="1544400"/>
            <a:ext cx="4014360" cy="23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2000"/>
              </a:lnSpc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20040" y="1544400"/>
            <a:ext cx="4014360" cy="23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2000"/>
              </a:lnSpc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4440" y="4157280"/>
            <a:ext cx="4014360" cy="23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2000"/>
              </a:lnSpc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20040" y="4157280"/>
            <a:ext cx="4014360" cy="23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2000"/>
              </a:lnSpc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36680" y="28080"/>
            <a:ext cx="7346880" cy="163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dddddd"/>
              </a:solidFill>
              <a:latin typeface="FrancineHm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4440" y="1544400"/>
            <a:ext cx="2648520" cy="23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2000"/>
              </a:lnSpc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85800" y="1544400"/>
            <a:ext cx="2648520" cy="23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2000"/>
              </a:lnSpc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67160" y="1544400"/>
            <a:ext cx="2648520" cy="23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2000"/>
              </a:lnSpc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04440" y="4157280"/>
            <a:ext cx="2648520" cy="23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2000"/>
              </a:lnSpc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85800" y="4157280"/>
            <a:ext cx="2648520" cy="23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2000"/>
              </a:lnSpc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67160" y="4157280"/>
            <a:ext cx="2648520" cy="23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2000"/>
              </a:lnSpc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36680" y="28080"/>
            <a:ext cx="7346880" cy="163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dddddd"/>
              </a:solidFill>
              <a:latin typeface="FrancineHm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04440" y="1544400"/>
            <a:ext cx="8226360" cy="50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2000"/>
              </a:lnSpc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6680" y="28080"/>
            <a:ext cx="7346880" cy="163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dddddd"/>
              </a:solidFill>
              <a:latin typeface="FrancineHm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04440" y="1544400"/>
            <a:ext cx="8226360" cy="50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2000"/>
              </a:lnSpc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6680" y="28080"/>
            <a:ext cx="7346880" cy="163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dddddd"/>
              </a:solidFill>
              <a:latin typeface="FrancineHm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4440" y="1544400"/>
            <a:ext cx="4014360" cy="50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2000"/>
              </a:lnSpc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20040" y="1544400"/>
            <a:ext cx="4014360" cy="50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2000"/>
              </a:lnSpc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36680" y="28080"/>
            <a:ext cx="7346880" cy="163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dddddd"/>
              </a:solidFill>
              <a:latin typeface="FrancineHm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336680" y="28080"/>
            <a:ext cx="7346880" cy="75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2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6680" y="28080"/>
            <a:ext cx="7346880" cy="163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dddddd"/>
              </a:solidFill>
              <a:latin typeface="FrancineHm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4440" y="1544400"/>
            <a:ext cx="4014360" cy="23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2000"/>
              </a:lnSpc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20040" y="1544400"/>
            <a:ext cx="4014360" cy="50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2000"/>
              </a:lnSpc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04440" y="4157280"/>
            <a:ext cx="4014360" cy="23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2000"/>
              </a:lnSpc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36680" y="28080"/>
            <a:ext cx="7346880" cy="163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dddddd"/>
              </a:solidFill>
              <a:latin typeface="FrancineHm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04440" y="1544400"/>
            <a:ext cx="4014360" cy="50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2000"/>
              </a:lnSpc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20040" y="1544400"/>
            <a:ext cx="4014360" cy="23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2000"/>
              </a:lnSpc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20040" y="4157280"/>
            <a:ext cx="4014360" cy="23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2000"/>
              </a:lnSpc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36680" y="28080"/>
            <a:ext cx="7346880" cy="163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dddddd"/>
              </a:solidFill>
              <a:latin typeface="FrancineHm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4440" y="1544400"/>
            <a:ext cx="4014360" cy="23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2000"/>
              </a:lnSpc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20040" y="1544400"/>
            <a:ext cx="4014360" cy="23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2000"/>
              </a:lnSpc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04440" y="4157280"/>
            <a:ext cx="8226360" cy="23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2000"/>
              </a:lnSpc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6680" y="28080"/>
            <a:ext cx="7346880" cy="163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dddddd"/>
                </a:solidFill>
                <a:latin typeface="FrancineHmk"/>
              </a:rPr>
              <a:t>Click to edit the title text format</a:t>
            </a:r>
            <a:endParaRPr b="0" lang="en-US" sz="4800" spc="-1" strike="noStrike">
              <a:solidFill>
                <a:srgbClr val="dddddd"/>
              </a:solidFill>
              <a:latin typeface="FrancineHm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4440" y="1544400"/>
            <a:ext cx="8226360" cy="50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2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rancineHmk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  <a:p>
            <a:pPr lvl="1" marL="343080" indent="-343080">
              <a:lnSpc>
                <a:spcPct val="112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rancineHmk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  <a:p>
            <a:pPr lvl="2" marL="343080" indent="-343080">
              <a:lnSpc>
                <a:spcPct val="112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rancineHmk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  <a:p>
            <a:pPr lvl="3" marL="343080" indent="-343080">
              <a:lnSpc>
                <a:spcPct val="112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rancineHmk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  <a:p>
            <a:pPr lvl="4" marL="343080" indent="-343080">
              <a:lnSpc>
                <a:spcPct val="112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rancineHmk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  <a:p>
            <a:pPr lvl="5" marL="343080" indent="-343080">
              <a:lnSpc>
                <a:spcPct val="112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rancineHmk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  <a:p>
            <a:pPr lvl="6" marL="343080" indent="-343080">
              <a:lnSpc>
                <a:spcPct val="112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rancineHmk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</p:txBody>
      </p:sp>
      <p:pic>
        <p:nvPicPr>
          <p:cNvPr id="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287360" cy="1311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ct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49440" y="290160"/>
            <a:ext cx="7875360" cy="35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1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7200" spc="-1" strike="noStrike">
                <a:solidFill>
                  <a:srgbClr val="dddddd"/>
                </a:solidFill>
                <a:latin typeface="FrancineHmk"/>
              </a:rPr>
              <a:t>Unit Visitation</a:t>
            </a:r>
            <a:r>
              <a:rPr b="0" lang="en-GB" sz="4400" spc="-1" strike="noStrike">
                <a:solidFill>
                  <a:srgbClr val="dddddd"/>
                </a:solidFill>
                <a:latin typeface="FrancineHmk"/>
              </a:rPr>
              <a:t>                       </a:t>
            </a:r>
            <a:r>
              <a:rPr b="0" i="1" lang="en-GB" sz="4400" spc="-1" strike="noStrike">
                <a:solidFill>
                  <a:srgbClr val="dddddd"/>
                </a:solidFill>
                <a:latin typeface="FrancineHmk"/>
              </a:rPr>
              <a:t>with unit visit tracking</a:t>
            </a:r>
            <a:br>
              <a:rPr sz="8000"/>
            </a:br>
            <a:r>
              <a:rPr b="0" lang="en-GB" sz="4400" spc="-1" strike="noStrike">
                <a:solidFill>
                  <a:srgbClr val="dddddd"/>
                </a:solidFill>
                <a:latin typeface="FrancineHmk"/>
              </a:rPr>
              <a:t>BCS 104 </a:t>
            </a:r>
            <a:endParaRPr b="0" lang="en-US" sz="4400" spc="-1" strike="noStrike">
              <a:solidFill>
                <a:srgbClr val="dddddd"/>
              </a:solidFill>
              <a:latin typeface="FrancineHmk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87360" cy="13111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3935160"/>
            <a:ext cx="8292960" cy="27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901"/>
              </a:spcBef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FrancineHmk"/>
              </a:rPr>
              <a:t>NorCal Commissioner's College</a:t>
            </a:r>
            <a:endParaRPr b="0" lang="en-US" sz="4400" spc="-1" strike="noStrike">
              <a:solidFill>
                <a:srgbClr val="ffffff"/>
              </a:solidFill>
              <a:latin typeface="FrancineHmk"/>
            </a:endParaRPr>
          </a:p>
          <a:p>
            <a:pPr algn="ctr">
              <a:lnSpc>
                <a:spcPct val="125000"/>
              </a:lnSpc>
              <a:spcBef>
                <a:spcPts val="901"/>
              </a:spcBef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FrancineHmk"/>
              </a:rPr>
              <a:t>Edited by Bruce Mayfield</a:t>
            </a:r>
            <a:endParaRPr b="0" lang="en-US" sz="2800" spc="-1" strike="noStrike">
              <a:solidFill>
                <a:srgbClr val="ffffff"/>
              </a:solidFill>
              <a:latin typeface="FrancineHmk"/>
            </a:endParaRPr>
          </a:p>
          <a:p>
            <a:pPr algn="ctr">
              <a:lnSpc>
                <a:spcPct val="125000"/>
              </a:lnSpc>
              <a:spcBef>
                <a:spcPts val="901"/>
              </a:spcBef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FrancineHmk"/>
              </a:rPr>
              <a:t>Redwood Empire Council</a:t>
            </a: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98400" y="550800"/>
            <a:ext cx="8191440" cy="12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dddddd"/>
                </a:solidFill>
                <a:latin typeface="FrancineHmk"/>
              </a:rPr>
              <a:t>“</a:t>
            </a:r>
            <a:r>
              <a:rPr b="0" lang="en-US" sz="4800" spc="-1" strike="noStrike">
                <a:solidFill>
                  <a:srgbClr val="dddddd"/>
                </a:solidFill>
                <a:latin typeface="FrancineHmk"/>
              </a:rPr>
              <a:t>myscouting” login</a:t>
            </a:r>
            <a:endParaRPr b="0" lang="en-US" sz="4800" spc="-1" strike="noStrike">
              <a:solidFill>
                <a:srgbClr val="dddddd"/>
              </a:solidFill>
              <a:latin typeface="FrancineHm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38360" y="2274840"/>
            <a:ext cx="7943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2000"/>
              </a:lnSpc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762120" y="1689120"/>
            <a:ext cx="7772400" cy="4940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36680" y="28080"/>
            <a:ext cx="7346880" cy="163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dddddd"/>
                </a:solidFill>
                <a:latin typeface="FrancineHmk"/>
              </a:rPr>
              <a:t>Creating user name </a:t>
            </a:r>
            <a:endParaRPr b="0" lang="en-US" sz="4800" spc="-1" strike="noStrike">
              <a:solidFill>
                <a:srgbClr val="dddddd"/>
              </a:solidFill>
              <a:latin typeface="FrancineHm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04440" y="1544400"/>
            <a:ext cx="8226360" cy="50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2000"/>
              </a:lnSpc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609480" y="1600200"/>
            <a:ext cx="807732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36680" y="28080"/>
            <a:ext cx="7346880" cy="163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dddddd"/>
                </a:solidFill>
                <a:latin typeface="FrancineHmk"/>
              </a:rPr>
              <a:t>Before you go on line to report…</a:t>
            </a:r>
            <a:endParaRPr b="0" lang="en-US" sz="3600" spc="-1" strike="noStrike">
              <a:solidFill>
                <a:srgbClr val="dddddd"/>
              </a:solidFill>
              <a:latin typeface="FrancineHm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4440" y="1544400"/>
            <a:ext cx="8226360" cy="50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FrancineHmk"/>
              </a:rPr>
              <a:t>Units must be assigned to you by DC</a:t>
            </a:r>
            <a:endParaRPr b="0" lang="en-US" sz="2800" spc="-1" strike="noStrike">
              <a:solidFill>
                <a:srgbClr val="ffffff"/>
              </a:solidFill>
              <a:latin typeface="FrancineHmk"/>
            </a:endParaRPr>
          </a:p>
          <a:p>
            <a:pPr marL="3326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FrancineHmk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FrancineHmk"/>
              </a:rPr>
              <a:t>DC must turn in to registrar in scout office</a:t>
            </a:r>
            <a:endParaRPr b="0" lang="en-US" sz="2800" spc="-1" strike="noStrike">
              <a:solidFill>
                <a:srgbClr val="ffffff"/>
              </a:solidFill>
              <a:latin typeface="FrancineHmk"/>
            </a:endParaRPr>
          </a:p>
          <a:p>
            <a:pPr marL="3326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FrancineHmk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FrancineHmk"/>
              </a:rPr>
              <a:t>Registrar must verify commissioner(s) are currently registered. If not register them!</a:t>
            </a:r>
            <a:endParaRPr b="0" lang="en-US" sz="2800" spc="-1" strike="noStrike">
              <a:solidFill>
                <a:srgbClr val="ffffff"/>
              </a:solidFill>
              <a:latin typeface="FrancineHmk"/>
            </a:endParaRPr>
          </a:p>
          <a:p>
            <a:pPr marL="3326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FrancineHmk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FrancineHmk"/>
              </a:rPr>
              <a:t>Registrar must assign via Scoutnet the units the Commissioner has been assigned</a:t>
            </a:r>
            <a:endParaRPr b="0" lang="en-US" sz="2800" spc="-1" strike="noStrike">
              <a:solidFill>
                <a:srgbClr val="ffffff"/>
              </a:solidFill>
              <a:latin typeface="FrancineHmk"/>
            </a:endParaRPr>
          </a:p>
          <a:p>
            <a:pPr marL="3326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FrancineHmk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FrancineHmk"/>
              </a:rPr>
              <a:t>If you don’t follow the above…system won’t work</a:t>
            </a:r>
            <a:endParaRPr b="0" lang="en-US" sz="2800" spc="-1" strike="noStrike">
              <a:solidFill>
                <a:srgbClr val="ffffff"/>
              </a:solidFill>
              <a:latin typeface="FrancineHmk"/>
            </a:endParaRPr>
          </a:p>
          <a:p>
            <a:pPr marL="332640" indent="0">
              <a:lnSpc>
                <a:spcPct val="102000"/>
              </a:lnSpc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FrancineHm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36680" y="28080"/>
            <a:ext cx="7346880" cy="163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dddddd"/>
                </a:solidFill>
                <a:latin typeface="FrancineHmk"/>
              </a:rPr>
              <a:t>Home Page</a:t>
            </a:r>
            <a:endParaRPr b="0" lang="en-US" sz="4800" spc="-1" strike="noStrike">
              <a:solidFill>
                <a:srgbClr val="dddddd"/>
              </a:solidFill>
              <a:latin typeface="FrancineHm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4440" y="1544400"/>
            <a:ext cx="8226360" cy="50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2000"/>
              </a:lnSpc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609480" y="1600200"/>
            <a:ext cx="81280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336680" y="28080"/>
            <a:ext cx="7346880" cy="163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dddddd"/>
                </a:solidFill>
                <a:latin typeface="FrancineHmk"/>
              </a:rPr>
              <a:t>Watch UVTS Video</a:t>
            </a:r>
            <a:endParaRPr b="0" lang="en-US" sz="4800" spc="-1" strike="noStrike">
              <a:solidFill>
                <a:srgbClr val="dddddd"/>
              </a:solidFill>
              <a:latin typeface="FrancineHm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4440" y="1544400"/>
            <a:ext cx="8226360" cy="50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2000"/>
              </a:lnSpc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457200" y="1447920"/>
            <a:ext cx="838188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336680" y="28080"/>
            <a:ext cx="7346880" cy="163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dddddd"/>
                </a:solidFill>
                <a:latin typeface="FrancineHmk"/>
              </a:rPr>
              <a:t>Click Add Visit to see…</a:t>
            </a:r>
            <a:endParaRPr b="0" lang="en-US" sz="4800" spc="-1" strike="noStrike">
              <a:solidFill>
                <a:srgbClr val="dddddd"/>
              </a:solidFill>
              <a:latin typeface="FrancineHm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4440" y="1544400"/>
            <a:ext cx="8226360" cy="50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2000"/>
              </a:lnSpc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57200" y="1638360"/>
            <a:ext cx="8280360" cy="50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36680" y="28080"/>
            <a:ext cx="7346880" cy="163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0" spc="-1" strike="noStrike">
                <a:solidFill>
                  <a:srgbClr val="dddddd"/>
                </a:solidFill>
                <a:latin typeface="FrancineHmk"/>
              </a:rPr>
              <a:t>Three Steps                     to record your visit</a:t>
            </a:r>
            <a:endParaRPr b="0" lang="en-US" sz="6000" spc="-1" strike="noStrike">
              <a:solidFill>
                <a:srgbClr val="dddddd"/>
              </a:solidFill>
              <a:latin typeface="FrancineHm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04440" y="1544400"/>
            <a:ext cx="8226360" cy="50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FrancineHmk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FrancineHmk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FrancineHmk"/>
              </a:rPr>
              <a:t>1. Record the visit….                                    ….who, what, when and why </a:t>
            </a:r>
            <a:endParaRPr b="0" lang="en-US" sz="2800" spc="-1" strike="noStrike">
              <a:solidFill>
                <a:srgbClr val="ffffff"/>
              </a:solidFill>
              <a:latin typeface="FrancineHmk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FrancineHmk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FrancineHmk"/>
              </a:rPr>
              <a:t>2. Quality indicators…Planning, Program, Leadership, Tone &amp; Attendance</a:t>
            </a:r>
            <a:endParaRPr b="0" lang="en-US" sz="2800" spc="-1" strike="noStrike">
              <a:solidFill>
                <a:srgbClr val="ffffff"/>
              </a:solidFill>
              <a:latin typeface="FrancineHmk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FrancineHmk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FrancineHmk"/>
              </a:rPr>
              <a:t>3. Comments….   Optional, but very helpful to gain insite as to what is going on…or not</a:t>
            </a:r>
            <a:endParaRPr b="0" lang="en-US" sz="2800" spc="-1" strike="noStrike">
              <a:solidFill>
                <a:srgbClr val="ffffff"/>
              </a:solidFill>
              <a:latin typeface="FrancineHmk"/>
            </a:endParaRPr>
          </a:p>
          <a:p>
            <a:pPr marL="343080" indent="0">
              <a:lnSpc>
                <a:spcPct val="102000"/>
              </a:lnSpc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FrancineHm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36680" y="28080"/>
            <a:ext cx="7346880" cy="163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dddddd"/>
                </a:solidFill>
                <a:latin typeface="FrancineHmk"/>
              </a:rPr>
              <a:t>Visits reporting page</a:t>
            </a:r>
            <a:endParaRPr b="0" lang="en-US" sz="4800" spc="-1" strike="noStrike">
              <a:solidFill>
                <a:srgbClr val="dddddd"/>
              </a:solidFill>
              <a:latin typeface="FrancineHm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4440" y="1544400"/>
            <a:ext cx="8226360" cy="50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2000"/>
              </a:lnSpc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609480" y="1600200"/>
            <a:ext cx="828216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36680" y="28080"/>
            <a:ext cx="7346880" cy="163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dddddd"/>
                </a:solidFill>
                <a:latin typeface="FrancineHmk"/>
              </a:rPr>
              <a:t>Who can see &amp; do what?</a:t>
            </a:r>
            <a:endParaRPr b="0" lang="en-US" sz="4800" spc="-1" strike="noStrike">
              <a:solidFill>
                <a:srgbClr val="dddddd"/>
              </a:solidFill>
              <a:latin typeface="FrancineHm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4440" y="1544400"/>
            <a:ext cx="8226360" cy="50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ff0000"/>
              </a:buClr>
              <a:buFont typeface="Monotype Sort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FrancineHmk"/>
              </a:rPr>
              <a:t>UC’s see assigned units ONLY and can make a reports of any unit event.</a:t>
            </a:r>
            <a:endParaRPr b="0" lang="en-US" sz="3200" spc="-1" strike="noStrike">
              <a:solidFill>
                <a:srgbClr val="ffffff"/>
              </a:solidFill>
              <a:latin typeface="FrancineHmk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FrancineHmk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ff0000"/>
              </a:buClr>
              <a:buFont typeface="Monotype Sort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FrancineHmk"/>
              </a:rPr>
              <a:t>DC’s see their District ONLY and cannot make a report for their UC’s…unless….</a:t>
            </a:r>
            <a:endParaRPr b="0" lang="en-US" sz="3200" spc="-1" strike="noStrike">
              <a:solidFill>
                <a:srgbClr val="ffffff"/>
              </a:solidFill>
              <a:latin typeface="FrancineHmk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FrancineHmk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ff0000"/>
              </a:buClr>
              <a:buFont typeface="Monotype Sort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FrancineHmk"/>
              </a:rPr>
              <a:t>CC’s see their Council ONLY and cannot make a report for their UC’s/DC’s</a:t>
            </a:r>
            <a:endParaRPr b="0" lang="en-US" sz="3200" spc="-1" strike="noStrike">
              <a:solidFill>
                <a:srgbClr val="ffffff"/>
              </a:solidFill>
              <a:latin typeface="FrancineHmk"/>
            </a:endParaRPr>
          </a:p>
          <a:p>
            <a:pPr marL="343080" indent="0">
              <a:lnSpc>
                <a:spcPct val="112000"/>
              </a:lnSpc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FrancineHm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98400" y="418680"/>
            <a:ext cx="81914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dddddd"/>
                </a:solidFill>
                <a:latin typeface="FrancineHmk"/>
              </a:rPr>
              <a:t>Odds and Ends</a:t>
            </a:r>
            <a:endParaRPr b="0" lang="en-US" sz="4800" spc="-1" strike="noStrike">
              <a:solidFill>
                <a:srgbClr val="dddddd"/>
              </a:solidFill>
              <a:latin typeface="FrancineHm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76240" y="1809720"/>
            <a:ext cx="794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06000" indent="-30600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FrancineHmk"/>
              </a:rPr>
              <a:t>Brainstorm ways to help your units</a:t>
            </a:r>
            <a:endParaRPr b="0" lang="en-US" sz="3200" spc="-1" strike="noStrike">
              <a:solidFill>
                <a:srgbClr val="ffffff"/>
              </a:solidFill>
              <a:latin typeface="FrancineHmk"/>
            </a:endParaRPr>
          </a:p>
          <a:p>
            <a:pPr marL="306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FrancineHmk"/>
            </a:endParaRPr>
          </a:p>
          <a:p>
            <a:pPr marL="306000" indent="-30600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FrancineHmk"/>
              </a:rPr>
              <a:t>Prioritize your units</a:t>
            </a:r>
            <a:endParaRPr b="0" lang="en-US" sz="3200" spc="-1" strike="noStrike">
              <a:solidFill>
                <a:srgbClr val="ffffff"/>
              </a:solidFill>
              <a:latin typeface="FrancineHmk"/>
            </a:endParaRPr>
          </a:p>
          <a:p>
            <a:pPr marL="306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FrancineHmk"/>
            </a:endParaRPr>
          </a:p>
          <a:p>
            <a:pPr marL="306000" indent="-30600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FrancineHmk"/>
              </a:rPr>
              <a:t>Keep a positive attitude</a:t>
            </a:r>
            <a:endParaRPr b="0" lang="en-US" sz="3200" spc="-1" strike="noStrike">
              <a:solidFill>
                <a:srgbClr val="ffffff"/>
              </a:solidFill>
              <a:latin typeface="FrancineHmk"/>
            </a:endParaRPr>
          </a:p>
          <a:p>
            <a:pPr marL="306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FrancineHmk"/>
            </a:endParaRPr>
          </a:p>
          <a:p>
            <a:pPr marL="306000" indent="-30600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FrancineHmk"/>
              </a:rPr>
              <a:t>Report to ADC / DC / DE</a:t>
            </a:r>
            <a:endParaRPr b="0" lang="en-US" sz="3200" spc="-1" strike="noStrike">
              <a:solidFill>
                <a:srgbClr val="ffffff"/>
              </a:solidFill>
              <a:latin typeface="FrancineHmk"/>
            </a:endParaRPr>
          </a:p>
          <a:p>
            <a:pPr marL="306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FrancineHmk"/>
            </a:endParaRPr>
          </a:p>
          <a:p>
            <a:pPr marL="306000" indent="-30600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FrancineHmk"/>
              </a:rPr>
              <a:t>Use &amp; Report Unit Visit Tracking on line!!</a:t>
            </a:r>
            <a:endParaRPr b="0" lang="en-US" sz="3200" spc="-1" strike="noStrike">
              <a:solidFill>
                <a:srgbClr val="ffffff"/>
              </a:solidFill>
              <a:latin typeface="FrancineHmk"/>
            </a:endParaRPr>
          </a:p>
          <a:p>
            <a:pPr marL="306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FrancineHm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1760" y="180720"/>
            <a:ext cx="81914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dddddd"/>
                </a:solidFill>
                <a:latin typeface="FrancineHmk"/>
              </a:rPr>
              <a:t>Types of Visits</a:t>
            </a:r>
            <a:endParaRPr b="0" lang="en-US" sz="4800" spc="-1" strike="noStrike">
              <a:solidFill>
                <a:srgbClr val="dddddd"/>
              </a:solidFill>
              <a:latin typeface="FrancineHm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66800" y="1325520"/>
            <a:ext cx="794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rancineHmk"/>
              </a:rPr>
              <a:t>Unit meetings</a:t>
            </a: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  <a:p>
            <a:pPr marL="336600" indent="-33660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rancineHmk"/>
              </a:rPr>
              <a:t>Unit committee meetings</a:t>
            </a: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  <a:p>
            <a:pPr marL="336600" indent="-33660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rancineHmk"/>
              </a:rPr>
              <a:t>Individual get-together with unit leader</a:t>
            </a: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  <a:p>
            <a:pPr marL="336600" indent="-33660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rancineHmk"/>
              </a:rPr>
              <a:t>Visit with other unit adults</a:t>
            </a: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  <a:p>
            <a:pPr marL="336600" indent="-33660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rancineHmk"/>
              </a:rPr>
              <a:t>Effective phone contacts</a:t>
            </a: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2816280" y="5145120"/>
            <a:ext cx="4013280" cy="1627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8400" y="171000"/>
            <a:ext cx="81914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dddddd"/>
                </a:solidFill>
                <a:latin typeface="FrancineHmk"/>
              </a:rPr>
              <a:t>Before You Go</a:t>
            </a:r>
            <a:endParaRPr b="0" lang="en-US" sz="4800" spc="-1" strike="noStrike">
              <a:solidFill>
                <a:srgbClr val="dddddd"/>
              </a:solidFill>
              <a:latin typeface="FrancineHm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75880" y="1383840"/>
            <a:ext cx="8210520" cy="52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cineHmk"/>
              </a:rPr>
              <a:t>Friend of the unit</a:t>
            </a:r>
            <a:endParaRPr b="0" lang="en-US" sz="3200" spc="-1" strike="noStrike">
              <a:solidFill>
                <a:srgbClr val="ffffff"/>
              </a:solidFill>
              <a:latin typeface="FrancineHmk"/>
            </a:endParaRPr>
          </a:p>
          <a:p>
            <a:pPr marL="3366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FrancineHmk"/>
            </a:endParaRPr>
          </a:p>
          <a:p>
            <a:pPr marL="336600" indent="-33660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cineHmk"/>
              </a:rPr>
              <a:t>How can you help the unit?</a:t>
            </a:r>
            <a:endParaRPr b="0" lang="en-US" sz="3200" spc="-1" strike="noStrike">
              <a:solidFill>
                <a:srgbClr val="ffffff"/>
              </a:solidFill>
              <a:latin typeface="FrancineHmk"/>
            </a:endParaRPr>
          </a:p>
          <a:p>
            <a:pPr lvl="1" marL="793800" indent="-336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rancineHmk"/>
              </a:rPr>
              <a:t>Know what is best for unit success</a:t>
            </a:r>
            <a:endParaRPr b="0" lang="en-US" sz="2400" spc="-1" strike="noStrike">
              <a:solidFill>
                <a:srgbClr val="ffffff"/>
              </a:solidFill>
              <a:latin typeface="FrancineHmk"/>
            </a:endParaRPr>
          </a:p>
          <a:p>
            <a:pPr lvl="1" marL="793800" indent="-336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rancineHmk"/>
              </a:rPr>
              <a:t>Strengthen unit adult roles</a:t>
            </a:r>
            <a:endParaRPr b="0" lang="en-US" sz="2400" spc="-1" strike="noStrike">
              <a:solidFill>
                <a:srgbClr val="ffffff"/>
              </a:solidFill>
              <a:latin typeface="FrancineHmk"/>
            </a:endParaRPr>
          </a:p>
          <a:p>
            <a:pPr lvl="1" marL="793800" indent="-336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rancineHmk"/>
              </a:rPr>
              <a:t>Commissioner is in the background</a:t>
            </a:r>
            <a:endParaRPr b="0" lang="en-US" sz="2400" spc="-1" strike="noStrike">
              <a:solidFill>
                <a:srgbClr val="ffffff"/>
              </a:solidFill>
              <a:latin typeface="FrancineHmk"/>
            </a:endParaRPr>
          </a:p>
          <a:p>
            <a:pPr lvl="1" marL="793800" indent="-336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rancineHmk"/>
              </a:rPr>
              <a:t>Be helpful, not critical</a:t>
            </a:r>
            <a:endParaRPr b="0" lang="en-US" sz="2400" spc="-1" strike="noStrike">
              <a:solidFill>
                <a:srgbClr val="ffffff"/>
              </a:solidFill>
              <a:latin typeface="FrancineHmk"/>
            </a:endParaRPr>
          </a:p>
          <a:p>
            <a:pPr lvl="1" marL="793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ffffff"/>
              </a:solidFill>
              <a:latin typeface="FrancineHmk"/>
            </a:endParaRPr>
          </a:p>
          <a:p>
            <a:pPr marL="336600" indent="-33660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cineHmk"/>
              </a:rPr>
              <a:t>Better to call first</a:t>
            </a:r>
            <a:endParaRPr b="0" lang="en-US" sz="3200" spc="-1" strike="noStrike">
              <a:solidFill>
                <a:srgbClr val="ffffff"/>
              </a:solidFill>
              <a:latin typeface="FrancineHmk"/>
            </a:endParaRPr>
          </a:p>
          <a:p>
            <a:pPr marL="3366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ffffff"/>
              </a:solidFill>
              <a:latin typeface="FrancineHmk"/>
            </a:endParaRPr>
          </a:p>
          <a:p>
            <a:pPr marL="336600" indent="-33660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cineHmk"/>
              </a:rPr>
              <a:t>Do your homework…what is units rep?</a:t>
            </a:r>
            <a:endParaRPr b="0" lang="en-US" sz="3200" spc="-1" strike="noStrike">
              <a:solidFill>
                <a:srgbClr val="ffffff"/>
              </a:solidFill>
              <a:latin typeface="FrancineHm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98400" y="112320"/>
            <a:ext cx="81914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dddddd"/>
                </a:solidFill>
                <a:latin typeface="FrancineHmk"/>
              </a:rPr>
              <a:t>During the Visit</a:t>
            </a:r>
            <a:endParaRPr b="0" lang="en-US" sz="4800" spc="-1" strike="noStrike">
              <a:solidFill>
                <a:srgbClr val="dddddd"/>
              </a:solidFill>
              <a:latin typeface="FrancineHm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80600" y="1592280"/>
            <a:ext cx="7456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89440" indent="-289440">
              <a:lnSpc>
                <a:spcPct val="130000"/>
              </a:lnSpc>
              <a:spcBef>
                <a:spcPts val="34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FrancineHmk"/>
              </a:rPr>
              <a:t>Watch and listen</a:t>
            </a:r>
            <a:endParaRPr b="0" lang="en-US" sz="2400" spc="-1" strike="noStrike">
              <a:solidFill>
                <a:srgbClr val="ffffff"/>
              </a:solidFill>
              <a:latin typeface="FrancineHmk"/>
            </a:endParaRPr>
          </a:p>
          <a:p>
            <a:pPr marL="289440" indent="-289440">
              <a:lnSpc>
                <a:spcPct val="130000"/>
              </a:lnSpc>
              <a:spcBef>
                <a:spcPts val="34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FrancineHmk"/>
              </a:rPr>
              <a:t>Do not disrupt the meeting</a:t>
            </a:r>
            <a:endParaRPr b="0" lang="en-US" sz="2400" spc="-1" strike="noStrike">
              <a:solidFill>
                <a:srgbClr val="ffffff"/>
              </a:solidFill>
              <a:latin typeface="FrancineHmk"/>
            </a:endParaRPr>
          </a:p>
          <a:p>
            <a:pPr marL="289440" indent="-289440">
              <a:lnSpc>
                <a:spcPct val="130000"/>
              </a:lnSpc>
              <a:spcBef>
                <a:spcPts val="34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FrancineHmk"/>
              </a:rPr>
              <a:t>Stay long enough</a:t>
            </a:r>
            <a:endParaRPr b="0" lang="en-US" sz="2400" spc="-1" strike="noStrike">
              <a:solidFill>
                <a:srgbClr val="ffffff"/>
              </a:solidFill>
              <a:latin typeface="FrancineHmk"/>
            </a:endParaRPr>
          </a:p>
          <a:p>
            <a:pPr marL="289440" indent="-289440">
              <a:lnSpc>
                <a:spcPct val="130000"/>
              </a:lnSpc>
              <a:spcBef>
                <a:spcPts val="34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FrancineHmk"/>
              </a:rPr>
              <a:t>Don’t take notes</a:t>
            </a:r>
            <a:endParaRPr b="0" lang="en-US" sz="2400" spc="-1" strike="noStrike">
              <a:solidFill>
                <a:srgbClr val="ffffff"/>
              </a:solidFill>
              <a:latin typeface="FrancineHmk"/>
            </a:endParaRPr>
          </a:p>
          <a:p>
            <a:pPr marL="289440" indent="-289440">
              <a:lnSpc>
                <a:spcPct val="130000"/>
              </a:lnSpc>
              <a:spcBef>
                <a:spcPts val="34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FrancineHmk"/>
              </a:rPr>
              <a:t>Chat with other adults on the sideline</a:t>
            </a:r>
            <a:endParaRPr b="0" lang="en-US" sz="2400" spc="-1" strike="noStrike">
              <a:solidFill>
                <a:srgbClr val="ffffff"/>
              </a:solidFill>
              <a:latin typeface="FrancineHmk"/>
            </a:endParaRPr>
          </a:p>
          <a:p>
            <a:pPr marL="289440" indent="-289440">
              <a:lnSpc>
                <a:spcPct val="130000"/>
              </a:lnSpc>
              <a:spcBef>
                <a:spcPts val="34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FrancineHmk"/>
              </a:rPr>
              <a:t>Get to know the boys</a:t>
            </a:r>
            <a:endParaRPr b="0" lang="en-US" sz="2400" spc="-1" strike="noStrike">
              <a:solidFill>
                <a:srgbClr val="ffffff"/>
              </a:solidFill>
              <a:latin typeface="FrancineHmk"/>
            </a:endParaRPr>
          </a:p>
          <a:p>
            <a:pPr marL="289440" indent="-289440">
              <a:lnSpc>
                <a:spcPct val="130000"/>
              </a:lnSpc>
              <a:spcBef>
                <a:spcPts val="34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FrancineHmk"/>
              </a:rPr>
              <a:t>Don’t distract the leader</a:t>
            </a:r>
            <a:endParaRPr b="0" lang="en-US" sz="2400" spc="-1" strike="noStrike">
              <a:solidFill>
                <a:srgbClr val="ffffff"/>
              </a:solidFill>
              <a:latin typeface="FrancineHmk"/>
            </a:endParaRPr>
          </a:p>
          <a:p>
            <a:pPr marL="289440" indent="-289440">
              <a:lnSpc>
                <a:spcPct val="130000"/>
              </a:lnSpc>
              <a:spcBef>
                <a:spcPts val="34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FrancineHmk"/>
              </a:rPr>
              <a:t>Give a chance to mention problems</a:t>
            </a:r>
            <a:endParaRPr b="0" lang="en-US" sz="2400" spc="-1" strike="noStrike">
              <a:solidFill>
                <a:srgbClr val="ffffff"/>
              </a:solidFill>
              <a:latin typeface="FrancineHmk"/>
            </a:endParaRPr>
          </a:p>
          <a:p>
            <a:pPr marL="289440" indent="-289440">
              <a:lnSpc>
                <a:spcPct val="130000"/>
              </a:lnSpc>
              <a:spcBef>
                <a:spcPts val="34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FrancineHmk"/>
              </a:rPr>
              <a:t>Take some information &amp; “freebies”</a:t>
            </a:r>
            <a:endParaRPr b="0" lang="en-US" sz="2400" spc="-1" strike="noStrike">
              <a:solidFill>
                <a:srgbClr val="ffffff"/>
              </a:solidFill>
              <a:latin typeface="FrancineHm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8400" y="418680"/>
            <a:ext cx="81914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dddddd"/>
                </a:solidFill>
                <a:latin typeface="FrancineHmk"/>
              </a:rPr>
              <a:t>After the Visit</a:t>
            </a:r>
            <a:endParaRPr b="0" lang="en-US" sz="4800" spc="-1" strike="noStrike">
              <a:solidFill>
                <a:srgbClr val="dddddd"/>
              </a:solidFill>
              <a:latin typeface="FrancineHm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76240" y="1809720"/>
            <a:ext cx="794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11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rancineHmk"/>
              </a:rPr>
              <a:t>After — Bring your records up to date</a:t>
            </a: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  <a:p>
            <a:pPr marL="336600" indent="-336600">
              <a:lnSpc>
                <a:spcPct val="11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rancineHmk"/>
              </a:rPr>
              <a:t>Determine priority needs</a:t>
            </a: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  <a:p>
            <a:pPr marL="336600" indent="-336600">
              <a:lnSpc>
                <a:spcPct val="11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rancineHmk"/>
              </a:rPr>
              <a:t>How can you be most helpful?</a:t>
            </a: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  <a:p>
            <a:pPr marL="336600" indent="-336600">
              <a:lnSpc>
                <a:spcPct val="11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rancineHmk"/>
              </a:rPr>
              <a:t>Discuss special needs with ADC / DC / DE</a:t>
            </a: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98400" y="418680"/>
            <a:ext cx="81914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dddddd"/>
                </a:solidFill>
                <a:latin typeface="FrancineHmk"/>
              </a:rPr>
              <a:t>Worksheets</a:t>
            </a:r>
            <a:endParaRPr b="0" lang="en-US" sz="4800" spc="-1" strike="noStrike">
              <a:solidFill>
                <a:srgbClr val="dddddd"/>
              </a:solidFill>
              <a:latin typeface="FrancineHm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76240" y="1809360"/>
            <a:ext cx="7943760" cy="43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2000"/>
              </a:lnSpc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468360" y="1825560"/>
            <a:ext cx="8055000" cy="481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98400" y="418680"/>
            <a:ext cx="81914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dddddd"/>
                </a:solidFill>
                <a:latin typeface="FrancineHmk"/>
              </a:rPr>
              <a:t>Uniform Inspections</a:t>
            </a:r>
            <a:endParaRPr b="0" lang="en-US" sz="4800" spc="-1" strike="noStrike">
              <a:solidFill>
                <a:srgbClr val="dddddd"/>
              </a:solidFill>
              <a:latin typeface="FrancineHm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00040" y="1751040"/>
            <a:ext cx="794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16080" indent="-316080">
              <a:lnSpc>
                <a:spcPct val="100000"/>
              </a:lnSpc>
              <a:spcBef>
                <a:spcPts val="34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ancineHmk"/>
              </a:rPr>
              <a:t>Make sure this is a welcome activity</a:t>
            </a:r>
            <a:endParaRPr b="0" lang="en-US" sz="2800" spc="-1" strike="noStrike">
              <a:solidFill>
                <a:srgbClr val="ffffff"/>
              </a:solidFill>
              <a:latin typeface="FrancineHmk"/>
            </a:endParaRPr>
          </a:p>
          <a:p>
            <a:pPr marL="316080" indent="-316080">
              <a:lnSpc>
                <a:spcPct val="100000"/>
              </a:lnSpc>
              <a:spcBef>
                <a:spcPts val="34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ancineHmk"/>
              </a:rPr>
              <a:t>Notify youth and adults in advance</a:t>
            </a:r>
            <a:endParaRPr b="0" lang="en-US" sz="2800" spc="-1" strike="noStrike">
              <a:solidFill>
                <a:srgbClr val="ffffff"/>
              </a:solidFill>
              <a:latin typeface="FrancineHmk"/>
            </a:endParaRPr>
          </a:p>
          <a:p>
            <a:pPr marL="316080" indent="-316080">
              <a:lnSpc>
                <a:spcPct val="100000"/>
              </a:lnSpc>
              <a:spcBef>
                <a:spcPts val="34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ancineHmk"/>
              </a:rPr>
              <a:t>Hand out uniform inspection sheets in advance</a:t>
            </a:r>
            <a:endParaRPr b="0" lang="en-US" sz="2800" spc="-1" strike="noStrike">
              <a:solidFill>
                <a:srgbClr val="ffffff"/>
              </a:solidFill>
              <a:latin typeface="FrancineHmk"/>
            </a:endParaRPr>
          </a:p>
          <a:p>
            <a:pPr marL="316080" indent="-316080">
              <a:lnSpc>
                <a:spcPct val="100000"/>
              </a:lnSpc>
              <a:spcBef>
                <a:spcPts val="34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ancineHmk"/>
              </a:rPr>
              <a:t>Prepare your team before the inspection</a:t>
            </a:r>
            <a:endParaRPr b="0" lang="en-US" sz="2800" spc="-1" strike="noStrike">
              <a:solidFill>
                <a:srgbClr val="ffffff"/>
              </a:solidFill>
              <a:latin typeface="FrancineHmk"/>
            </a:endParaRPr>
          </a:p>
          <a:p>
            <a:pPr marL="316080" indent="-316080">
              <a:lnSpc>
                <a:spcPct val="100000"/>
              </a:lnSpc>
              <a:spcBef>
                <a:spcPts val="34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ancineHmk"/>
              </a:rPr>
              <a:t>Inspect the inspectors first</a:t>
            </a:r>
            <a:endParaRPr b="0" lang="en-US" sz="2800" spc="-1" strike="noStrike">
              <a:solidFill>
                <a:srgbClr val="ffffff"/>
              </a:solidFill>
              <a:latin typeface="FrancineHmk"/>
            </a:endParaRPr>
          </a:p>
          <a:p>
            <a:pPr marL="316080" indent="-316080">
              <a:lnSpc>
                <a:spcPct val="100000"/>
              </a:lnSpc>
              <a:spcBef>
                <a:spcPts val="34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ancineHmk"/>
              </a:rPr>
              <a:t>1-2 inspectors per den / patrol</a:t>
            </a:r>
            <a:endParaRPr b="0" lang="en-US" sz="2800" spc="-1" strike="noStrike">
              <a:solidFill>
                <a:srgbClr val="ffffff"/>
              </a:solidFill>
              <a:latin typeface="FrancineHmk"/>
            </a:endParaRPr>
          </a:p>
          <a:p>
            <a:pPr marL="316080" indent="-316080">
              <a:lnSpc>
                <a:spcPct val="100000"/>
              </a:lnSpc>
              <a:spcBef>
                <a:spcPts val="34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ancineHmk"/>
              </a:rPr>
              <a:t>Give an honest grade, move on</a:t>
            </a:r>
            <a:endParaRPr b="0" lang="en-US" sz="2800" spc="-1" strike="noStrike">
              <a:solidFill>
                <a:srgbClr val="ffffff"/>
              </a:solidFill>
              <a:latin typeface="FrancineHmk"/>
            </a:endParaRPr>
          </a:p>
          <a:p>
            <a:pPr marL="316080" indent="-316080">
              <a:lnSpc>
                <a:spcPct val="100000"/>
              </a:lnSpc>
              <a:spcBef>
                <a:spcPts val="34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ancineHmk"/>
              </a:rPr>
              <a:t>Don’t sweat the small stuff</a:t>
            </a:r>
            <a:endParaRPr b="0" lang="en-US" sz="2800" spc="-1" strike="noStrike">
              <a:solidFill>
                <a:srgbClr val="ffffff"/>
              </a:solidFill>
              <a:latin typeface="FrancineHmk"/>
            </a:endParaRPr>
          </a:p>
          <a:p>
            <a:pPr marL="316080" indent="-316080">
              <a:lnSpc>
                <a:spcPct val="100000"/>
              </a:lnSpc>
              <a:spcBef>
                <a:spcPts val="34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ancineHmk"/>
              </a:rPr>
              <a:t>Compliment the boys and adults</a:t>
            </a:r>
            <a:endParaRPr b="0" lang="en-US" sz="2800" spc="-1" strike="noStrike">
              <a:solidFill>
                <a:srgbClr val="ffffff"/>
              </a:solidFill>
              <a:latin typeface="FrancineHmk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6553080" y="4114800"/>
            <a:ext cx="2457720" cy="206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98400" y="171000"/>
            <a:ext cx="81914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800" spc="-1" strike="noStrike">
                <a:solidFill>
                  <a:srgbClr val="dddddd"/>
                </a:solidFill>
                <a:latin typeface="FrancineHmk"/>
              </a:rPr>
              <a:t>Counseling</a:t>
            </a:r>
            <a:endParaRPr b="0" lang="en-US" sz="4800" spc="-1" strike="noStrike">
              <a:solidFill>
                <a:srgbClr val="dddddd"/>
              </a:solidFill>
              <a:latin typeface="FrancineHm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76240" y="1384200"/>
            <a:ext cx="794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rancineHmk"/>
              </a:rPr>
              <a:t>“</a:t>
            </a:r>
            <a:r>
              <a:rPr b="0" lang="en-US" sz="3600" spc="-1" strike="noStrike">
                <a:solidFill>
                  <a:srgbClr val="ffffff"/>
                </a:solidFill>
                <a:latin typeface="FrancineHmk"/>
              </a:rPr>
              <a:t>Ability to listen and react in a way that will help others solve their own problems”</a:t>
            </a: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  <a:p>
            <a:pPr marL="3366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3041640" y="3429000"/>
            <a:ext cx="3059280" cy="3246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98400" y="506520"/>
            <a:ext cx="8191440" cy="12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dddddd"/>
                </a:solidFill>
                <a:latin typeface="FrancineHmk"/>
              </a:rPr>
              <a:t> …</a:t>
            </a:r>
            <a:r>
              <a:rPr b="0" lang="en-US" sz="4800" spc="-1" strike="noStrike">
                <a:solidFill>
                  <a:srgbClr val="dddddd"/>
                </a:solidFill>
                <a:latin typeface="FrancineHmk"/>
              </a:rPr>
              <a:t>but what about that online tracking system?</a:t>
            </a:r>
            <a:endParaRPr b="0" lang="en-US" sz="4800" spc="-1" strike="noStrike">
              <a:solidFill>
                <a:srgbClr val="dddddd"/>
              </a:solidFill>
              <a:latin typeface="FrancineHm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76240" y="1809720"/>
            <a:ext cx="794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FrancineHmk"/>
            </a:endParaRPr>
          </a:p>
          <a:p>
            <a:pPr marL="318960" indent="-318960">
              <a:lnSpc>
                <a:spcPct val="100000"/>
              </a:lnSpc>
              <a:spcBef>
                <a:spcPts val="34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FrancineHmk"/>
              </a:rPr>
              <a:t>Must have personal “myscouting” web site</a:t>
            </a:r>
            <a:endParaRPr b="0" lang="en-US" sz="2800" spc="-1" strike="noStrike">
              <a:solidFill>
                <a:srgbClr val="ffffff"/>
              </a:solidFill>
              <a:latin typeface="FrancineHmk"/>
            </a:endParaRPr>
          </a:p>
          <a:p>
            <a:pPr marL="318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FrancineHmk"/>
            </a:endParaRPr>
          </a:p>
          <a:p>
            <a:pPr marL="318960" indent="-318960">
              <a:lnSpc>
                <a:spcPct val="100000"/>
              </a:lnSpc>
              <a:spcBef>
                <a:spcPts val="34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FrancineHmk"/>
              </a:rPr>
              <a:t>If new, you will need your membership number</a:t>
            </a:r>
            <a:endParaRPr b="0" lang="en-US" sz="2800" spc="-1" strike="noStrike">
              <a:solidFill>
                <a:srgbClr val="ffffff"/>
              </a:solidFill>
              <a:latin typeface="FrancineHmk"/>
            </a:endParaRPr>
          </a:p>
          <a:p>
            <a:pPr marL="318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FrancineHmk"/>
            </a:endParaRPr>
          </a:p>
          <a:p>
            <a:pPr marL="318960" indent="-318960">
              <a:lnSpc>
                <a:spcPct val="100000"/>
              </a:lnSpc>
              <a:spcBef>
                <a:spcPts val="34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FrancineHmk"/>
              </a:rPr>
              <a:t>Will be asked to create user name….          …….DON’T FOGET IT!!!</a:t>
            </a:r>
            <a:endParaRPr b="0" lang="en-US" sz="2800" spc="-1" strike="noStrike">
              <a:solidFill>
                <a:srgbClr val="ffffff"/>
              </a:solidFill>
              <a:latin typeface="FrancineHmk"/>
            </a:endParaRPr>
          </a:p>
          <a:p>
            <a:pPr marL="318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FrancineHmk"/>
            </a:endParaRPr>
          </a:p>
          <a:p>
            <a:pPr marL="318960" indent="-318960">
              <a:lnSpc>
                <a:spcPct val="100000"/>
              </a:lnSpc>
              <a:spcBef>
                <a:spcPts val="34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FrancineHmk"/>
              </a:rPr>
              <a:t>Go to “myscouting.org”</a:t>
            </a:r>
            <a:endParaRPr b="0" lang="en-US" sz="2800" spc="-1" strike="noStrike">
              <a:solidFill>
                <a:srgbClr val="ffffff"/>
              </a:solidFill>
              <a:latin typeface="FrancineHmk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6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9:24:48Z</dcterms:created>
  <dc:creator>George Crowl</dc:creator>
  <dc:description>revised March 1998</dc:description>
  <dc:language>en-US</dc:language>
  <cp:lastModifiedBy>Bruce Mayfield</cp:lastModifiedBy>
  <cp:lastPrinted>2010-02-27T02:17:27Z</cp:lastPrinted>
  <dcterms:modified xsi:type="dcterms:W3CDTF">2010-03-02T01:21:46Z</dcterms:modified>
  <cp:revision>6</cp:revision>
  <dc:subject/>
  <dc:title>Classification: Marking</dc:title>
</cp:coreProperties>
</file>