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CC61-3928-4AF5-9E55-0976E668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DD7-B6B7-43C7-A67D-2D375FFD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2FE-93BC-4CFB-A90C-41470FCA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679E-B9F5-4605-96E0-E5727F6F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3513-5E39-4D45-A84C-B1FE31A3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5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5D1-27FC-4B65-B096-8247E9B9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C547-9B8B-4CD4-9A89-0FB2085F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AA7E-6360-4255-8989-263BC755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5BA3-9B7A-401E-B92C-7A11AF68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3B7-C54B-458F-8D05-CD765A33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C78-F621-4681-9918-C19FFB4C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CDBF-A6D0-4F77-B689-9C10F65E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5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5626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01560" y="609480"/>
            <a:ext cx="8534520" cy="1022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8eae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8172360" y="695160"/>
            <a:ext cx="85752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037E-5B49-48B5-A82F-A986E0319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49440"/>
            <a:ext cx="8534520" cy="1022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8eae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185320" y="73836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553680"/>
            <a:ext cx="746748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Everything You Need to Know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8001000" cy="4267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n’t miss the boa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n’t forget that we’re all in the same boa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n ahead. It wasn’t raining when Noah built the boa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y fit. When you’re 600 years old, someone might ask you to do something really bi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n’t listen to critics; just get on with what has to be d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d your future on high grou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heads are better than 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ed isn’t always an advantage; the snails were on board with the cheetah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you’re stressed, float awh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ember that woodpeckers inside are a larger threat than the storm outsi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76520"/>
            <a:ext cx="7467480" cy="685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MS Pゴシック"/>
              </a:rPr>
              <a:t>Everything I Need to Know I Learned From Noah and the Northern California Commissioners Con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rick Kenney</cp:lastModifiedBy>
  <cp:lastPrinted>2007-02-20T16:44:16Z</cp:lastPrinted>
  <dcterms:modified xsi:type="dcterms:W3CDTF">2007-02-20T16:52:58Z</dcterms:modified>
  <cp:revision>11</cp:revision>
  <dc:subject/>
  <dc:title>UNIT VISITATION</dc:title>
</cp:coreProperties>
</file>