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037-5A21-4EF2-9893-CDC177B5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057400" y="472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C8A-B5A2-4F03-8DFD-EED16978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736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7A1-F32A-4143-ACB4-E133A16F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2136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8568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05740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2136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8568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0BC-2A2F-40E2-BB78-76CAC95A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848F-13C5-4F25-877D-9755114C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5268-CB46-41F0-B17D-BD94364D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81B0-3C37-48AC-B7B5-2B7E33AF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F79A-A4C5-4AB8-B245-A242E57D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F8DB-0466-4CC6-A7FF-1E955042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435C-9741-44E3-B731-3D371A01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4203-BFC8-4C6B-A75A-5FD0CFE0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741-9E18-42F6-88E1-63745C28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736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DCDF-1570-4EB3-AFD3-51F321E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DA6E-EDC9-48F1-B349-7520009D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057400" y="472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5F90-6279-4D93-8432-96C80A64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736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0209-6FD7-476A-8E64-83E0B279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2136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8568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05740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22136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8568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8B7B-869C-42E9-9F6F-81898EF4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246-CE64-4DAE-9D0B-8672B31F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7D4-DD36-457F-B8C3-FC892352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AE7-ABC7-4428-B41B-0508B57B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0D0-93CF-4BE7-85D9-4CFEA2C1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249-B2CF-4DB3-88ED-B0291545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736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EFD-16DF-4D32-8EE9-1D0F38C9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A7D-BB83-42CA-8713-3525D243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562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02.24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904760" y="62485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BCS 104: Unit Vis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69572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13F1-A359-4949-9A43-1D2CC322D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560" y="609480"/>
            <a:ext cx="8534520" cy="1022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eae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72360" y="695160"/>
            <a:ext cx="8575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1CC4-5F8F-4E00-B503-E6D8A435E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49440"/>
            <a:ext cx="8534520" cy="1022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eae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185320" y="73836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456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838080"/>
            <a:ext cx="8458200" cy="609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UNIT VISITATION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11120" y="4191120"/>
            <a:ext cx="6477120" cy="2133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RES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ck Ken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cil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meda Cou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35160" y="144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S 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209680"/>
            <a:ext cx="655344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2007 Northern Califor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Commissioner’s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Prioritize Your Units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10880"/>
            <a:ext cx="7925040" cy="44895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time with your weakest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units need a helpful contact.                             Weak units need significant atten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CS 402: Recruiting New Commission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D14-1175-4014-9C1E-1F9EDC4BC0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Keep a Positive Attitude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35280"/>
            <a:ext cx="7772400" cy="448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ltimate responsibility of unit commissioners is to see that every unit assigned to them succ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You can make it happ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CS 402: Recruiting New Commission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0C7-B728-490B-90E3-F998460DE6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838080"/>
            <a:ext cx="8458200" cy="609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800000"/>
                </a:solidFill>
                <a:latin typeface="Arial"/>
              </a:rPr>
              <a:t>UNIT VISITATION</a:t>
            </a:r>
            <a:endParaRPr b="1" i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35160" y="144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S 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209680"/>
            <a:ext cx="655344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2007 Northern Califor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Commissioner’s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28880" y="4648320"/>
            <a:ext cx="7124400" cy="1292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Q U E S T I O N S  /  C O M M E N T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ck Ken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pkenney@alameda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6960" y="3276720"/>
            <a:ext cx="7208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Your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Agenda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Vi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tation Strategy - Before You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the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instorming Ways to Help a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oritize Your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ep a Positive At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CS 402: Recruiting New Commission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AD6-3758-401F-82E1-AEF0AB48BD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Providing Unit Service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ltimate responsibility of unit commissioners is to see that every unit assigned to them succeeds. Commissioners do a variety of things to help units succeed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 most basic task is the unit vis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ithout unit visits, we can’t know how to help a unit improve its program or operation. Without visits, we only find out about major problems after the unit fails or weakens and the kids have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ted with their feet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left the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issioners visit each unit at least monthl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me units will need more frequent visits – new units or troubled units for 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CS 402: Recruiting New Commission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4D6-C132-498C-9309-5D2D9B485E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Types of Visits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835280"/>
            <a:ext cx="815364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55760" indent="-455760"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meetings - where Scouting really happens. These meetings are your best way to observe what’s happ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committee meetings - often your best opportunity to interact with unit ad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get-together with unit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with other unit ad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phone cont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, fax, and Web sites are efficient tools, but don’t let technology replace person-to-person kindness. Face-to-face helpfulness is still the most valuable unit service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CS 402: Recruiting New Commission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D9D-D315-4711-9AC0-54EA1E4448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55368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800000"/>
                </a:solidFill>
                <a:latin typeface="Arial"/>
              </a:rPr>
              <a:t>Visitation Strategy - </a:t>
            </a:r>
            <a:r>
              <a:rPr b="0" i="1" lang="en-US" sz="3500" spc="-1" strike="noStrike">
                <a:solidFill>
                  <a:srgbClr val="800000"/>
                </a:solidFill>
                <a:latin typeface="Arial"/>
              </a:rPr>
              <a:t>Before You Go</a:t>
            </a:r>
            <a:endParaRPr b="1" i="1" lang="en-US" sz="3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go as a friend of the unit - not as the district/counci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Supersp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ly ask yourself how you can help the 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what is best for the success of your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help should strengthen the roles of adult units,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rify the commissioner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It’s better to teach a pers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fish than to feed him a fish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missioner operates quietly, generally in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elpful, not cri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CS 402: Recruiting New Commission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085-6F66-46E4-AE9A-F27B050F5A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55368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800000"/>
                </a:solidFill>
                <a:latin typeface="Arial"/>
              </a:rPr>
              <a:t>Visitation Strategy - </a:t>
            </a:r>
            <a:r>
              <a:rPr b="0" i="1" lang="en-US" sz="3500" spc="-1" strike="noStrike">
                <a:solidFill>
                  <a:srgbClr val="800000"/>
                </a:solidFill>
                <a:latin typeface="Arial"/>
              </a:rPr>
              <a:t>Before You Go</a:t>
            </a:r>
            <a:endParaRPr b="1" i="1" lang="en-US" sz="35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60440" indent="-460440"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 startAt="3"/>
              <a:tabLst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usually better to call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common courte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ing beforehand helps assure you’ll be wel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hows you’re not there to sn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00280"/>
                <a:tab algn="l" pos="97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your units, do your homework, know what to exp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CS 402: Recruiting New Commission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E4E-D433-4810-B562-20C5CA91F2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During the Visi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ch and li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careful not to disrupt the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y long enough to get an accurate im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making lengthy notes during the vis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 and chat with other adults who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on the sidelin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o know some of the b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distract the leader - talk with him/her during free time or after the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give the leader a chance to mention problems or ask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take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eeb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even if only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CS 402: Recruiting New Commission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E55-5567-4F8B-AC4C-E1EEDF72D0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After the Visi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fter, not during the meeting, review and fill out a commissioner worksheet (in Commissioner Fieldbook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etermine the priority needs of the unit. At any point in time, different units will have different priority needs, and needs change over tim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etermine how you (or others in the district) can be most helpful. Perhaps it’s only to provide a personal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“well done”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“congratulations.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uss special needs with your assistant district commissioner, district commissioner or district executive.    If there is a crisis, communicate immediatel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CS 402: Recruiting New Commission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EFD-5992-4C16-97E4-5E1859F239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Brainstorming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772400" cy="44132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ys to He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CS 402: Recruiting New Commission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448-87DA-4E14-9016-316D63F233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.25.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Kenney</cp:lastModifiedBy>
  <dcterms:modified xsi:type="dcterms:W3CDTF">2007-02-20T05:23:27Z</dcterms:modified>
  <cp:revision>4</cp:revision>
  <dc:subject/>
  <dc:title>UNIT VISITATION</dc:title>
</cp:coreProperties>
</file>