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FA0-D6F9-488E-B80E-A575006D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76A-8797-4A45-831E-2A6676B9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FAB-9681-410E-857E-78F6FDAC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712-642D-498D-8394-569F173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5FE-A830-4C12-A33D-60EABEE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499-0CF2-4BB5-8E1D-386F732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CF0-C282-434A-94D1-4B90932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59B-E3FA-4E48-8519-A543993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BAB-FFDA-4558-9C47-16052AC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D89-B8E9-41DA-81AC-63CAD18E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629-F99D-4C66-9C5B-CE98B04B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B05-52D8-4FE8-ACDE-DC416807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562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1560" y="609480"/>
            <a:ext cx="8534520" cy="1022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72360" y="695160"/>
            <a:ext cx="8575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B55-AA20-4E50-9102-CCD2BCCA5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49440"/>
            <a:ext cx="8534520" cy="1022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85320" y="73836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5368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Unit Service 10 Commandments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038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leader is the most important person in Scou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leaders are not dependent on us; we are dependent on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s are not interruptions of our work; they are the purpose of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adults do us a favor when they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Scouter is central to our team - not an outsi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leaders are not cold statistics; they are human beings with feelings and emotions like our ow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leader is not someone to argue or match wits wi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adults bring us their needs; it is our job to meet those nee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folk are deserving of the most courteous treatment we can give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is the lifeblood of the counci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Kenney</cp:lastModifiedBy>
  <cp:lastPrinted>2007-02-20T06:46:54Z</cp:lastPrinted>
  <dcterms:modified xsi:type="dcterms:W3CDTF">2007-02-20T16:44:06Z</dcterms:modified>
  <cp:revision>10</cp:revision>
  <dc:subject/>
  <dc:title>UNIT VISITATION</dc:title>
</cp:coreProperties>
</file>