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2640" y="694800"/>
            <a:ext cx="4568760" cy="34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FrancineHmk"/>
              </a:rPr>
              <a:t>Click to move the slide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&lt;header&gt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1"/>
          </p:nvPr>
        </p:nvSpPr>
        <p:spPr>
          <a:xfrm>
            <a:off x="38811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44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1160" y="868644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3DEE83-16FC-4073-B277-1D9B4413B841}" type="slidenum">
              <a:rPr b="0" lang="en-US" sz="2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685800" y="4338720"/>
            <a:ext cx="5484960" cy="413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393840" y="4190760"/>
            <a:ext cx="604512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Go back to the main assembly hall now please. [If no assembly is scheduled, hand out appropriate certificates.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393840" y="4190760"/>
            <a:ext cx="604512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Divide the class into separate Cub Scout and Boy Scout groups for the remainder of the class ti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247760" y="866880"/>
            <a:ext cx="4344840" cy="32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685800" y="4338720"/>
            <a:ext cx="5484960" cy="413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36680" y="28080"/>
            <a:ext cx="7346880" cy="16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4440" y="1544400"/>
            <a:ext cx="822636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4440" y="4157280"/>
            <a:ext cx="822636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36680" y="28080"/>
            <a:ext cx="7346880" cy="16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4440" y="1544400"/>
            <a:ext cx="401436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040" y="1544400"/>
            <a:ext cx="401436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4440" y="4157280"/>
            <a:ext cx="401436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20040" y="4157280"/>
            <a:ext cx="401436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6680" y="28080"/>
            <a:ext cx="7346880" cy="16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4440" y="1544400"/>
            <a:ext cx="264852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85800" y="1544400"/>
            <a:ext cx="264852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67160" y="1544400"/>
            <a:ext cx="264852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4440" y="4157280"/>
            <a:ext cx="264852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85800" y="4157280"/>
            <a:ext cx="264852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67160" y="4157280"/>
            <a:ext cx="264852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36680" y="28080"/>
            <a:ext cx="7346880" cy="16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4440" y="1544400"/>
            <a:ext cx="8226360" cy="50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6680" y="28080"/>
            <a:ext cx="7346880" cy="16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4440" y="1544400"/>
            <a:ext cx="8226360" cy="50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6680" y="28080"/>
            <a:ext cx="7346880" cy="16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4440" y="1544400"/>
            <a:ext cx="4014360" cy="50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20040" y="1544400"/>
            <a:ext cx="4014360" cy="50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36680" y="28080"/>
            <a:ext cx="7346880" cy="16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336680" y="28080"/>
            <a:ext cx="7346880" cy="75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12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6680" y="28080"/>
            <a:ext cx="7346880" cy="16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4440" y="1544400"/>
            <a:ext cx="401436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20040" y="1544400"/>
            <a:ext cx="4014360" cy="50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4440" y="4157280"/>
            <a:ext cx="401436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36680" y="28080"/>
            <a:ext cx="7346880" cy="16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4440" y="1544400"/>
            <a:ext cx="8226360" cy="50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6680" y="28080"/>
            <a:ext cx="7346880" cy="16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4440" y="1544400"/>
            <a:ext cx="4014360" cy="50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20040" y="1544400"/>
            <a:ext cx="401436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20040" y="4157280"/>
            <a:ext cx="401436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36680" y="28080"/>
            <a:ext cx="7346880" cy="16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4440" y="1544400"/>
            <a:ext cx="401436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20040" y="1544400"/>
            <a:ext cx="401436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4440" y="4157280"/>
            <a:ext cx="822636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36680" y="28080"/>
            <a:ext cx="7346880" cy="16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4440" y="1544400"/>
            <a:ext cx="822636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4440" y="4157280"/>
            <a:ext cx="822636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36680" y="28080"/>
            <a:ext cx="7346880" cy="16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4440" y="1544400"/>
            <a:ext cx="401436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0040" y="1544400"/>
            <a:ext cx="401436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4440" y="4157280"/>
            <a:ext cx="401436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20040" y="4157280"/>
            <a:ext cx="401436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36680" y="28080"/>
            <a:ext cx="7346880" cy="16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4440" y="1544400"/>
            <a:ext cx="264852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85800" y="1544400"/>
            <a:ext cx="264852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67160" y="1544400"/>
            <a:ext cx="264852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4440" y="4157280"/>
            <a:ext cx="264852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85800" y="4157280"/>
            <a:ext cx="264852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67160" y="4157280"/>
            <a:ext cx="264852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6680" y="28080"/>
            <a:ext cx="7346880" cy="16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4440" y="1544400"/>
            <a:ext cx="8226360" cy="50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6680" y="28080"/>
            <a:ext cx="7346880" cy="16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4440" y="1544400"/>
            <a:ext cx="4014360" cy="50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20040" y="1544400"/>
            <a:ext cx="4014360" cy="50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6680" y="28080"/>
            <a:ext cx="7346880" cy="16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336680" y="28080"/>
            <a:ext cx="7346880" cy="75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12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6680" y="28080"/>
            <a:ext cx="7346880" cy="16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4440" y="1544400"/>
            <a:ext cx="401436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0040" y="1544400"/>
            <a:ext cx="4014360" cy="50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4440" y="4157280"/>
            <a:ext cx="401436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6680" y="28080"/>
            <a:ext cx="7346880" cy="16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4440" y="1544400"/>
            <a:ext cx="4014360" cy="50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0040" y="1544400"/>
            <a:ext cx="401436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20040" y="4157280"/>
            <a:ext cx="401436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36680" y="28080"/>
            <a:ext cx="7346880" cy="16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4440" y="1544400"/>
            <a:ext cx="401436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20040" y="1544400"/>
            <a:ext cx="401436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4440" y="4157280"/>
            <a:ext cx="8226360" cy="23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6680" y="28080"/>
            <a:ext cx="7346880" cy="16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FrancineHmk"/>
              </a:rPr>
              <a:t>Click to edit the title text format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4440" y="1544400"/>
            <a:ext cx="8226360" cy="50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1" marL="343080" indent="-343080">
              <a:lnSpc>
                <a:spcPct val="112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2" marL="343080" indent="-343080">
              <a:lnSpc>
                <a:spcPct val="112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3" marL="343080" indent="-343080">
              <a:lnSpc>
                <a:spcPct val="112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4" marL="343080" indent="-343080">
              <a:lnSpc>
                <a:spcPct val="112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5" marL="343080" indent="-343080">
              <a:lnSpc>
                <a:spcPct val="112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6" marL="343080" indent="-343080">
              <a:lnSpc>
                <a:spcPct val="112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cineHmk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2448"/>
              </a:gs>
              <a:gs pos="50000">
                <a:srgbClr val="003366"/>
              </a:gs>
              <a:gs pos="100000">
                <a:srgbClr val="00244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89160" y="109440"/>
            <a:ext cx="7767360" cy="22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286920" y="2533320"/>
            <a:ext cx="8705880" cy="38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335880" indent="-3358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335880" indent="-3358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335880" indent="-3358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335880" indent="-3358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335880" indent="-3358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335880" indent="-3358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49440" y="286920"/>
            <a:ext cx="7875360" cy="35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8000" spc="-1" strike="noStrike">
                <a:solidFill>
                  <a:srgbClr val="dddddd"/>
                </a:solidFill>
                <a:latin typeface="FrancineHmk"/>
              </a:rPr>
              <a:t>Effective Roundtables I</a:t>
            </a:r>
            <a:br>
              <a:rPr sz="8000"/>
            </a:br>
            <a:r>
              <a:rPr b="0" lang="en-GB" sz="4400" spc="-1" strike="noStrike">
                <a:solidFill>
                  <a:srgbClr val="dddddd"/>
                </a:solidFill>
                <a:latin typeface="FrancineHmk"/>
              </a:rPr>
              <a:t>BCS 108 </a:t>
            </a:r>
            <a:endParaRPr b="0" lang="en-US" sz="4400" spc="-1" strike="noStrike">
              <a:solidFill>
                <a:srgbClr val="dddddd"/>
              </a:solidFill>
              <a:latin typeface="FrancineHmk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3935160"/>
            <a:ext cx="8292960" cy="27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  <a:ea typeface="Arial Unicode MS"/>
              </a:rPr>
              <a:t>NorCal Commissioner's College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-34308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ineHmk"/>
                <a:ea typeface="Arial Unicode MS"/>
              </a:rPr>
              <a:t>Edited by: David D. Frydenlund</a:t>
            </a:r>
            <a:endParaRPr b="0" lang="en-US" sz="28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-34308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rancineHmk"/>
                <a:ea typeface="Arial Unicode MS"/>
              </a:rPr>
              <a:t>Pacific Skyline Council</a:t>
            </a:r>
            <a:endParaRPr b="0" lang="en-US" sz="24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9440" y="286920"/>
            <a:ext cx="7875360" cy="35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8000" spc="-1" strike="noStrike">
                <a:solidFill>
                  <a:srgbClr val="dddddd"/>
                </a:solidFill>
                <a:latin typeface="FrancineHmk"/>
              </a:rPr>
              <a:t>Effective Roundtables II</a:t>
            </a:r>
            <a:br>
              <a:rPr sz="8000"/>
            </a:br>
            <a:r>
              <a:rPr b="0" lang="en-GB" sz="4400" spc="-1" strike="noStrike">
                <a:solidFill>
                  <a:srgbClr val="dddddd"/>
                </a:solidFill>
                <a:latin typeface="FrancineHmk"/>
              </a:rPr>
              <a:t>BCS 109 </a:t>
            </a:r>
            <a:endParaRPr b="0" lang="en-US" sz="4400" spc="-1" strike="noStrike">
              <a:solidFill>
                <a:srgbClr val="dddddd"/>
              </a:solidFill>
              <a:latin typeface="FrancineHm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87360" cy="13111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3935160"/>
            <a:ext cx="8292960" cy="27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  <a:ea typeface="Arial Unicode MS"/>
              </a:rPr>
              <a:t>NorCal Commissioner's College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-34308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ineHmk"/>
                <a:ea typeface="Arial Unicode MS"/>
              </a:rPr>
              <a:t>Edited by: David D. Frydenlund</a:t>
            </a:r>
            <a:endParaRPr b="0" lang="en-US" sz="28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-34308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rancineHmk"/>
                <a:ea typeface="Arial Unicode MS"/>
              </a:rPr>
              <a:t>Pacific Skyline Council</a:t>
            </a:r>
            <a:endParaRPr b="0" lang="en-US" sz="24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23920" y="161640"/>
            <a:ext cx="795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Promotion and Publicity (1)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76240" y="1452600"/>
            <a:ext cx="7943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26160" indent="-326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FrancineHmk"/>
              </a:rPr>
              <a:t>Regular date, time, and meeting place</a:t>
            </a:r>
            <a:endParaRPr b="0" lang="en-US" sz="2600" spc="-1" strike="noStrike">
              <a:solidFill>
                <a:srgbClr val="ffffff"/>
              </a:solidFill>
              <a:latin typeface="FrancineHmk"/>
            </a:endParaRPr>
          </a:p>
          <a:p>
            <a:pPr lvl="1" marL="769680" indent="-326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FrancineHmk"/>
              </a:rPr>
              <a:t>“</a:t>
            </a:r>
            <a:r>
              <a:rPr b="0" lang="en-GB" sz="2600" spc="-1" strike="noStrike">
                <a:solidFill>
                  <a:srgbClr val="ffffff"/>
                </a:solidFill>
                <a:latin typeface="FrancineHmk"/>
              </a:rPr>
              <a:t>Think second Thursday”</a:t>
            </a:r>
            <a:endParaRPr b="0" lang="en-US" sz="2600" spc="-1" strike="noStrike">
              <a:solidFill>
                <a:srgbClr val="ffffff"/>
              </a:solidFill>
              <a:latin typeface="FrancineHmk"/>
            </a:endParaRPr>
          </a:p>
          <a:p>
            <a:pPr lvl="1" marL="769680" indent="-326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FrancineHmk"/>
              </a:rPr>
              <a:t>Have a permanent meeting place</a:t>
            </a:r>
            <a:endParaRPr b="0" lang="en-US" sz="2600" spc="-1" strike="noStrike">
              <a:solidFill>
                <a:srgbClr val="ffffff"/>
              </a:solidFill>
              <a:latin typeface="FrancineHmk"/>
            </a:endParaRPr>
          </a:p>
          <a:p>
            <a:pPr lvl="1" marL="769680" indent="-326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FrancineHmk"/>
              </a:rPr>
              <a:t>Dependable schedule important for attendance</a:t>
            </a:r>
            <a:endParaRPr b="0" lang="en-US" sz="2600" spc="-1" strike="noStrike">
              <a:solidFill>
                <a:srgbClr val="ffffff"/>
              </a:solidFill>
              <a:latin typeface="FrancineHmk"/>
            </a:endParaRPr>
          </a:p>
          <a:p>
            <a:pPr marL="326160" indent="-326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FrancineHmk"/>
              </a:rPr>
              <a:t>Reminders</a:t>
            </a:r>
            <a:endParaRPr b="0" lang="en-US" sz="2600" spc="-1" strike="noStrike">
              <a:solidFill>
                <a:srgbClr val="ffffff"/>
              </a:solidFill>
              <a:latin typeface="FrancineHmk"/>
            </a:endParaRPr>
          </a:p>
          <a:p>
            <a:pPr marL="326160" indent="-326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FrancineHmk"/>
              </a:rPr>
              <a:t>Newsletters</a:t>
            </a:r>
            <a:endParaRPr b="0" lang="en-US" sz="2600" spc="-1" strike="noStrike">
              <a:solidFill>
                <a:srgbClr val="ffffff"/>
              </a:solidFill>
              <a:latin typeface="FrancineHmk"/>
            </a:endParaRPr>
          </a:p>
          <a:p>
            <a:pPr marL="326160" indent="-326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FrancineHmk"/>
              </a:rPr>
              <a:t>Door prizes</a:t>
            </a:r>
            <a:endParaRPr b="0" lang="en-US" sz="2600" spc="-1" strike="noStrike">
              <a:solidFill>
                <a:srgbClr val="ffffff"/>
              </a:solidFill>
              <a:latin typeface="FrancineHmk"/>
            </a:endParaRPr>
          </a:p>
          <a:p>
            <a:pPr marL="326160" indent="-326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FrancineHmk"/>
              </a:rPr>
              <a:t>Forming a roundtable pack or troop</a:t>
            </a:r>
            <a:endParaRPr b="0" lang="en-US" sz="2600" spc="-1" strike="noStrike">
              <a:solidFill>
                <a:srgbClr val="ffffff"/>
              </a:solidFill>
              <a:latin typeface="FrancineHmk"/>
            </a:endParaRPr>
          </a:p>
          <a:p>
            <a:pPr marL="326160" indent="-326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FrancineHmk"/>
              </a:rPr>
              <a:t>Unit involvement — lots of people in the production</a:t>
            </a:r>
            <a:endParaRPr b="0" lang="en-US" sz="2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45640" y="1334880"/>
            <a:ext cx="7944120" cy="55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Recognition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Promotional plan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Gimmicks, goodies, product sample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Attendance award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Personal contact is best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Phone squad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Interesting guest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163160" y="91800"/>
            <a:ext cx="7861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Promotion and Publicity (2)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834160" y="5076720"/>
            <a:ext cx="2590560" cy="1371600"/>
            <a:chOff x="5834160" y="5076720"/>
            <a:chExt cx="2590560" cy="1371600"/>
          </a:xfrm>
        </p:grpSpPr>
        <p:graphicFrame>
          <p:nvGraphicFramePr>
            <p:cNvPr id="120" name=""/>
            <p:cNvGraphicFramePr/>
            <p:nvPr/>
          </p:nvGraphicFramePr>
          <p:xfrm>
            <a:off x="5834160" y="5076720"/>
            <a:ext cx="1747800" cy="1371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834160" y="5076720"/>
                      <a:ext cx="1747800" cy="13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2" name=""/>
            <p:cNvGrpSpPr/>
            <p:nvPr/>
          </p:nvGrpSpPr>
          <p:grpSpPr>
            <a:xfrm>
              <a:off x="7647120" y="5081760"/>
              <a:ext cx="777600" cy="1352520"/>
              <a:chOff x="7647120" y="5081760"/>
              <a:chExt cx="777600" cy="1352520"/>
            </a:xfrm>
          </p:grpSpPr>
          <p:sp>
            <p:nvSpPr>
              <p:cNvPr id="123" name=""/>
              <p:cNvSpPr/>
              <p:nvPr/>
            </p:nvSpPr>
            <p:spPr>
              <a:xfrm>
                <a:off x="7647120" y="5081760"/>
                <a:ext cx="777600" cy="1352520"/>
              </a:xfrm>
              <a:solidFill>
                <a:srgbClr val="4040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715160" y="5500800"/>
                <a:ext cx="96840" cy="61920"/>
              </a:xfr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688160" y="5711760"/>
                <a:ext cx="66600" cy="20880"/>
              </a:xfr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785000" y="5818320"/>
                <a:ext cx="31680" cy="47520"/>
              </a:xfr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98400" y="7092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Location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4400" y="1488600"/>
            <a:ext cx="745632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ineHmk"/>
              </a:rPr>
              <a:t>Adequate space</a:t>
            </a:r>
            <a:endParaRPr b="0" lang="en-US" sz="28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ineHmk"/>
              </a:rPr>
              <a:t>Adequate parking</a:t>
            </a:r>
            <a:endParaRPr b="0" lang="en-US" sz="28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ineHmk"/>
              </a:rPr>
              <a:t>Available year-round</a:t>
            </a:r>
            <a:endParaRPr b="0" lang="en-US" sz="28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ineHmk"/>
              </a:rPr>
              <a:t>Areas for split sessions</a:t>
            </a:r>
            <a:endParaRPr b="0" lang="en-US" sz="28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ineHmk"/>
              </a:rPr>
              <a:t>Attractive and interesting facility</a:t>
            </a:r>
            <a:endParaRPr b="0" lang="en-US" sz="28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ineHmk"/>
              </a:rPr>
              <a:t>Easily accessible</a:t>
            </a:r>
            <a:endParaRPr b="0" lang="en-US" sz="28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ineHmk"/>
              </a:rPr>
              <a:t>Easily accessible for people with disabilities</a:t>
            </a:r>
            <a:endParaRPr b="0" lang="en-US" sz="28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ineHmk"/>
              </a:rPr>
              <a:t>Meets health and safety requirements</a:t>
            </a:r>
            <a:endParaRPr b="0" lang="en-US" sz="2800" spc="-1" strike="noStrike">
              <a:solidFill>
                <a:srgbClr val="ffffff"/>
              </a:solidFill>
              <a:latin typeface="FrancineHmk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5878440" y="1143000"/>
            <a:ext cx="2608200" cy="1979640"/>
            <a:chOff x="5878440" y="1143000"/>
            <a:chExt cx="2608200" cy="1979640"/>
          </a:xfrm>
        </p:grpSpPr>
        <p:sp>
          <p:nvSpPr>
            <p:cNvPr id="130" name=""/>
            <p:cNvSpPr/>
            <p:nvPr/>
          </p:nvSpPr>
          <p:spPr>
            <a:xfrm>
              <a:off x="6945480" y="1143000"/>
              <a:ext cx="1541160" cy="8539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7179480" y="1236600"/>
              <a:ext cx="662040" cy="568440"/>
            </a:xfrm>
            <a:custGeom>
              <a:avLst/>
              <a:gdLst/>
              <a:ahLst/>
              <a:rect l="l" t="t" r="r" b="b"/>
              <a:pathLst>
                <a:path w="680" h="957">
                  <a:moveTo>
                    <a:pt x="680" y="386"/>
                  </a:moveTo>
                  <a:lnTo>
                    <a:pt x="680" y="297"/>
                  </a:lnTo>
                  <a:lnTo>
                    <a:pt x="530" y="297"/>
                  </a:lnTo>
                  <a:lnTo>
                    <a:pt x="530" y="67"/>
                  </a:lnTo>
                  <a:lnTo>
                    <a:pt x="530" y="67"/>
                  </a:lnTo>
                  <a:lnTo>
                    <a:pt x="530" y="42"/>
                  </a:lnTo>
                  <a:lnTo>
                    <a:pt x="449" y="42"/>
                  </a:lnTo>
                  <a:lnTo>
                    <a:pt x="449" y="0"/>
                  </a:lnTo>
                  <a:lnTo>
                    <a:pt x="186" y="0"/>
                  </a:lnTo>
                  <a:lnTo>
                    <a:pt x="186" y="42"/>
                  </a:lnTo>
                  <a:lnTo>
                    <a:pt x="74" y="42"/>
                  </a:lnTo>
                  <a:lnTo>
                    <a:pt x="48" y="42"/>
                  </a:lnTo>
                  <a:lnTo>
                    <a:pt x="48" y="71"/>
                  </a:lnTo>
                  <a:lnTo>
                    <a:pt x="48" y="204"/>
                  </a:lnTo>
                  <a:lnTo>
                    <a:pt x="0" y="204"/>
                  </a:lnTo>
                  <a:lnTo>
                    <a:pt x="0" y="293"/>
                  </a:lnTo>
                  <a:lnTo>
                    <a:pt x="48" y="293"/>
                  </a:lnTo>
                  <a:lnTo>
                    <a:pt x="48" y="433"/>
                  </a:lnTo>
                  <a:lnTo>
                    <a:pt x="0" y="433"/>
                  </a:lnTo>
                  <a:lnTo>
                    <a:pt x="0" y="522"/>
                  </a:lnTo>
                  <a:lnTo>
                    <a:pt x="130" y="522"/>
                  </a:lnTo>
                  <a:lnTo>
                    <a:pt x="130" y="484"/>
                  </a:lnTo>
                  <a:lnTo>
                    <a:pt x="194" y="484"/>
                  </a:lnTo>
                  <a:lnTo>
                    <a:pt x="194" y="522"/>
                  </a:lnTo>
                  <a:lnTo>
                    <a:pt x="241" y="522"/>
                  </a:lnTo>
                  <a:lnTo>
                    <a:pt x="241" y="905"/>
                  </a:lnTo>
                  <a:lnTo>
                    <a:pt x="269" y="905"/>
                  </a:lnTo>
                  <a:lnTo>
                    <a:pt x="269" y="522"/>
                  </a:lnTo>
                  <a:lnTo>
                    <a:pt x="323" y="522"/>
                  </a:lnTo>
                  <a:lnTo>
                    <a:pt x="323" y="433"/>
                  </a:lnTo>
                  <a:lnTo>
                    <a:pt x="269" y="433"/>
                  </a:lnTo>
                  <a:lnTo>
                    <a:pt x="269" y="293"/>
                  </a:lnTo>
                  <a:lnTo>
                    <a:pt x="323" y="293"/>
                  </a:lnTo>
                  <a:lnTo>
                    <a:pt x="323" y="204"/>
                  </a:lnTo>
                  <a:lnTo>
                    <a:pt x="194" y="204"/>
                  </a:lnTo>
                  <a:lnTo>
                    <a:pt x="194" y="293"/>
                  </a:lnTo>
                  <a:lnTo>
                    <a:pt x="241" y="293"/>
                  </a:lnTo>
                  <a:lnTo>
                    <a:pt x="241" y="433"/>
                  </a:lnTo>
                  <a:lnTo>
                    <a:pt x="194" y="433"/>
                  </a:lnTo>
                  <a:lnTo>
                    <a:pt x="194" y="455"/>
                  </a:lnTo>
                  <a:lnTo>
                    <a:pt x="130" y="455"/>
                  </a:lnTo>
                  <a:lnTo>
                    <a:pt x="130" y="433"/>
                  </a:lnTo>
                  <a:lnTo>
                    <a:pt x="74" y="433"/>
                  </a:lnTo>
                  <a:lnTo>
                    <a:pt x="74" y="293"/>
                  </a:lnTo>
                  <a:lnTo>
                    <a:pt x="130" y="293"/>
                  </a:lnTo>
                  <a:lnTo>
                    <a:pt x="130" y="204"/>
                  </a:lnTo>
                  <a:lnTo>
                    <a:pt x="74" y="204"/>
                  </a:lnTo>
                  <a:lnTo>
                    <a:pt x="74" y="71"/>
                  </a:lnTo>
                  <a:lnTo>
                    <a:pt x="186" y="71"/>
                  </a:lnTo>
                  <a:lnTo>
                    <a:pt x="186" y="109"/>
                  </a:lnTo>
                  <a:lnTo>
                    <a:pt x="449" y="109"/>
                  </a:lnTo>
                  <a:lnTo>
                    <a:pt x="449" y="71"/>
                  </a:lnTo>
                  <a:lnTo>
                    <a:pt x="504" y="71"/>
                  </a:lnTo>
                  <a:lnTo>
                    <a:pt x="504" y="297"/>
                  </a:lnTo>
                  <a:lnTo>
                    <a:pt x="375" y="297"/>
                  </a:lnTo>
                  <a:lnTo>
                    <a:pt x="375" y="386"/>
                  </a:lnTo>
                  <a:lnTo>
                    <a:pt x="504" y="386"/>
                  </a:lnTo>
                  <a:lnTo>
                    <a:pt x="504" y="585"/>
                  </a:lnTo>
                  <a:lnTo>
                    <a:pt x="429" y="585"/>
                  </a:lnTo>
                  <a:lnTo>
                    <a:pt x="429" y="714"/>
                  </a:lnTo>
                  <a:lnTo>
                    <a:pt x="504" y="714"/>
                  </a:lnTo>
                  <a:lnTo>
                    <a:pt x="504" y="830"/>
                  </a:lnTo>
                  <a:lnTo>
                    <a:pt x="429" y="830"/>
                  </a:lnTo>
                  <a:lnTo>
                    <a:pt x="429" y="957"/>
                  </a:lnTo>
                  <a:lnTo>
                    <a:pt x="616" y="957"/>
                  </a:lnTo>
                  <a:lnTo>
                    <a:pt x="616" y="830"/>
                  </a:lnTo>
                  <a:lnTo>
                    <a:pt x="530" y="830"/>
                  </a:lnTo>
                  <a:lnTo>
                    <a:pt x="530" y="714"/>
                  </a:lnTo>
                  <a:lnTo>
                    <a:pt x="616" y="714"/>
                  </a:lnTo>
                  <a:lnTo>
                    <a:pt x="616" y="585"/>
                  </a:lnTo>
                  <a:lnTo>
                    <a:pt x="530" y="585"/>
                  </a:lnTo>
                  <a:lnTo>
                    <a:pt x="530" y="386"/>
                  </a:lnTo>
                  <a:lnTo>
                    <a:pt x="680" y="38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7659000" y="1703520"/>
              <a:ext cx="19044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7659720" y="1739880"/>
              <a:ext cx="1411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7661160" y="1781280"/>
              <a:ext cx="22248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7661160" y="1817640"/>
              <a:ext cx="1000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6597720" y="1662120"/>
              <a:ext cx="325440" cy="174600"/>
            </a:xfrm>
            <a:custGeom>
              <a:avLst/>
              <a:gdLst/>
              <a:ahLst/>
              <a:rect l="l" t="t" r="r" b="b"/>
              <a:pathLst>
                <a:path w="674" h="385">
                  <a:moveTo>
                    <a:pt x="666" y="306"/>
                  </a:moveTo>
                  <a:lnTo>
                    <a:pt x="664" y="308"/>
                  </a:lnTo>
                  <a:lnTo>
                    <a:pt x="660" y="310"/>
                  </a:lnTo>
                  <a:lnTo>
                    <a:pt x="652" y="316"/>
                  </a:lnTo>
                  <a:lnTo>
                    <a:pt x="640" y="322"/>
                  </a:lnTo>
                  <a:lnTo>
                    <a:pt x="626" y="330"/>
                  </a:lnTo>
                  <a:lnTo>
                    <a:pt x="610" y="338"/>
                  </a:lnTo>
                  <a:lnTo>
                    <a:pt x="590" y="346"/>
                  </a:lnTo>
                  <a:lnTo>
                    <a:pt x="570" y="356"/>
                  </a:lnTo>
                  <a:lnTo>
                    <a:pt x="544" y="364"/>
                  </a:lnTo>
                  <a:lnTo>
                    <a:pt x="518" y="370"/>
                  </a:lnTo>
                  <a:lnTo>
                    <a:pt x="488" y="376"/>
                  </a:lnTo>
                  <a:lnTo>
                    <a:pt x="457" y="383"/>
                  </a:lnTo>
                  <a:lnTo>
                    <a:pt x="425" y="385"/>
                  </a:lnTo>
                  <a:lnTo>
                    <a:pt x="389" y="385"/>
                  </a:lnTo>
                  <a:lnTo>
                    <a:pt x="351" y="383"/>
                  </a:lnTo>
                  <a:lnTo>
                    <a:pt x="311" y="376"/>
                  </a:lnTo>
                  <a:lnTo>
                    <a:pt x="241" y="354"/>
                  </a:lnTo>
                  <a:lnTo>
                    <a:pt x="180" y="316"/>
                  </a:lnTo>
                  <a:lnTo>
                    <a:pt x="128" y="267"/>
                  </a:lnTo>
                  <a:lnTo>
                    <a:pt x="82" y="217"/>
                  </a:lnTo>
                  <a:lnTo>
                    <a:pt x="48" y="166"/>
                  </a:lnTo>
                  <a:lnTo>
                    <a:pt x="22" y="123"/>
                  </a:lnTo>
                  <a:lnTo>
                    <a:pt x="6" y="93"/>
                  </a:lnTo>
                  <a:lnTo>
                    <a:pt x="0" y="83"/>
                  </a:lnTo>
                  <a:lnTo>
                    <a:pt x="2" y="79"/>
                  </a:lnTo>
                  <a:lnTo>
                    <a:pt x="10" y="69"/>
                  </a:lnTo>
                  <a:lnTo>
                    <a:pt x="26" y="55"/>
                  </a:lnTo>
                  <a:lnTo>
                    <a:pt x="54" y="32"/>
                  </a:lnTo>
                  <a:lnTo>
                    <a:pt x="70" y="22"/>
                  </a:lnTo>
                  <a:lnTo>
                    <a:pt x="84" y="14"/>
                  </a:lnTo>
                  <a:lnTo>
                    <a:pt x="96" y="10"/>
                  </a:lnTo>
                  <a:lnTo>
                    <a:pt x="106" y="6"/>
                  </a:lnTo>
                  <a:lnTo>
                    <a:pt x="114" y="4"/>
                  </a:lnTo>
                  <a:lnTo>
                    <a:pt x="120" y="4"/>
                  </a:lnTo>
                  <a:lnTo>
                    <a:pt x="122" y="4"/>
                  </a:lnTo>
                  <a:lnTo>
                    <a:pt x="124" y="4"/>
                  </a:lnTo>
                  <a:lnTo>
                    <a:pt x="128" y="8"/>
                  </a:lnTo>
                  <a:lnTo>
                    <a:pt x="138" y="18"/>
                  </a:lnTo>
                  <a:lnTo>
                    <a:pt x="156" y="32"/>
                  </a:lnTo>
                  <a:lnTo>
                    <a:pt x="180" y="51"/>
                  </a:lnTo>
                  <a:lnTo>
                    <a:pt x="212" y="71"/>
                  </a:lnTo>
                  <a:lnTo>
                    <a:pt x="251" y="87"/>
                  </a:lnTo>
                  <a:lnTo>
                    <a:pt x="297" y="103"/>
                  </a:lnTo>
                  <a:lnTo>
                    <a:pt x="351" y="113"/>
                  </a:lnTo>
                  <a:lnTo>
                    <a:pt x="407" y="113"/>
                  </a:lnTo>
                  <a:lnTo>
                    <a:pt x="459" y="103"/>
                  </a:lnTo>
                  <a:lnTo>
                    <a:pt x="506" y="87"/>
                  </a:lnTo>
                  <a:lnTo>
                    <a:pt x="546" y="65"/>
                  </a:lnTo>
                  <a:lnTo>
                    <a:pt x="580" y="40"/>
                  </a:lnTo>
                  <a:lnTo>
                    <a:pt x="604" y="20"/>
                  </a:lnTo>
                  <a:lnTo>
                    <a:pt x="620" y="6"/>
                  </a:lnTo>
                  <a:lnTo>
                    <a:pt x="626" y="0"/>
                  </a:lnTo>
                  <a:lnTo>
                    <a:pt x="674" y="8"/>
                  </a:lnTo>
                  <a:lnTo>
                    <a:pt x="672" y="10"/>
                  </a:lnTo>
                  <a:lnTo>
                    <a:pt x="668" y="16"/>
                  </a:lnTo>
                  <a:lnTo>
                    <a:pt x="660" y="24"/>
                  </a:lnTo>
                  <a:lnTo>
                    <a:pt x="648" y="36"/>
                  </a:lnTo>
                  <a:lnTo>
                    <a:pt x="634" y="49"/>
                  </a:lnTo>
                  <a:lnTo>
                    <a:pt x="618" y="63"/>
                  </a:lnTo>
                  <a:lnTo>
                    <a:pt x="600" y="79"/>
                  </a:lnTo>
                  <a:lnTo>
                    <a:pt x="578" y="93"/>
                  </a:lnTo>
                  <a:lnTo>
                    <a:pt x="554" y="109"/>
                  </a:lnTo>
                  <a:lnTo>
                    <a:pt x="530" y="121"/>
                  </a:lnTo>
                  <a:lnTo>
                    <a:pt x="502" y="136"/>
                  </a:lnTo>
                  <a:lnTo>
                    <a:pt x="473" y="144"/>
                  </a:lnTo>
                  <a:lnTo>
                    <a:pt x="443" y="152"/>
                  </a:lnTo>
                  <a:lnTo>
                    <a:pt x="409" y="156"/>
                  </a:lnTo>
                  <a:lnTo>
                    <a:pt x="377" y="156"/>
                  </a:lnTo>
                  <a:lnTo>
                    <a:pt x="341" y="152"/>
                  </a:lnTo>
                  <a:lnTo>
                    <a:pt x="287" y="140"/>
                  </a:lnTo>
                  <a:lnTo>
                    <a:pt x="241" y="123"/>
                  </a:lnTo>
                  <a:lnTo>
                    <a:pt x="202" y="105"/>
                  </a:lnTo>
                  <a:lnTo>
                    <a:pt x="170" y="87"/>
                  </a:lnTo>
                  <a:lnTo>
                    <a:pt x="144" y="69"/>
                  </a:lnTo>
                  <a:lnTo>
                    <a:pt x="124" y="55"/>
                  </a:lnTo>
                  <a:lnTo>
                    <a:pt x="114" y="47"/>
                  </a:lnTo>
                  <a:lnTo>
                    <a:pt x="110" y="42"/>
                  </a:lnTo>
                  <a:lnTo>
                    <a:pt x="106" y="44"/>
                  </a:lnTo>
                  <a:lnTo>
                    <a:pt x="96" y="49"/>
                  </a:lnTo>
                  <a:lnTo>
                    <a:pt x="84" y="57"/>
                  </a:lnTo>
                  <a:lnTo>
                    <a:pt x="68" y="67"/>
                  </a:lnTo>
                  <a:lnTo>
                    <a:pt x="56" y="79"/>
                  </a:lnTo>
                  <a:lnTo>
                    <a:pt x="48" y="85"/>
                  </a:lnTo>
                  <a:lnTo>
                    <a:pt x="44" y="89"/>
                  </a:lnTo>
                  <a:lnTo>
                    <a:pt x="44" y="91"/>
                  </a:lnTo>
                  <a:lnTo>
                    <a:pt x="48" y="101"/>
                  </a:lnTo>
                  <a:lnTo>
                    <a:pt x="62" y="125"/>
                  </a:lnTo>
                  <a:lnTo>
                    <a:pt x="84" y="160"/>
                  </a:lnTo>
                  <a:lnTo>
                    <a:pt x="114" y="202"/>
                  </a:lnTo>
                  <a:lnTo>
                    <a:pt x="154" y="245"/>
                  </a:lnTo>
                  <a:lnTo>
                    <a:pt x="202" y="285"/>
                  </a:lnTo>
                  <a:lnTo>
                    <a:pt x="257" y="318"/>
                  </a:lnTo>
                  <a:lnTo>
                    <a:pt x="321" y="338"/>
                  </a:lnTo>
                  <a:lnTo>
                    <a:pt x="357" y="344"/>
                  </a:lnTo>
                  <a:lnTo>
                    <a:pt x="393" y="346"/>
                  </a:lnTo>
                  <a:lnTo>
                    <a:pt x="425" y="346"/>
                  </a:lnTo>
                  <a:lnTo>
                    <a:pt x="457" y="344"/>
                  </a:lnTo>
                  <a:lnTo>
                    <a:pt x="486" y="340"/>
                  </a:lnTo>
                  <a:lnTo>
                    <a:pt x="512" y="334"/>
                  </a:lnTo>
                  <a:lnTo>
                    <a:pt x="538" y="326"/>
                  </a:lnTo>
                  <a:lnTo>
                    <a:pt x="562" y="320"/>
                  </a:lnTo>
                  <a:lnTo>
                    <a:pt x="582" y="312"/>
                  </a:lnTo>
                  <a:lnTo>
                    <a:pt x="600" y="304"/>
                  </a:lnTo>
                  <a:lnTo>
                    <a:pt x="616" y="295"/>
                  </a:lnTo>
                  <a:lnTo>
                    <a:pt x="628" y="289"/>
                  </a:lnTo>
                  <a:lnTo>
                    <a:pt x="638" y="281"/>
                  </a:lnTo>
                  <a:lnTo>
                    <a:pt x="646" y="277"/>
                  </a:lnTo>
                  <a:lnTo>
                    <a:pt x="650" y="275"/>
                  </a:lnTo>
                  <a:lnTo>
                    <a:pt x="652" y="273"/>
                  </a:lnTo>
                  <a:lnTo>
                    <a:pt x="666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6508800" y="1584360"/>
              <a:ext cx="334800" cy="492120"/>
            </a:xfrm>
            <a:custGeom>
              <a:avLst/>
              <a:gdLst/>
              <a:ahLst/>
              <a:rect l="l" t="t" r="r" b="b"/>
              <a:pathLst>
                <a:path w="695" h="1083">
                  <a:moveTo>
                    <a:pt x="117" y="563"/>
                  </a:moveTo>
                  <a:lnTo>
                    <a:pt x="52" y="905"/>
                  </a:lnTo>
                  <a:lnTo>
                    <a:pt x="56" y="907"/>
                  </a:lnTo>
                  <a:lnTo>
                    <a:pt x="64" y="911"/>
                  </a:lnTo>
                  <a:lnTo>
                    <a:pt x="81" y="917"/>
                  </a:lnTo>
                  <a:lnTo>
                    <a:pt x="105" y="927"/>
                  </a:lnTo>
                  <a:lnTo>
                    <a:pt x="135" y="939"/>
                  </a:lnTo>
                  <a:lnTo>
                    <a:pt x="175" y="953"/>
                  </a:lnTo>
                  <a:lnTo>
                    <a:pt x="225" y="968"/>
                  </a:lnTo>
                  <a:lnTo>
                    <a:pt x="283" y="986"/>
                  </a:lnTo>
                  <a:lnTo>
                    <a:pt x="344" y="1002"/>
                  </a:lnTo>
                  <a:lnTo>
                    <a:pt x="402" y="1014"/>
                  </a:lnTo>
                  <a:lnTo>
                    <a:pt x="456" y="1022"/>
                  </a:lnTo>
                  <a:lnTo>
                    <a:pt x="502" y="1028"/>
                  </a:lnTo>
                  <a:lnTo>
                    <a:pt x="540" y="1032"/>
                  </a:lnTo>
                  <a:lnTo>
                    <a:pt x="570" y="1034"/>
                  </a:lnTo>
                  <a:lnTo>
                    <a:pt x="587" y="1034"/>
                  </a:lnTo>
                  <a:lnTo>
                    <a:pt x="593" y="1034"/>
                  </a:lnTo>
                  <a:lnTo>
                    <a:pt x="595" y="1020"/>
                  </a:lnTo>
                  <a:lnTo>
                    <a:pt x="603" y="984"/>
                  </a:lnTo>
                  <a:lnTo>
                    <a:pt x="613" y="927"/>
                  </a:lnTo>
                  <a:lnTo>
                    <a:pt x="625" y="852"/>
                  </a:lnTo>
                  <a:lnTo>
                    <a:pt x="637" y="767"/>
                  </a:lnTo>
                  <a:lnTo>
                    <a:pt x="647" y="672"/>
                  </a:lnTo>
                  <a:lnTo>
                    <a:pt x="655" y="573"/>
                  </a:lnTo>
                  <a:lnTo>
                    <a:pt x="657" y="472"/>
                  </a:lnTo>
                  <a:lnTo>
                    <a:pt x="649" y="395"/>
                  </a:lnTo>
                  <a:lnTo>
                    <a:pt x="631" y="326"/>
                  </a:lnTo>
                  <a:lnTo>
                    <a:pt x="605" y="261"/>
                  </a:lnTo>
                  <a:lnTo>
                    <a:pt x="573" y="202"/>
                  </a:lnTo>
                  <a:lnTo>
                    <a:pt x="538" y="154"/>
                  </a:lnTo>
                  <a:lnTo>
                    <a:pt x="502" y="111"/>
                  </a:lnTo>
                  <a:lnTo>
                    <a:pt x="470" y="77"/>
                  </a:lnTo>
                  <a:lnTo>
                    <a:pt x="442" y="51"/>
                  </a:lnTo>
                  <a:lnTo>
                    <a:pt x="436" y="55"/>
                  </a:lnTo>
                  <a:lnTo>
                    <a:pt x="428" y="61"/>
                  </a:lnTo>
                  <a:lnTo>
                    <a:pt x="418" y="69"/>
                  </a:lnTo>
                  <a:lnTo>
                    <a:pt x="408" y="77"/>
                  </a:lnTo>
                  <a:lnTo>
                    <a:pt x="396" y="87"/>
                  </a:lnTo>
                  <a:lnTo>
                    <a:pt x="384" y="97"/>
                  </a:lnTo>
                  <a:lnTo>
                    <a:pt x="370" y="109"/>
                  </a:lnTo>
                  <a:lnTo>
                    <a:pt x="356" y="121"/>
                  </a:lnTo>
                  <a:lnTo>
                    <a:pt x="336" y="144"/>
                  </a:lnTo>
                  <a:lnTo>
                    <a:pt x="319" y="164"/>
                  </a:lnTo>
                  <a:lnTo>
                    <a:pt x="303" y="186"/>
                  </a:lnTo>
                  <a:lnTo>
                    <a:pt x="291" y="206"/>
                  </a:lnTo>
                  <a:lnTo>
                    <a:pt x="281" y="225"/>
                  </a:lnTo>
                  <a:lnTo>
                    <a:pt x="275" y="239"/>
                  </a:lnTo>
                  <a:lnTo>
                    <a:pt x="271" y="247"/>
                  </a:lnTo>
                  <a:lnTo>
                    <a:pt x="269" y="251"/>
                  </a:lnTo>
                  <a:lnTo>
                    <a:pt x="267" y="251"/>
                  </a:lnTo>
                  <a:lnTo>
                    <a:pt x="263" y="253"/>
                  </a:lnTo>
                  <a:lnTo>
                    <a:pt x="255" y="257"/>
                  </a:lnTo>
                  <a:lnTo>
                    <a:pt x="247" y="257"/>
                  </a:lnTo>
                  <a:lnTo>
                    <a:pt x="239" y="257"/>
                  </a:lnTo>
                  <a:lnTo>
                    <a:pt x="231" y="257"/>
                  </a:lnTo>
                  <a:lnTo>
                    <a:pt x="227" y="255"/>
                  </a:lnTo>
                  <a:lnTo>
                    <a:pt x="225" y="255"/>
                  </a:lnTo>
                  <a:lnTo>
                    <a:pt x="227" y="249"/>
                  </a:lnTo>
                  <a:lnTo>
                    <a:pt x="237" y="231"/>
                  </a:lnTo>
                  <a:lnTo>
                    <a:pt x="253" y="196"/>
                  </a:lnTo>
                  <a:lnTo>
                    <a:pt x="283" y="146"/>
                  </a:lnTo>
                  <a:lnTo>
                    <a:pt x="303" y="115"/>
                  </a:lnTo>
                  <a:lnTo>
                    <a:pt x="328" y="89"/>
                  </a:lnTo>
                  <a:lnTo>
                    <a:pt x="354" y="65"/>
                  </a:lnTo>
                  <a:lnTo>
                    <a:pt x="380" y="42"/>
                  </a:lnTo>
                  <a:lnTo>
                    <a:pt x="404" y="24"/>
                  </a:lnTo>
                  <a:lnTo>
                    <a:pt x="424" y="12"/>
                  </a:lnTo>
                  <a:lnTo>
                    <a:pt x="438" y="2"/>
                  </a:lnTo>
                  <a:lnTo>
                    <a:pt x="442" y="0"/>
                  </a:lnTo>
                  <a:lnTo>
                    <a:pt x="452" y="8"/>
                  </a:lnTo>
                  <a:lnTo>
                    <a:pt x="482" y="32"/>
                  </a:lnTo>
                  <a:lnTo>
                    <a:pt x="522" y="71"/>
                  </a:lnTo>
                  <a:lnTo>
                    <a:pt x="568" y="123"/>
                  </a:lnTo>
                  <a:lnTo>
                    <a:pt x="613" y="190"/>
                  </a:lnTo>
                  <a:lnTo>
                    <a:pt x="653" y="271"/>
                  </a:lnTo>
                  <a:lnTo>
                    <a:pt x="683" y="364"/>
                  </a:lnTo>
                  <a:lnTo>
                    <a:pt x="695" y="472"/>
                  </a:lnTo>
                  <a:lnTo>
                    <a:pt x="693" y="583"/>
                  </a:lnTo>
                  <a:lnTo>
                    <a:pt x="685" y="692"/>
                  </a:lnTo>
                  <a:lnTo>
                    <a:pt x="673" y="795"/>
                  </a:lnTo>
                  <a:lnTo>
                    <a:pt x="659" y="889"/>
                  </a:lnTo>
                  <a:lnTo>
                    <a:pt x="645" y="968"/>
                  </a:lnTo>
                  <a:lnTo>
                    <a:pt x="633" y="1028"/>
                  </a:lnTo>
                  <a:lnTo>
                    <a:pt x="625" y="1069"/>
                  </a:lnTo>
                  <a:lnTo>
                    <a:pt x="621" y="1083"/>
                  </a:lnTo>
                  <a:lnTo>
                    <a:pt x="619" y="1083"/>
                  </a:lnTo>
                  <a:lnTo>
                    <a:pt x="613" y="1083"/>
                  </a:lnTo>
                  <a:lnTo>
                    <a:pt x="605" y="1083"/>
                  </a:lnTo>
                  <a:lnTo>
                    <a:pt x="593" y="1083"/>
                  </a:lnTo>
                  <a:lnTo>
                    <a:pt x="579" y="1081"/>
                  </a:lnTo>
                  <a:lnTo>
                    <a:pt x="562" y="1081"/>
                  </a:lnTo>
                  <a:lnTo>
                    <a:pt x="542" y="1079"/>
                  </a:lnTo>
                  <a:lnTo>
                    <a:pt x="518" y="1077"/>
                  </a:lnTo>
                  <a:lnTo>
                    <a:pt x="494" y="1073"/>
                  </a:lnTo>
                  <a:lnTo>
                    <a:pt x="466" y="1069"/>
                  </a:lnTo>
                  <a:lnTo>
                    <a:pt x="438" y="1065"/>
                  </a:lnTo>
                  <a:lnTo>
                    <a:pt x="406" y="1061"/>
                  </a:lnTo>
                  <a:lnTo>
                    <a:pt x="374" y="1055"/>
                  </a:lnTo>
                  <a:lnTo>
                    <a:pt x="342" y="1046"/>
                  </a:lnTo>
                  <a:lnTo>
                    <a:pt x="309" y="1038"/>
                  </a:lnTo>
                  <a:lnTo>
                    <a:pt x="273" y="1028"/>
                  </a:lnTo>
                  <a:lnTo>
                    <a:pt x="207" y="1008"/>
                  </a:lnTo>
                  <a:lnTo>
                    <a:pt x="151" y="990"/>
                  </a:lnTo>
                  <a:lnTo>
                    <a:pt x="103" y="976"/>
                  </a:lnTo>
                  <a:lnTo>
                    <a:pt x="66" y="961"/>
                  </a:lnTo>
                  <a:lnTo>
                    <a:pt x="36" y="949"/>
                  </a:lnTo>
                  <a:lnTo>
                    <a:pt x="16" y="941"/>
                  </a:lnTo>
                  <a:lnTo>
                    <a:pt x="4" y="937"/>
                  </a:lnTo>
                  <a:lnTo>
                    <a:pt x="0" y="935"/>
                  </a:lnTo>
                  <a:lnTo>
                    <a:pt x="81" y="551"/>
                  </a:lnTo>
                  <a:lnTo>
                    <a:pt x="117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6576840" y="2036880"/>
              <a:ext cx="260640" cy="276120"/>
            </a:xfrm>
            <a:custGeom>
              <a:avLst/>
              <a:gdLst/>
              <a:ahLst/>
              <a:rect l="l" t="t" r="r" b="b"/>
              <a:pathLst>
                <a:path w="542" h="609">
                  <a:moveTo>
                    <a:pt x="193" y="530"/>
                  </a:moveTo>
                  <a:lnTo>
                    <a:pt x="0" y="530"/>
                  </a:lnTo>
                  <a:lnTo>
                    <a:pt x="135" y="477"/>
                  </a:lnTo>
                  <a:lnTo>
                    <a:pt x="137" y="443"/>
                  </a:lnTo>
                  <a:lnTo>
                    <a:pt x="141" y="360"/>
                  </a:lnTo>
                  <a:lnTo>
                    <a:pt x="145" y="255"/>
                  </a:lnTo>
                  <a:lnTo>
                    <a:pt x="151" y="158"/>
                  </a:lnTo>
                  <a:lnTo>
                    <a:pt x="157" y="87"/>
                  </a:lnTo>
                  <a:lnTo>
                    <a:pt x="165" y="36"/>
                  </a:lnTo>
                  <a:lnTo>
                    <a:pt x="173" y="8"/>
                  </a:lnTo>
                  <a:lnTo>
                    <a:pt x="175" y="0"/>
                  </a:lnTo>
                  <a:lnTo>
                    <a:pt x="452" y="54"/>
                  </a:lnTo>
                  <a:lnTo>
                    <a:pt x="458" y="54"/>
                  </a:lnTo>
                  <a:lnTo>
                    <a:pt x="474" y="52"/>
                  </a:lnTo>
                  <a:lnTo>
                    <a:pt x="488" y="52"/>
                  </a:lnTo>
                  <a:lnTo>
                    <a:pt x="494" y="54"/>
                  </a:lnTo>
                  <a:lnTo>
                    <a:pt x="528" y="62"/>
                  </a:lnTo>
                  <a:lnTo>
                    <a:pt x="528" y="95"/>
                  </a:lnTo>
                  <a:lnTo>
                    <a:pt x="530" y="180"/>
                  </a:lnTo>
                  <a:lnTo>
                    <a:pt x="534" y="291"/>
                  </a:lnTo>
                  <a:lnTo>
                    <a:pt x="536" y="405"/>
                  </a:lnTo>
                  <a:lnTo>
                    <a:pt x="540" y="498"/>
                  </a:lnTo>
                  <a:lnTo>
                    <a:pt x="542" y="560"/>
                  </a:lnTo>
                  <a:lnTo>
                    <a:pt x="542" y="597"/>
                  </a:lnTo>
                  <a:lnTo>
                    <a:pt x="542" y="609"/>
                  </a:lnTo>
                  <a:lnTo>
                    <a:pt x="57" y="609"/>
                  </a:lnTo>
                  <a:lnTo>
                    <a:pt x="191" y="556"/>
                  </a:lnTo>
                  <a:lnTo>
                    <a:pt x="191" y="554"/>
                  </a:lnTo>
                  <a:lnTo>
                    <a:pt x="191" y="548"/>
                  </a:lnTo>
                  <a:lnTo>
                    <a:pt x="191" y="540"/>
                  </a:lnTo>
                  <a:lnTo>
                    <a:pt x="193" y="5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6664320" y="1909800"/>
              <a:ext cx="108000" cy="63360"/>
            </a:xfrm>
            <a:custGeom>
              <a:avLst/>
              <a:gdLst/>
              <a:ahLst/>
              <a:rect l="l" t="t" r="r" b="b"/>
              <a:pathLst>
                <a:path w="223" h="140">
                  <a:moveTo>
                    <a:pt x="203" y="140"/>
                  </a:moveTo>
                  <a:lnTo>
                    <a:pt x="201" y="140"/>
                  </a:lnTo>
                  <a:lnTo>
                    <a:pt x="197" y="138"/>
                  </a:lnTo>
                  <a:lnTo>
                    <a:pt x="187" y="136"/>
                  </a:lnTo>
                  <a:lnTo>
                    <a:pt x="177" y="132"/>
                  </a:lnTo>
                  <a:lnTo>
                    <a:pt x="164" y="128"/>
                  </a:lnTo>
                  <a:lnTo>
                    <a:pt x="146" y="122"/>
                  </a:lnTo>
                  <a:lnTo>
                    <a:pt x="128" y="114"/>
                  </a:lnTo>
                  <a:lnTo>
                    <a:pt x="106" y="106"/>
                  </a:lnTo>
                  <a:lnTo>
                    <a:pt x="84" y="96"/>
                  </a:lnTo>
                  <a:lnTo>
                    <a:pt x="64" y="86"/>
                  </a:lnTo>
                  <a:lnTo>
                    <a:pt x="46" y="75"/>
                  </a:lnTo>
                  <a:lnTo>
                    <a:pt x="30" y="65"/>
                  </a:lnTo>
                  <a:lnTo>
                    <a:pt x="18" y="57"/>
                  </a:lnTo>
                  <a:lnTo>
                    <a:pt x="8" y="49"/>
                  </a:lnTo>
                  <a:lnTo>
                    <a:pt x="2" y="45"/>
                  </a:lnTo>
                  <a:lnTo>
                    <a:pt x="0" y="43"/>
                  </a:lnTo>
                  <a:lnTo>
                    <a:pt x="20" y="0"/>
                  </a:lnTo>
                  <a:lnTo>
                    <a:pt x="22" y="3"/>
                  </a:lnTo>
                  <a:lnTo>
                    <a:pt x="28" y="7"/>
                  </a:lnTo>
                  <a:lnTo>
                    <a:pt x="38" y="15"/>
                  </a:lnTo>
                  <a:lnTo>
                    <a:pt x="50" y="23"/>
                  </a:lnTo>
                  <a:lnTo>
                    <a:pt x="64" y="33"/>
                  </a:lnTo>
                  <a:lnTo>
                    <a:pt x="82" y="43"/>
                  </a:lnTo>
                  <a:lnTo>
                    <a:pt x="102" y="53"/>
                  </a:lnTo>
                  <a:lnTo>
                    <a:pt x="124" y="63"/>
                  </a:lnTo>
                  <a:lnTo>
                    <a:pt x="146" y="71"/>
                  </a:lnTo>
                  <a:lnTo>
                    <a:pt x="164" y="79"/>
                  </a:lnTo>
                  <a:lnTo>
                    <a:pt x="181" y="86"/>
                  </a:lnTo>
                  <a:lnTo>
                    <a:pt x="195" y="90"/>
                  </a:lnTo>
                  <a:lnTo>
                    <a:pt x="207" y="94"/>
                  </a:lnTo>
                  <a:lnTo>
                    <a:pt x="215" y="96"/>
                  </a:lnTo>
                  <a:lnTo>
                    <a:pt x="221" y="98"/>
                  </a:lnTo>
                  <a:lnTo>
                    <a:pt x="223" y="98"/>
                  </a:lnTo>
                  <a:lnTo>
                    <a:pt x="203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6624720" y="1447920"/>
              <a:ext cx="180720" cy="152280"/>
            </a:xfrm>
            <a:custGeom>
              <a:avLst/>
              <a:gdLst/>
              <a:ahLst/>
              <a:rect l="l" t="t" r="r" b="b"/>
              <a:pathLst>
                <a:path w="377" h="336">
                  <a:moveTo>
                    <a:pt x="249" y="4"/>
                  </a:moveTo>
                  <a:lnTo>
                    <a:pt x="226" y="0"/>
                  </a:lnTo>
                  <a:lnTo>
                    <a:pt x="200" y="0"/>
                  </a:lnTo>
                  <a:lnTo>
                    <a:pt x="176" y="2"/>
                  </a:lnTo>
                  <a:lnTo>
                    <a:pt x="154" y="10"/>
                  </a:lnTo>
                  <a:lnTo>
                    <a:pt x="132" y="21"/>
                  </a:lnTo>
                  <a:lnTo>
                    <a:pt x="112" y="33"/>
                  </a:lnTo>
                  <a:lnTo>
                    <a:pt x="94" y="49"/>
                  </a:lnTo>
                  <a:lnTo>
                    <a:pt x="78" y="67"/>
                  </a:lnTo>
                  <a:lnTo>
                    <a:pt x="78" y="65"/>
                  </a:lnTo>
                  <a:lnTo>
                    <a:pt x="0" y="183"/>
                  </a:lnTo>
                  <a:lnTo>
                    <a:pt x="46" y="189"/>
                  </a:lnTo>
                  <a:lnTo>
                    <a:pt x="50" y="213"/>
                  </a:lnTo>
                  <a:lnTo>
                    <a:pt x="60" y="237"/>
                  </a:lnTo>
                  <a:lnTo>
                    <a:pt x="70" y="259"/>
                  </a:lnTo>
                  <a:lnTo>
                    <a:pt x="86" y="280"/>
                  </a:lnTo>
                  <a:lnTo>
                    <a:pt x="104" y="298"/>
                  </a:lnTo>
                  <a:lnTo>
                    <a:pt x="124" y="312"/>
                  </a:lnTo>
                  <a:lnTo>
                    <a:pt x="146" y="324"/>
                  </a:lnTo>
                  <a:lnTo>
                    <a:pt x="172" y="332"/>
                  </a:lnTo>
                  <a:lnTo>
                    <a:pt x="206" y="336"/>
                  </a:lnTo>
                  <a:lnTo>
                    <a:pt x="238" y="334"/>
                  </a:lnTo>
                  <a:lnTo>
                    <a:pt x="269" y="326"/>
                  </a:lnTo>
                  <a:lnTo>
                    <a:pt x="297" y="312"/>
                  </a:lnTo>
                  <a:lnTo>
                    <a:pt x="323" y="294"/>
                  </a:lnTo>
                  <a:lnTo>
                    <a:pt x="345" y="270"/>
                  </a:lnTo>
                  <a:lnTo>
                    <a:pt x="361" y="241"/>
                  </a:lnTo>
                  <a:lnTo>
                    <a:pt x="373" y="209"/>
                  </a:lnTo>
                  <a:lnTo>
                    <a:pt x="377" y="174"/>
                  </a:lnTo>
                  <a:lnTo>
                    <a:pt x="375" y="142"/>
                  </a:lnTo>
                  <a:lnTo>
                    <a:pt x="367" y="110"/>
                  </a:lnTo>
                  <a:lnTo>
                    <a:pt x="353" y="81"/>
                  </a:lnTo>
                  <a:lnTo>
                    <a:pt x="333" y="55"/>
                  </a:lnTo>
                  <a:lnTo>
                    <a:pt x="309" y="33"/>
                  </a:lnTo>
                  <a:lnTo>
                    <a:pt x="281" y="17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6880320" y="1554120"/>
              <a:ext cx="233280" cy="123840"/>
            </a:xfrm>
            <a:custGeom>
              <a:avLst/>
              <a:gdLst/>
              <a:ahLst/>
              <a:rect l="l" t="t" r="r" b="b"/>
              <a:pathLst>
                <a:path w="484" h="271">
                  <a:moveTo>
                    <a:pt x="452" y="111"/>
                  </a:moveTo>
                  <a:lnTo>
                    <a:pt x="438" y="97"/>
                  </a:lnTo>
                  <a:lnTo>
                    <a:pt x="426" y="85"/>
                  </a:lnTo>
                  <a:lnTo>
                    <a:pt x="414" y="77"/>
                  </a:lnTo>
                  <a:lnTo>
                    <a:pt x="402" y="71"/>
                  </a:lnTo>
                  <a:lnTo>
                    <a:pt x="390" y="67"/>
                  </a:lnTo>
                  <a:lnTo>
                    <a:pt x="378" y="65"/>
                  </a:lnTo>
                  <a:lnTo>
                    <a:pt x="367" y="63"/>
                  </a:lnTo>
                  <a:lnTo>
                    <a:pt x="355" y="61"/>
                  </a:lnTo>
                  <a:lnTo>
                    <a:pt x="343" y="63"/>
                  </a:lnTo>
                  <a:lnTo>
                    <a:pt x="331" y="69"/>
                  </a:lnTo>
                  <a:lnTo>
                    <a:pt x="319" y="81"/>
                  </a:lnTo>
                  <a:lnTo>
                    <a:pt x="307" y="95"/>
                  </a:lnTo>
                  <a:lnTo>
                    <a:pt x="4" y="0"/>
                  </a:lnTo>
                  <a:lnTo>
                    <a:pt x="0" y="12"/>
                  </a:lnTo>
                  <a:lnTo>
                    <a:pt x="297" y="114"/>
                  </a:lnTo>
                  <a:lnTo>
                    <a:pt x="291" y="126"/>
                  </a:lnTo>
                  <a:lnTo>
                    <a:pt x="289" y="138"/>
                  </a:lnTo>
                  <a:lnTo>
                    <a:pt x="285" y="150"/>
                  </a:lnTo>
                  <a:lnTo>
                    <a:pt x="285" y="162"/>
                  </a:lnTo>
                  <a:lnTo>
                    <a:pt x="293" y="182"/>
                  </a:lnTo>
                  <a:lnTo>
                    <a:pt x="311" y="188"/>
                  </a:lnTo>
                  <a:lnTo>
                    <a:pt x="329" y="188"/>
                  </a:lnTo>
                  <a:lnTo>
                    <a:pt x="337" y="188"/>
                  </a:lnTo>
                  <a:lnTo>
                    <a:pt x="337" y="197"/>
                  </a:lnTo>
                  <a:lnTo>
                    <a:pt x="337" y="215"/>
                  </a:lnTo>
                  <a:lnTo>
                    <a:pt x="337" y="235"/>
                  </a:lnTo>
                  <a:lnTo>
                    <a:pt x="343" y="249"/>
                  </a:lnTo>
                  <a:lnTo>
                    <a:pt x="353" y="257"/>
                  </a:lnTo>
                  <a:lnTo>
                    <a:pt x="365" y="263"/>
                  </a:lnTo>
                  <a:lnTo>
                    <a:pt x="376" y="269"/>
                  </a:lnTo>
                  <a:lnTo>
                    <a:pt x="380" y="271"/>
                  </a:lnTo>
                  <a:lnTo>
                    <a:pt x="384" y="267"/>
                  </a:lnTo>
                  <a:lnTo>
                    <a:pt x="394" y="257"/>
                  </a:lnTo>
                  <a:lnTo>
                    <a:pt x="408" y="243"/>
                  </a:lnTo>
                  <a:lnTo>
                    <a:pt x="426" y="229"/>
                  </a:lnTo>
                  <a:lnTo>
                    <a:pt x="446" y="217"/>
                  </a:lnTo>
                  <a:lnTo>
                    <a:pt x="464" y="209"/>
                  </a:lnTo>
                  <a:lnTo>
                    <a:pt x="478" y="205"/>
                  </a:lnTo>
                  <a:lnTo>
                    <a:pt x="484" y="205"/>
                  </a:lnTo>
                  <a:lnTo>
                    <a:pt x="484" y="197"/>
                  </a:lnTo>
                  <a:lnTo>
                    <a:pt x="480" y="174"/>
                  </a:lnTo>
                  <a:lnTo>
                    <a:pt x="472" y="144"/>
                  </a:lnTo>
                  <a:lnTo>
                    <a:pt x="452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7297560" y="2141640"/>
              <a:ext cx="254160" cy="446040"/>
              <a:chOff x="7297560" y="2141640"/>
              <a:chExt cx="254160" cy="44604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7297560" y="2281320"/>
                <a:ext cx="254160" cy="306360"/>
                <a:chOff x="7297560" y="2281320"/>
                <a:chExt cx="254160" cy="30636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7342200" y="2281320"/>
                  <a:ext cx="168120" cy="60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ff"/>
                    </a:gs>
                    <a:gs pos="50000">
                      <a:srgbClr val="002f75"/>
                    </a:gs>
                    <a:gs pos="100000">
                      <a:srgbClr val="00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7297560" y="2324160"/>
                  <a:ext cx="254160" cy="263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6633"/>
                    </a:gs>
                    <a:gs pos="100000">
                      <a:srgbClr val="281a0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297560" y="2282760"/>
                  <a:ext cx="88920" cy="103320"/>
                </a:xfrm>
                <a:custGeom>
                  <a:avLst/>
                  <a:gdLst>
                    <a:gd name="textAreaLeft" fmla="*/ 0 w 88920"/>
                    <a:gd name="textAreaRight" fmla="*/ 44280 w 88920"/>
                    <a:gd name="textAreaTop" fmla="*/ 0 h 103320"/>
                    <a:gd name="textAreaBottom" fmla="*/ 51480 h 10332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3" y="10525"/>
                      </a:moveTo>
                      <a:arcTo wR="10800" hR="10800" stAng="-10712550" swAng="520598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" y="10525"/>
                      </a:moveTo>
                      <a:arcTo wR="10800" hR="10800" stAng="-10712550" swAng="5205987"/>
                    </a:path>
                  </a:pathLst>
                </a:custGeom>
                <a:gradFill rotWithShape="0">
                  <a:gsLst>
                    <a:gs pos="0">
                      <a:srgbClr val="996633"/>
                    </a:gs>
                    <a:gs pos="100000">
                      <a:srgbClr val="281a0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461360" y="2282760"/>
                  <a:ext cx="90360" cy="104760"/>
                </a:xfrm>
                <a:custGeom>
                  <a:avLst/>
                  <a:gdLst>
                    <a:gd name="textAreaLeft" fmla="*/ 44280 w 90360"/>
                    <a:gd name="textAreaRight" fmla="*/ 90360 w 90360"/>
                    <a:gd name="textAreaTop" fmla="*/ 0 h 104760"/>
                    <a:gd name="textAreaBottom" fmla="*/ 52200 h 10476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10635" y="1"/>
                      </a:moveTo>
                      <a:arcTo wR="10800" hR="10800" stAng="-5452549" swAng="53636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35" y="1"/>
                      </a:moveTo>
                      <a:arcTo wR="10800" hR="10800" stAng="-5452549" swAng="5363615"/>
                    </a:path>
                  </a:pathLst>
                </a:custGeom>
                <a:gradFill rotWithShape="0">
                  <a:gsLst>
                    <a:gs pos="0">
                      <a:srgbClr val="996633"/>
                    </a:gs>
                    <a:gs pos="100000">
                      <a:srgbClr val="281a0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48" name=""/>
              <p:cNvSpPr/>
              <p:nvPr/>
            </p:nvSpPr>
            <p:spPr>
              <a:xfrm>
                <a:off x="7356600" y="2141640"/>
                <a:ext cx="134640" cy="123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7031160" y="2017800"/>
              <a:ext cx="257040" cy="446040"/>
              <a:chOff x="7031160" y="2017800"/>
              <a:chExt cx="257040" cy="44604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7031160" y="2157480"/>
                <a:ext cx="257040" cy="306360"/>
                <a:chOff x="7031160" y="2157480"/>
                <a:chExt cx="257040" cy="30636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7075440" y="2157480"/>
                  <a:ext cx="169920" cy="6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ff"/>
                    </a:gs>
                    <a:gs pos="50000">
                      <a:srgbClr val="002f75"/>
                    </a:gs>
                    <a:gs pos="100000">
                      <a:srgbClr val="00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031160" y="2200320"/>
                  <a:ext cx="255600" cy="263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6633"/>
                    </a:gs>
                    <a:gs pos="100000">
                      <a:srgbClr val="281a0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032600" y="2157480"/>
                  <a:ext cx="88920" cy="102960"/>
                </a:xfrm>
                <a:custGeom>
                  <a:avLst/>
                  <a:gdLst>
                    <a:gd name="textAreaLeft" fmla="*/ 0 w 88920"/>
                    <a:gd name="textAreaRight" fmla="*/ 44280 w 88920"/>
                    <a:gd name="textAreaTop" fmla="*/ 0 h 102960"/>
                    <a:gd name="textAreaBottom" fmla="*/ 51480 h 10296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1" y="10663"/>
                      </a:moveTo>
                      <a:arcTo wR="10800" hR="10800" stAng="-10756268" swAng="530297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" y="10663"/>
                      </a:moveTo>
                      <a:arcTo wR="10800" hR="10800" stAng="-10756268" swAng="5302974"/>
                    </a:path>
                  </a:pathLst>
                </a:custGeom>
                <a:gradFill rotWithShape="0">
                  <a:gsLst>
                    <a:gs pos="0">
                      <a:srgbClr val="996633"/>
                    </a:gs>
                    <a:gs pos="100000">
                      <a:srgbClr val="281a0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197840" y="2157480"/>
                  <a:ext cx="90360" cy="104760"/>
                </a:xfrm>
                <a:custGeom>
                  <a:avLst/>
                  <a:gdLst>
                    <a:gd name="textAreaLeft" fmla="*/ 43560 w 90360"/>
                    <a:gd name="textAreaRight" fmla="*/ 90360 w 90360"/>
                    <a:gd name="textAreaTop" fmla="*/ 0 h 104760"/>
                    <a:gd name="textAreaBottom" fmla="*/ 52200 h 10476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10472" y="5"/>
                      </a:moveTo>
                      <a:arcTo wR="10800" hR="10800" stAng="-5504273" swAng="546014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472" y="5"/>
                      </a:moveTo>
                      <a:arcTo wR="10800" hR="10800" stAng="-5504273" swAng="5460146"/>
                    </a:path>
                  </a:pathLst>
                </a:custGeom>
                <a:gradFill rotWithShape="0">
                  <a:gsLst>
                    <a:gs pos="0">
                      <a:srgbClr val="996633"/>
                    </a:gs>
                    <a:gs pos="100000">
                      <a:srgbClr val="281a0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5" name=""/>
              <p:cNvSpPr/>
              <p:nvPr/>
            </p:nvSpPr>
            <p:spPr>
              <a:xfrm>
                <a:off x="7089840" y="2017800"/>
                <a:ext cx="136440" cy="123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6254640" y="2017800"/>
              <a:ext cx="255600" cy="446040"/>
              <a:chOff x="6254640" y="2017800"/>
              <a:chExt cx="255600" cy="446040"/>
            </a:xfrm>
          </p:grpSpPr>
          <p:grpSp>
            <p:nvGrpSpPr>
              <p:cNvPr id="157" name=""/>
              <p:cNvGrpSpPr/>
              <p:nvPr/>
            </p:nvGrpSpPr>
            <p:grpSpPr>
              <a:xfrm>
                <a:off x="6254640" y="2157480"/>
                <a:ext cx="255600" cy="306360"/>
                <a:chOff x="6254640" y="2157480"/>
                <a:chExt cx="255600" cy="30636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6299280" y="2157480"/>
                  <a:ext cx="168120" cy="6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ff"/>
                    </a:gs>
                    <a:gs pos="50000">
                      <a:srgbClr val="002f75"/>
                    </a:gs>
                    <a:gs pos="100000">
                      <a:srgbClr val="00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254640" y="2200320"/>
                  <a:ext cx="255600" cy="263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6633"/>
                    </a:gs>
                    <a:gs pos="100000">
                      <a:srgbClr val="281a0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254640" y="2157480"/>
                  <a:ext cx="90720" cy="102960"/>
                </a:xfrm>
                <a:custGeom>
                  <a:avLst/>
                  <a:gdLst>
                    <a:gd name="textAreaLeft" fmla="*/ 0 w 90720"/>
                    <a:gd name="textAreaRight" fmla="*/ 45360 w 90720"/>
                    <a:gd name="textAreaTop" fmla="*/ 0 h 102960"/>
                    <a:gd name="textAreaBottom" fmla="*/ 51480 h 10296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1" y="10662"/>
                      </a:moveTo>
                      <a:arcTo wR="10800" hR="10800" stAng="-10755928" swAng="52501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" y="10662"/>
                      </a:moveTo>
                      <a:arcTo wR="10800" hR="10800" stAng="-10755928" swAng="5250185"/>
                    </a:path>
                  </a:pathLst>
                </a:custGeom>
                <a:gradFill rotWithShape="0">
                  <a:gsLst>
                    <a:gs pos="0">
                      <a:srgbClr val="996633"/>
                    </a:gs>
                    <a:gs pos="100000">
                      <a:srgbClr val="281a0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416640" y="2157480"/>
                  <a:ext cx="92160" cy="104760"/>
                </a:xfrm>
                <a:custGeom>
                  <a:avLst/>
                  <a:gdLst>
                    <a:gd name="textAreaLeft" fmla="*/ 46080 w 92160"/>
                    <a:gd name="textAreaRight" fmla="*/ 92160 w 92160"/>
                    <a:gd name="textAreaTop" fmla="*/ 0 h 104760"/>
                    <a:gd name="textAreaBottom" fmla="*/ 52200 h 10476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5620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56209"/>
                    </a:path>
                  </a:pathLst>
                </a:custGeom>
                <a:gradFill rotWithShape="0">
                  <a:gsLst>
                    <a:gs pos="0">
                      <a:srgbClr val="996633"/>
                    </a:gs>
                    <a:gs pos="100000">
                      <a:srgbClr val="281a0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2" name=""/>
              <p:cNvSpPr/>
              <p:nvPr/>
            </p:nvSpPr>
            <p:spPr>
              <a:xfrm>
                <a:off x="6313320" y="2017800"/>
                <a:ext cx="135000" cy="123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5978520" y="2141640"/>
              <a:ext cx="255600" cy="446040"/>
              <a:chOff x="5978520" y="2141640"/>
              <a:chExt cx="255600" cy="446040"/>
            </a:xfrm>
          </p:grpSpPr>
          <p:sp>
            <p:nvSpPr>
              <p:cNvPr id="164" name=""/>
              <p:cNvSpPr/>
              <p:nvPr/>
            </p:nvSpPr>
            <p:spPr>
              <a:xfrm>
                <a:off x="6039000" y="2141640"/>
                <a:ext cx="134640" cy="123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5978520" y="2281320"/>
                <a:ext cx="255600" cy="306360"/>
                <a:chOff x="5978520" y="2281320"/>
                <a:chExt cx="255600" cy="30636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6022800" y="2281320"/>
                  <a:ext cx="168480" cy="60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ff"/>
                    </a:gs>
                    <a:gs pos="50000">
                      <a:srgbClr val="002f75"/>
                    </a:gs>
                    <a:gs pos="100000">
                      <a:srgbClr val="00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978520" y="2324160"/>
                  <a:ext cx="255600" cy="263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6633"/>
                    </a:gs>
                    <a:gs pos="100000">
                      <a:srgbClr val="281a0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5979960" y="2282760"/>
                  <a:ext cx="92160" cy="103320"/>
                </a:xfrm>
                <a:custGeom>
                  <a:avLst/>
                  <a:gdLst>
                    <a:gd name="textAreaLeft" fmla="*/ 0 w 92160"/>
                    <a:gd name="textAreaRight" fmla="*/ 46080 w 92160"/>
                    <a:gd name="textAreaTop" fmla="*/ 0 h 103320"/>
                    <a:gd name="textAreaBottom" fmla="*/ 51480 h 10332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4" y="10523"/>
                      </a:moveTo>
                      <a:arcTo wR="10800" hR="10800" stAng="-10711872" swAng="52589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" y="10523"/>
                      </a:moveTo>
                      <a:arcTo wR="10800" hR="10800" stAng="-10711872" swAng="5258988"/>
                    </a:path>
                  </a:pathLst>
                </a:custGeom>
                <a:gradFill rotWithShape="0">
                  <a:gsLst>
                    <a:gs pos="0">
                      <a:srgbClr val="996633"/>
                    </a:gs>
                    <a:gs pos="100000">
                      <a:srgbClr val="281a0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143760" y="2282760"/>
                  <a:ext cx="90360" cy="104760"/>
                </a:xfrm>
                <a:custGeom>
                  <a:avLst/>
                  <a:gdLst>
                    <a:gd name="textAreaLeft" fmla="*/ 44280 w 90360"/>
                    <a:gd name="textAreaRight" fmla="*/ 90360 w 90360"/>
                    <a:gd name="textAreaTop" fmla="*/ 0 h 104760"/>
                    <a:gd name="textAreaBottom" fmla="*/ 52200 h 10476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10635" y="1"/>
                      </a:moveTo>
                      <a:arcTo wR="10800" hR="10800" stAng="-5452549" swAng="53636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35" y="1"/>
                      </a:moveTo>
                      <a:arcTo wR="10800" hR="10800" stAng="-5452549" swAng="5363615"/>
                    </a:path>
                  </a:pathLst>
                </a:custGeom>
                <a:gradFill rotWithShape="0">
                  <a:gsLst>
                    <a:gs pos="0">
                      <a:srgbClr val="996633"/>
                    </a:gs>
                    <a:gs pos="100000">
                      <a:srgbClr val="281a0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</p:grpSp>
        <p:sp>
          <p:nvSpPr>
            <p:cNvPr id="170" name=""/>
            <p:cNvSpPr/>
            <p:nvPr/>
          </p:nvSpPr>
          <p:spPr>
            <a:xfrm>
              <a:off x="5959440" y="2146320"/>
              <a:ext cx="1603440" cy="441360"/>
            </a:xfr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6448320" y="2200320"/>
              <a:ext cx="255600" cy="449280"/>
              <a:chOff x="6448320" y="2200320"/>
              <a:chExt cx="255600" cy="449280"/>
            </a:xfrm>
          </p:grpSpPr>
          <p:sp>
            <p:nvSpPr>
              <p:cNvPr id="172" name=""/>
              <p:cNvSpPr/>
              <p:nvPr/>
            </p:nvSpPr>
            <p:spPr>
              <a:xfrm>
                <a:off x="6507000" y="2200320"/>
                <a:ext cx="135000" cy="123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grpSp>
            <p:nvGrpSpPr>
              <p:cNvPr id="173" name=""/>
              <p:cNvGrpSpPr/>
              <p:nvPr/>
            </p:nvGrpSpPr>
            <p:grpSpPr>
              <a:xfrm>
                <a:off x="6448320" y="2343240"/>
                <a:ext cx="255600" cy="306360"/>
                <a:chOff x="6448320" y="2343240"/>
                <a:chExt cx="255600" cy="30636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6492960" y="2343240"/>
                  <a:ext cx="168120" cy="60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ff"/>
                    </a:gs>
                    <a:gs pos="50000">
                      <a:srgbClr val="002f75"/>
                    </a:gs>
                    <a:gs pos="100000">
                      <a:srgbClr val="00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6448320" y="2386080"/>
                  <a:ext cx="255600" cy="263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6633"/>
                    </a:gs>
                    <a:gs pos="100000">
                      <a:srgbClr val="281a0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448320" y="2343240"/>
                  <a:ext cx="92160" cy="102960"/>
                </a:xfrm>
                <a:custGeom>
                  <a:avLst/>
                  <a:gdLst>
                    <a:gd name="textAreaLeft" fmla="*/ 0 w 92160"/>
                    <a:gd name="textAreaRight" fmla="*/ 46080 w 92160"/>
                    <a:gd name="textAreaTop" fmla="*/ 0 h 102960"/>
                    <a:gd name="textAreaBottom" fmla="*/ 51480 h 10296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4" y="10523"/>
                      </a:moveTo>
                      <a:arcTo wR="10800" hR="10800" stAng="-10711872" swAng="52589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" y="10523"/>
                      </a:moveTo>
                      <a:arcTo wR="10800" hR="10800" stAng="-10711872" swAng="5258988"/>
                    </a:path>
                  </a:pathLst>
                </a:custGeom>
                <a:gradFill rotWithShape="0">
                  <a:gsLst>
                    <a:gs pos="0">
                      <a:srgbClr val="996633"/>
                    </a:gs>
                    <a:gs pos="100000">
                      <a:srgbClr val="281a0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611760" y="2344680"/>
                  <a:ext cx="90720" cy="104760"/>
                </a:xfrm>
                <a:custGeom>
                  <a:avLst/>
                  <a:gdLst>
                    <a:gd name="textAreaLeft" fmla="*/ 44640 w 90720"/>
                    <a:gd name="textAreaRight" fmla="*/ 90720 w 90720"/>
                    <a:gd name="textAreaTop" fmla="*/ 0 h 104760"/>
                    <a:gd name="textAreaBottom" fmla="*/ 52200 h 10476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10635" y="1"/>
                      </a:moveTo>
                      <a:arcTo wR="10800" hR="10800" stAng="-5452549" swAng="53636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35" y="1"/>
                      </a:moveTo>
                      <a:arcTo wR="10800" hR="10800" stAng="-5452549" swAng="5363615"/>
                    </a:path>
                  </a:pathLst>
                </a:custGeom>
                <a:gradFill rotWithShape="0">
                  <a:gsLst>
                    <a:gs pos="0">
                      <a:srgbClr val="996633"/>
                    </a:gs>
                    <a:gs pos="100000">
                      <a:srgbClr val="281a0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6783480" y="2200320"/>
              <a:ext cx="255600" cy="449280"/>
              <a:chOff x="6783480" y="2200320"/>
              <a:chExt cx="255600" cy="449280"/>
            </a:xfrm>
          </p:grpSpPr>
          <p:sp>
            <p:nvSpPr>
              <p:cNvPr id="179" name=""/>
              <p:cNvSpPr/>
              <p:nvPr/>
            </p:nvSpPr>
            <p:spPr>
              <a:xfrm>
                <a:off x="6842160" y="2200320"/>
                <a:ext cx="135000" cy="123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6783480" y="2343240"/>
                <a:ext cx="255600" cy="306360"/>
                <a:chOff x="6783480" y="2343240"/>
                <a:chExt cx="255600" cy="30636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6827760" y="2343240"/>
                  <a:ext cx="168480" cy="60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ff"/>
                    </a:gs>
                    <a:gs pos="50000">
                      <a:srgbClr val="002f75"/>
                    </a:gs>
                    <a:gs pos="100000">
                      <a:srgbClr val="00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6783480" y="2386080"/>
                  <a:ext cx="255600" cy="263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6633"/>
                    </a:gs>
                    <a:gs pos="100000">
                      <a:srgbClr val="281a0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6783480" y="2343240"/>
                  <a:ext cx="92160" cy="102960"/>
                </a:xfrm>
                <a:custGeom>
                  <a:avLst/>
                  <a:gdLst>
                    <a:gd name="textAreaLeft" fmla="*/ 0 w 92160"/>
                    <a:gd name="textAreaRight" fmla="*/ 46080 w 92160"/>
                    <a:gd name="textAreaTop" fmla="*/ 0 h 102960"/>
                    <a:gd name="textAreaBottom" fmla="*/ 51480 h 10296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4" y="10523"/>
                      </a:moveTo>
                      <a:arcTo wR="10800" hR="10800" stAng="-10711872" swAng="52589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" y="10523"/>
                      </a:moveTo>
                      <a:arcTo wR="10800" hR="10800" stAng="-10711872" swAng="5258988"/>
                    </a:path>
                  </a:pathLst>
                </a:custGeom>
                <a:gradFill rotWithShape="0">
                  <a:gsLst>
                    <a:gs pos="0">
                      <a:srgbClr val="996633"/>
                    </a:gs>
                    <a:gs pos="100000">
                      <a:srgbClr val="281a0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6946920" y="2344680"/>
                  <a:ext cx="90360" cy="104760"/>
                </a:xfrm>
                <a:custGeom>
                  <a:avLst/>
                  <a:gdLst>
                    <a:gd name="textAreaLeft" fmla="*/ 44280 w 90360"/>
                    <a:gd name="textAreaRight" fmla="*/ 90360 w 90360"/>
                    <a:gd name="textAreaTop" fmla="*/ 0 h 104760"/>
                    <a:gd name="textAreaBottom" fmla="*/ 52200 h 10476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10635" y="1"/>
                      </a:moveTo>
                      <a:arcTo wR="10800" hR="10800" stAng="-5452549" swAng="53636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35" y="1"/>
                      </a:moveTo>
                      <a:arcTo wR="10800" hR="10800" stAng="-5452549" swAng="5363615"/>
                    </a:path>
                  </a:pathLst>
                </a:custGeom>
                <a:gradFill rotWithShape="0">
                  <a:gsLst>
                    <a:gs pos="0">
                      <a:srgbClr val="996633"/>
                    </a:gs>
                    <a:gs pos="100000">
                      <a:srgbClr val="281a0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185" name=""/>
            <p:cNvGrpSpPr/>
            <p:nvPr/>
          </p:nvGrpSpPr>
          <p:grpSpPr>
            <a:xfrm>
              <a:off x="7085160" y="2297160"/>
              <a:ext cx="255600" cy="446040"/>
              <a:chOff x="7085160" y="2297160"/>
              <a:chExt cx="255600" cy="446040"/>
            </a:xfrm>
          </p:grpSpPr>
          <p:sp>
            <p:nvSpPr>
              <p:cNvPr id="186" name=""/>
              <p:cNvSpPr/>
              <p:nvPr/>
            </p:nvSpPr>
            <p:spPr>
              <a:xfrm>
                <a:off x="7143840" y="2297160"/>
                <a:ext cx="135000" cy="123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grpSp>
            <p:nvGrpSpPr>
              <p:cNvPr id="187" name=""/>
              <p:cNvGrpSpPr/>
              <p:nvPr/>
            </p:nvGrpSpPr>
            <p:grpSpPr>
              <a:xfrm>
                <a:off x="7085160" y="2436840"/>
                <a:ext cx="255600" cy="306360"/>
                <a:chOff x="7085160" y="2436840"/>
                <a:chExt cx="255600" cy="30636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7128000" y="2436840"/>
                  <a:ext cx="168120" cy="60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ff"/>
                    </a:gs>
                    <a:gs pos="50000">
                      <a:srgbClr val="002f75"/>
                    </a:gs>
                    <a:gs pos="100000">
                      <a:srgbClr val="00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7085160" y="2479680"/>
                  <a:ext cx="255600" cy="263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6633"/>
                    </a:gs>
                    <a:gs pos="100000">
                      <a:srgbClr val="281a0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7085160" y="2436840"/>
                  <a:ext cx="91800" cy="103320"/>
                </a:xfrm>
                <a:custGeom>
                  <a:avLst/>
                  <a:gdLst>
                    <a:gd name="textAreaLeft" fmla="*/ 0 w 91800"/>
                    <a:gd name="textAreaRight" fmla="*/ 45720 w 91800"/>
                    <a:gd name="textAreaTop" fmla="*/ 0 h 103320"/>
                    <a:gd name="textAreaBottom" fmla="*/ 51480 h 10332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4" y="10523"/>
                      </a:moveTo>
                      <a:arcTo wR="10800" hR="10800" stAng="-10711872" swAng="52589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" y="10523"/>
                      </a:moveTo>
                      <a:arcTo wR="10800" hR="10800" stAng="-10711872" swAng="5258988"/>
                    </a:path>
                  </a:pathLst>
                </a:custGeom>
                <a:gradFill rotWithShape="0">
                  <a:gsLst>
                    <a:gs pos="0">
                      <a:srgbClr val="996633"/>
                    </a:gs>
                    <a:gs pos="100000">
                      <a:srgbClr val="281a0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248600" y="2436840"/>
                  <a:ext cx="90360" cy="104760"/>
                </a:xfrm>
                <a:custGeom>
                  <a:avLst/>
                  <a:gdLst>
                    <a:gd name="textAreaLeft" fmla="*/ 44280 w 90360"/>
                    <a:gd name="textAreaRight" fmla="*/ 90360 w 90360"/>
                    <a:gd name="textAreaTop" fmla="*/ 0 h 104760"/>
                    <a:gd name="textAreaBottom" fmla="*/ 52200 h 10476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10635" y="1"/>
                      </a:moveTo>
                      <a:arcTo wR="10800" hR="10800" stAng="-5452549" swAng="53636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35" y="1"/>
                      </a:moveTo>
                      <a:arcTo wR="10800" hR="10800" stAng="-5452549" swAng="5363615"/>
                    </a:path>
                  </a:pathLst>
                </a:custGeom>
                <a:gradFill rotWithShape="0">
                  <a:gsLst>
                    <a:gs pos="0">
                      <a:srgbClr val="996633"/>
                    </a:gs>
                    <a:gs pos="100000">
                      <a:srgbClr val="281a0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192" name=""/>
            <p:cNvGrpSpPr/>
            <p:nvPr/>
          </p:nvGrpSpPr>
          <p:grpSpPr>
            <a:xfrm>
              <a:off x="7385040" y="2390760"/>
              <a:ext cx="255600" cy="449280"/>
              <a:chOff x="7385040" y="2390760"/>
              <a:chExt cx="255600" cy="449280"/>
            </a:xfrm>
          </p:grpSpPr>
          <p:sp>
            <p:nvSpPr>
              <p:cNvPr id="193" name=""/>
              <p:cNvSpPr/>
              <p:nvPr/>
            </p:nvSpPr>
            <p:spPr>
              <a:xfrm>
                <a:off x="7445520" y="2390760"/>
                <a:ext cx="134640" cy="123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grpSp>
            <p:nvGrpSpPr>
              <p:cNvPr id="194" name=""/>
              <p:cNvGrpSpPr/>
              <p:nvPr/>
            </p:nvGrpSpPr>
            <p:grpSpPr>
              <a:xfrm>
                <a:off x="7385040" y="2530440"/>
                <a:ext cx="255600" cy="309600"/>
                <a:chOff x="7385040" y="2530440"/>
                <a:chExt cx="255600" cy="30960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7429680" y="2530440"/>
                  <a:ext cx="168120" cy="60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ff"/>
                    </a:gs>
                    <a:gs pos="50000">
                      <a:srgbClr val="002f75"/>
                    </a:gs>
                    <a:gs pos="100000">
                      <a:srgbClr val="00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385040" y="2576520"/>
                  <a:ext cx="255600" cy="263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6633"/>
                    </a:gs>
                    <a:gs pos="100000">
                      <a:srgbClr val="281a0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386480" y="2533680"/>
                  <a:ext cx="92160" cy="103320"/>
                </a:xfrm>
                <a:custGeom>
                  <a:avLst/>
                  <a:gdLst>
                    <a:gd name="textAreaLeft" fmla="*/ 0 w 92160"/>
                    <a:gd name="textAreaRight" fmla="*/ 46080 w 92160"/>
                    <a:gd name="textAreaTop" fmla="*/ 0 h 103320"/>
                    <a:gd name="textAreaBottom" fmla="*/ 51480 h 10332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4" y="10523"/>
                      </a:moveTo>
                      <a:arcTo wR="10800" hR="10800" stAng="-10711872" swAng="52589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" y="10523"/>
                      </a:moveTo>
                      <a:arcTo wR="10800" hR="10800" stAng="-10711872" swAng="5258988"/>
                    </a:path>
                  </a:pathLst>
                </a:custGeom>
                <a:gradFill rotWithShape="0">
                  <a:gsLst>
                    <a:gs pos="0">
                      <a:srgbClr val="996633"/>
                    </a:gs>
                    <a:gs pos="100000">
                      <a:srgbClr val="281a0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550280" y="2533680"/>
                  <a:ext cx="90360" cy="104760"/>
                </a:xfrm>
                <a:custGeom>
                  <a:avLst/>
                  <a:gdLst>
                    <a:gd name="textAreaLeft" fmla="*/ 44280 w 90360"/>
                    <a:gd name="textAreaRight" fmla="*/ 90360 w 90360"/>
                    <a:gd name="textAreaTop" fmla="*/ 0 h 104760"/>
                    <a:gd name="textAreaBottom" fmla="*/ 52200 h 10476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10635" y="1"/>
                      </a:moveTo>
                      <a:arcTo wR="10800" hR="10800" stAng="-5452549" swAng="53636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35" y="1"/>
                      </a:moveTo>
                      <a:arcTo wR="10800" hR="10800" stAng="-5452549" swAng="5363615"/>
                    </a:path>
                  </a:pathLst>
                </a:custGeom>
                <a:gradFill rotWithShape="0">
                  <a:gsLst>
                    <a:gs pos="0">
                      <a:srgbClr val="996633"/>
                    </a:gs>
                    <a:gs pos="100000">
                      <a:srgbClr val="281a0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199" name=""/>
            <p:cNvGrpSpPr/>
            <p:nvPr/>
          </p:nvGrpSpPr>
          <p:grpSpPr>
            <a:xfrm>
              <a:off x="6515280" y="2517840"/>
              <a:ext cx="255240" cy="446040"/>
              <a:chOff x="6515280" y="2517840"/>
              <a:chExt cx="255240" cy="446040"/>
            </a:xfrm>
          </p:grpSpPr>
          <p:sp>
            <p:nvSpPr>
              <p:cNvPr id="200" name=""/>
              <p:cNvSpPr/>
              <p:nvPr/>
            </p:nvSpPr>
            <p:spPr>
              <a:xfrm>
                <a:off x="6573960" y="2517840"/>
                <a:ext cx="134640" cy="123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grpSp>
            <p:nvGrpSpPr>
              <p:cNvPr id="201" name=""/>
              <p:cNvGrpSpPr/>
              <p:nvPr/>
            </p:nvGrpSpPr>
            <p:grpSpPr>
              <a:xfrm>
                <a:off x="6515280" y="2657520"/>
                <a:ext cx="255240" cy="306360"/>
                <a:chOff x="6515280" y="2657520"/>
                <a:chExt cx="255240" cy="30636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559560" y="2657520"/>
                  <a:ext cx="168120" cy="60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ff"/>
                    </a:gs>
                    <a:gs pos="50000">
                      <a:srgbClr val="002f75"/>
                    </a:gs>
                    <a:gs pos="100000">
                      <a:srgbClr val="00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515280" y="2700360"/>
                  <a:ext cx="255240" cy="263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6633"/>
                    </a:gs>
                    <a:gs pos="100000">
                      <a:srgbClr val="281a0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6515280" y="2657520"/>
                  <a:ext cx="91800" cy="103320"/>
                </a:xfrm>
                <a:custGeom>
                  <a:avLst/>
                  <a:gdLst>
                    <a:gd name="textAreaLeft" fmla="*/ 0 w 91800"/>
                    <a:gd name="textAreaRight" fmla="*/ 45720 w 91800"/>
                    <a:gd name="textAreaTop" fmla="*/ 0 h 103320"/>
                    <a:gd name="textAreaBottom" fmla="*/ 51480 h 10332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4" y="10523"/>
                      </a:moveTo>
                      <a:arcTo wR="10800" hR="10800" stAng="-10711872" swAng="52589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" y="10523"/>
                      </a:moveTo>
                      <a:arcTo wR="10800" hR="10800" stAng="-10711872" swAng="5258988"/>
                    </a:path>
                  </a:pathLst>
                </a:custGeom>
                <a:gradFill rotWithShape="0">
                  <a:gsLst>
                    <a:gs pos="0">
                      <a:srgbClr val="996633"/>
                    </a:gs>
                    <a:gs pos="100000">
                      <a:srgbClr val="281a0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6678720" y="2660760"/>
                  <a:ext cx="90360" cy="104760"/>
                </a:xfrm>
                <a:custGeom>
                  <a:avLst/>
                  <a:gdLst>
                    <a:gd name="textAreaLeft" fmla="*/ 44280 w 90360"/>
                    <a:gd name="textAreaRight" fmla="*/ 90360 w 90360"/>
                    <a:gd name="textAreaTop" fmla="*/ 0 h 104760"/>
                    <a:gd name="textAreaBottom" fmla="*/ 52200 h 10476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10635" y="1"/>
                      </a:moveTo>
                      <a:arcTo wR="10800" hR="10800" stAng="-5452549" swAng="53636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35" y="1"/>
                      </a:moveTo>
                      <a:arcTo wR="10800" hR="10800" stAng="-5452549" swAng="5363615"/>
                    </a:path>
                  </a:pathLst>
                </a:custGeom>
                <a:gradFill rotWithShape="0">
                  <a:gsLst>
                    <a:gs pos="0">
                      <a:srgbClr val="996633"/>
                    </a:gs>
                    <a:gs pos="100000">
                      <a:srgbClr val="281a0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206" name=""/>
            <p:cNvGrpSpPr/>
            <p:nvPr/>
          </p:nvGrpSpPr>
          <p:grpSpPr>
            <a:xfrm>
              <a:off x="6783480" y="2517840"/>
              <a:ext cx="255600" cy="446040"/>
              <a:chOff x="6783480" y="2517840"/>
              <a:chExt cx="255600" cy="446040"/>
            </a:xfrm>
          </p:grpSpPr>
          <p:sp>
            <p:nvSpPr>
              <p:cNvPr id="207" name=""/>
              <p:cNvSpPr/>
              <p:nvPr/>
            </p:nvSpPr>
            <p:spPr>
              <a:xfrm>
                <a:off x="6842160" y="2517840"/>
                <a:ext cx="135000" cy="123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6783480" y="2657520"/>
                <a:ext cx="255600" cy="306360"/>
                <a:chOff x="6783480" y="2657520"/>
                <a:chExt cx="255600" cy="30636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6827760" y="2657520"/>
                  <a:ext cx="168480" cy="60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ff"/>
                    </a:gs>
                    <a:gs pos="50000">
                      <a:srgbClr val="002f75"/>
                    </a:gs>
                    <a:gs pos="100000">
                      <a:srgbClr val="00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6783480" y="2700360"/>
                  <a:ext cx="255600" cy="263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6633"/>
                    </a:gs>
                    <a:gs pos="100000">
                      <a:srgbClr val="281a0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6783480" y="2657520"/>
                  <a:ext cx="92160" cy="103320"/>
                </a:xfrm>
                <a:custGeom>
                  <a:avLst/>
                  <a:gdLst>
                    <a:gd name="textAreaLeft" fmla="*/ 0 w 92160"/>
                    <a:gd name="textAreaRight" fmla="*/ 46080 w 92160"/>
                    <a:gd name="textAreaTop" fmla="*/ 0 h 103320"/>
                    <a:gd name="textAreaBottom" fmla="*/ 51480 h 10332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4" y="10523"/>
                      </a:moveTo>
                      <a:arcTo wR="10800" hR="10800" stAng="-10711872" swAng="52589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" y="10523"/>
                      </a:moveTo>
                      <a:arcTo wR="10800" hR="10800" stAng="-10711872" swAng="5258988"/>
                    </a:path>
                  </a:pathLst>
                </a:custGeom>
                <a:gradFill rotWithShape="0">
                  <a:gsLst>
                    <a:gs pos="0">
                      <a:srgbClr val="996633"/>
                    </a:gs>
                    <a:gs pos="100000">
                      <a:srgbClr val="281a0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946920" y="2660760"/>
                  <a:ext cx="90360" cy="104760"/>
                </a:xfrm>
                <a:custGeom>
                  <a:avLst/>
                  <a:gdLst>
                    <a:gd name="textAreaLeft" fmla="*/ 44280 w 90360"/>
                    <a:gd name="textAreaRight" fmla="*/ 90360 w 90360"/>
                    <a:gd name="textAreaTop" fmla="*/ 0 h 104760"/>
                    <a:gd name="textAreaBottom" fmla="*/ 52200 h 10476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10635" y="1"/>
                      </a:moveTo>
                      <a:arcTo wR="10800" hR="10800" stAng="-5452549" swAng="53636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35" y="1"/>
                      </a:moveTo>
                      <a:arcTo wR="10800" hR="10800" stAng="-5452549" swAng="5363615"/>
                    </a:path>
                  </a:pathLst>
                </a:custGeom>
                <a:gradFill rotWithShape="0">
                  <a:gsLst>
                    <a:gs pos="0">
                      <a:srgbClr val="996633"/>
                    </a:gs>
                    <a:gs pos="100000">
                      <a:srgbClr val="281a0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7016760" y="2676600"/>
              <a:ext cx="255600" cy="446040"/>
              <a:chOff x="7016760" y="2676600"/>
              <a:chExt cx="255600" cy="446040"/>
            </a:xfrm>
          </p:grpSpPr>
          <p:sp>
            <p:nvSpPr>
              <p:cNvPr id="214" name=""/>
              <p:cNvSpPr/>
              <p:nvPr/>
            </p:nvSpPr>
            <p:spPr>
              <a:xfrm>
                <a:off x="7077240" y="2676600"/>
                <a:ext cx="134640" cy="123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7016760" y="2816280"/>
                <a:ext cx="255600" cy="306360"/>
                <a:chOff x="7016760" y="2816280"/>
                <a:chExt cx="255600" cy="3063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7061040" y="2816280"/>
                  <a:ext cx="168480" cy="60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ff"/>
                    </a:gs>
                    <a:gs pos="50000">
                      <a:srgbClr val="002f75"/>
                    </a:gs>
                    <a:gs pos="100000">
                      <a:srgbClr val="00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7016760" y="2859120"/>
                  <a:ext cx="255600" cy="263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6633"/>
                    </a:gs>
                    <a:gs pos="100000">
                      <a:srgbClr val="281a0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7018200" y="2816280"/>
                  <a:ext cx="92160" cy="102960"/>
                </a:xfrm>
                <a:custGeom>
                  <a:avLst/>
                  <a:gdLst>
                    <a:gd name="textAreaLeft" fmla="*/ 0 w 92160"/>
                    <a:gd name="textAreaRight" fmla="*/ 46080 w 92160"/>
                    <a:gd name="textAreaTop" fmla="*/ 0 h 102960"/>
                    <a:gd name="textAreaBottom" fmla="*/ 51480 h 10296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4" y="10523"/>
                      </a:moveTo>
                      <a:arcTo wR="10800" hR="10800" stAng="-10711872" swAng="52589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" y="10523"/>
                      </a:moveTo>
                      <a:arcTo wR="10800" hR="10800" stAng="-10711872" swAng="5258988"/>
                    </a:path>
                  </a:pathLst>
                </a:custGeom>
                <a:gradFill rotWithShape="0">
                  <a:gsLst>
                    <a:gs pos="0">
                      <a:srgbClr val="996633"/>
                    </a:gs>
                    <a:gs pos="100000">
                      <a:srgbClr val="281a0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182000" y="2816280"/>
                  <a:ext cx="90360" cy="104760"/>
                </a:xfrm>
                <a:custGeom>
                  <a:avLst/>
                  <a:gdLst>
                    <a:gd name="textAreaLeft" fmla="*/ 44280 w 90360"/>
                    <a:gd name="textAreaRight" fmla="*/ 90360 w 90360"/>
                    <a:gd name="textAreaTop" fmla="*/ 0 h 104760"/>
                    <a:gd name="textAreaBottom" fmla="*/ 52200 h 10476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10635" y="1"/>
                      </a:moveTo>
                      <a:arcTo wR="10800" hR="10800" stAng="-5452549" swAng="53636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35" y="1"/>
                      </a:moveTo>
                      <a:arcTo wR="10800" hR="10800" stAng="-5452549" swAng="5363615"/>
                    </a:path>
                  </a:pathLst>
                </a:custGeom>
                <a:gradFill rotWithShape="0">
                  <a:gsLst>
                    <a:gs pos="0">
                      <a:srgbClr val="996633"/>
                    </a:gs>
                    <a:gs pos="100000">
                      <a:srgbClr val="281a0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220" name=""/>
            <p:cNvGrpSpPr/>
            <p:nvPr/>
          </p:nvGrpSpPr>
          <p:grpSpPr>
            <a:xfrm>
              <a:off x="5878440" y="2390760"/>
              <a:ext cx="255600" cy="449280"/>
              <a:chOff x="5878440" y="2390760"/>
              <a:chExt cx="255600" cy="449280"/>
            </a:xfrm>
          </p:grpSpPr>
          <p:sp>
            <p:nvSpPr>
              <p:cNvPr id="221" name=""/>
              <p:cNvSpPr/>
              <p:nvPr/>
            </p:nvSpPr>
            <p:spPr>
              <a:xfrm>
                <a:off x="5937120" y="2390760"/>
                <a:ext cx="135000" cy="123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grpSp>
            <p:nvGrpSpPr>
              <p:cNvPr id="222" name=""/>
              <p:cNvGrpSpPr/>
              <p:nvPr/>
            </p:nvGrpSpPr>
            <p:grpSpPr>
              <a:xfrm>
                <a:off x="5878440" y="2530440"/>
                <a:ext cx="255600" cy="309600"/>
                <a:chOff x="5878440" y="2530440"/>
                <a:chExt cx="255600" cy="30960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5923080" y="2530440"/>
                  <a:ext cx="168120" cy="60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ff"/>
                    </a:gs>
                    <a:gs pos="50000">
                      <a:srgbClr val="002f75"/>
                    </a:gs>
                    <a:gs pos="100000">
                      <a:srgbClr val="00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878440" y="2576520"/>
                  <a:ext cx="255600" cy="263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6633"/>
                    </a:gs>
                    <a:gs pos="100000">
                      <a:srgbClr val="281a0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878440" y="2533680"/>
                  <a:ext cx="92160" cy="103320"/>
                </a:xfrm>
                <a:custGeom>
                  <a:avLst/>
                  <a:gdLst>
                    <a:gd name="textAreaLeft" fmla="*/ 0 w 92160"/>
                    <a:gd name="textAreaRight" fmla="*/ 46080 w 92160"/>
                    <a:gd name="textAreaTop" fmla="*/ 0 h 103320"/>
                    <a:gd name="textAreaBottom" fmla="*/ 51480 h 10332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4" y="10523"/>
                      </a:moveTo>
                      <a:arcTo wR="10800" hR="10800" stAng="-10711872" swAng="52589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" y="10523"/>
                      </a:moveTo>
                      <a:arcTo wR="10800" hR="10800" stAng="-10711872" swAng="5258988"/>
                    </a:path>
                  </a:pathLst>
                </a:custGeom>
                <a:gradFill rotWithShape="0">
                  <a:gsLst>
                    <a:gs pos="0">
                      <a:srgbClr val="996633"/>
                    </a:gs>
                    <a:gs pos="100000">
                      <a:srgbClr val="281a0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6041880" y="2533680"/>
                  <a:ext cx="90720" cy="104760"/>
                </a:xfrm>
                <a:custGeom>
                  <a:avLst/>
                  <a:gdLst>
                    <a:gd name="textAreaLeft" fmla="*/ 44640 w 90720"/>
                    <a:gd name="textAreaRight" fmla="*/ 90720 w 90720"/>
                    <a:gd name="textAreaTop" fmla="*/ 0 h 104760"/>
                    <a:gd name="textAreaBottom" fmla="*/ 52200 h 10476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10635" y="1"/>
                      </a:moveTo>
                      <a:arcTo wR="10800" hR="10800" stAng="-5452549" swAng="53636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35" y="1"/>
                      </a:moveTo>
                      <a:arcTo wR="10800" hR="10800" stAng="-5452549" swAng="5363615"/>
                    </a:path>
                  </a:pathLst>
                </a:custGeom>
                <a:gradFill rotWithShape="0">
                  <a:gsLst>
                    <a:gs pos="0">
                      <a:srgbClr val="996633"/>
                    </a:gs>
                    <a:gs pos="100000">
                      <a:srgbClr val="281a0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227" name=""/>
            <p:cNvGrpSpPr/>
            <p:nvPr/>
          </p:nvGrpSpPr>
          <p:grpSpPr>
            <a:xfrm>
              <a:off x="5878440" y="2676600"/>
              <a:ext cx="255600" cy="446040"/>
              <a:chOff x="5878440" y="2676600"/>
              <a:chExt cx="255600" cy="446040"/>
            </a:xfrm>
          </p:grpSpPr>
          <p:sp>
            <p:nvSpPr>
              <p:cNvPr id="228" name=""/>
              <p:cNvSpPr/>
              <p:nvPr/>
            </p:nvSpPr>
            <p:spPr>
              <a:xfrm>
                <a:off x="5937120" y="2676600"/>
                <a:ext cx="135000" cy="123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grpSp>
            <p:nvGrpSpPr>
              <p:cNvPr id="229" name=""/>
              <p:cNvGrpSpPr/>
              <p:nvPr/>
            </p:nvGrpSpPr>
            <p:grpSpPr>
              <a:xfrm>
                <a:off x="5878440" y="2816280"/>
                <a:ext cx="255600" cy="306360"/>
                <a:chOff x="5878440" y="2816280"/>
                <a:chExt cx="255600" cy="30636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5923080" y="2816280"/>
                  <a:ext cx="168120" cy="60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ff"/>
                    </a:gs>
                    <a:gs pos="50000">
                      <a:srgbClr val="002f75"/>
                    </a:gs>
                    <a:gs pos="100000">
                      <a:srgbClr val="00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878440" y="2859120"/>
                  <a:ext cx="255600" cy="263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6633"/>
                    </a:gs>
                    <a:gs pos="100000">
                      <a:srgbClr val="281a0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878440" y="2816280"/>
                  <a:ext cx="92160" cy="102960"/>
                </a:xfrm>
                <a:custGeom>
                  <a:avLst/>
                  <a:gdLst>
                    <a:gd name="textAreaLeft" fmla="*/ 0 w 92160"/>
                    <a:gd name="textAreaRight" fmla="*/ 46080 w 92160"/>
                    <a:gd name="textAreaTop" fmla="*/ 0 h 102960"/>
                    <a:gd name="textAreaBottom" fmla="*/ 51480 h 10296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4" y="10523"/>
                      </a:moveTo>
                      <a:arcTo wR="10800" hR="10800" stAng="-10711872" swAng="52589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" y="10523"/>
                      </a:moveTo>
                      <a:arcTo wR="10800" hR="10800" stAng="-10711872" swAng="5258988"/>
                    </a:path>
                  </a:pathLst>
                </a:custGeom>
                <a:gradFill rotWithShape="0">
                  <a:gsLst>
                    <a:gs pos="0">
                      <a:srgbClr val="996633"/>
                    </a:gs>
                    <a:gs pos="100000">
                      <a:srgbClr val="281a0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041880" y="2816280"/>
                  <a:ext cx="90720" cy="104760"/>
                </a:xfrm>
                <a:custGeom>
                  <a:avLst/>
                  <a:gdLst>
                    <a:gd name="textAreaLeft" fmla="*/ 44640 w 90720"/>
                    <a:gd name="textAreaRight" fmla="*/ 90720 w 90720"/>
                    <a:gd name="textAreaTop" fmla="*/ 0 h 104760"/>
                    <a:gd name="textAreaBottom" fmla="*/ 52200 h 10476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10635" y="1"/>
                      </a:moveTo>
                      <a:arcTo wR="10800" hR="10800" stAng="-5452549" swAng="53636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35" y="1"/>
                      </a:moveTo>
                      <a:arcTo wR="10800" hR="10800" stAng="-5452549" swAng="5363615"/>
                    </a:path>
                  </a:pathLst>
                </a:custGeom>
                <a:gradFill rotWithShape="0">
                  <a:gsLst>
                    <a:gs pos="0">
                      <a:srgbClr val="996633"/>
                    </a:gs>
                    <a:gs pos="100000">
                      <a:srgbClr val="281a0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234" name=""/>
            <p:cNvGrpSpPr/>
            <p:nvPr/>
          </p:nvGrpSpPr>
          <p:grpSpPr>
            <a:xfrm>
              <a:off x="7385040" y="2676600"/>
              <a:ext cx="255600" cy="446040"/>
              <a:chOff x="7385040" y="2676600"/>
              <a:chExt cx="255600" cy="446040"/>
            </a:xfrm>
          </p:grpSpPr>
          <p:sp>
            <p:nvSpPr>
              <p:cNvPr id="235" name=""/>
              <p:cNvSpPr/>
              <p:nvPr/>
            </p:nvSpPr>
            <p:spPr>
              <a:xfrm>
                <a:off x="7445520" y="2676600"/>
                <a:ext cx="134640" cy="123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7385040" y="2816280"/>
                <a:ext cx="255600" cy="306360"/>
                <a:chOff x="7385040" y="2816280"/>
                <a:chExt cx="255600" cy="30636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7429680" y="2816280"/>
                  <a:ext cx="168120" cy="60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ff"/>
                    </a:gs>
                    <a:gs pos="50000">
                      <a:srgbClr val="002f75"/>
                    </a:gs>
                    <a:gs pos="100000">
                      <a:srgbClr val="00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385040" y="2859120"/>
                  <a:ext cx="255600" cy="263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6633"/>
                    </a:gs>
                    <a:gs pos="100000">
                      <a:srgbClr val="281a0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7386480" y="2816280"/>
                  <a:ext cx="92160" cy="102960"/>
                </a:xfrm>
                <a:custGeom>
                  <a:avLst/>
                  <a:gdLst>
                    <a:gd name="textAreaLeft" fmla="*/ 0 w 92160"/>
                    <a:gd name="textAreaRight" fmla="*/ 46080 w 92160"/>
                    <a:gd name="textAreaTop" fmla="*/ 0 h 102960"/>
                    <a:gd name="textAreaBottom" fmla="*/ 51480 h 10296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4" y="10523"/>
                      </a:moveTo>
                      <a:arcTo wR="10800" hR="10800" stAng="-10711872" swAng="52589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" y="10523"/>
                      </a:moveTo>
                      <a:arcTo wR="10800" hR="10800" stAng="-10711872" swAng="5258988"/>
                    </a:path>
                  </a:pathLst>
                </a:custGeom>
                <a:gradFill rotWithShape="0">
                  <a:gsLst>
                    <a:gs pos="0">
                      <a:srgbClr val="996633"/>
                    </a:gs>
                    <a:gs pos="100000">
                      <a:srgbClr val="281a0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7550280" y="2816280"/>
                  <a:ext cx="90360" cy="104760"/>
                </a:xfrm>
                <a:custGeom>
                  <a:avLst/>
                  <a:gdLst>
                    <a:gd name="textAreaLeft" fmla="*/ 44280 w 90360"/>
                    <a:gd name="textAreaRight" fmla="*/ 90360 w 90360"/>
                    <a:gd name="textAreaTop" fmla="*/ 0 h 104760"/>
                    <a:gd name="textAreaBottom" fmla="*/ 52200 h 10476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10635" y="1"/>
                      </a:moveTo>
                      <a:arcTo wR="10800" hR="10800" stAng="-5452549" swAng="53636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35" y="1"/>
                      </a:moveTo>
                      <a:arcTo wR="10800" hR="10800" stAng="-5452549" swAng="5363615"/>
                    </a:path>
                  </a:pathLst>
                </a:custGeom>
                <a:gradFill rotWithShape="0">
                  <a:gsLst>
                    <a:gs pos="0">
                      <a:srgbClr val="996633"/>
                    </a:gs>
                    <a:gs pos="100000">
                      <a:srgbClr val="281a0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241" name=""/>
            <p:cNvGrpSpPr/>
            <p:nvPr/>
          </p:nvGrpSpPr>
          <p:grpSpPr>
            <a:xfrm>
              <a:off x="6615000" y="2676600"/>
              <a:ext cx="255600" cy="446040"/>
              <a:chOff x="6615000" y="2676600"/>
              <a:chExt cx="255600" cy="446040"/>
            </a:xfrm>
          </p:grpSpPr>
          <p:sp>
            <p:nvSpPr>
              <p:cNvPr id="242" name=""/>
              <p:cNvSpPr/>
              <p:nvPr/>
            </p:nvSpPr>
            <p:spPr>
              <a:xfrm>
                <a:off x="6673680" y="2676600"/>
                <a:ext cx="135000" cy="123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grpSp>
            <p:nvGrpSpPr>
              <p:cNvPr id="243" name=""/>
              <p:cNvGrpSpPr/>
              <p:nvPr/>
            </p:nvGrpSpPr>
            <p:grpSpPr>
              <a:xfrm>
                <a:off x="6615000" y="2816280"/>
                <a:ext cx="255600" cy="306360"/>
                <a:chOff x="6615000" y="2816280"/>
                <a:chExt cx="255600" cy="30636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6659640" y="2816280"/>
                  <a:ext cx="168120" cy="60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ff"/>
                    </a:gs>
                    <a:gs pos="50000">
                      <a:srgbClr val="002f75"/>
                    </a:gs>
                    <a:gs pos="100000">
                      <a:srgbClr val="00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615000" y="2859120"/>
                  <a:ext cx="255600" cy="263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6633"/>
                    </a:gs>
                    <a:gs pos="100000">
                      <a:srgbClr val="281a0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615000" y="2816280"/>
                  <a:ext cx="92160" cy="102960"/>
                </a:xfrm>
                <a:custGeom>
                  <a:avLst/>
                  <a:gdLst>
                    <a:gd name="textAreaLeft" fmla="*/ 0 w 92160"/>
                    <a:gd name="textAreaRight" fmla="*/ 46080 w 92160"/>
                    <a:gd name="textAreaTop" fmla="*/ 0 h 102960"/>
                    <a:gd name="textAreaBottom" fmla="*/ 51480 h 10296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4" y="10523"/>
                      </a:moveTo>
                      <a:arcTo wR="10800" hR="10800" stAng="-10711872" swAng="52589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" y="10523"/>
                      </a:moveTo>
                      <a:arcTo wR="10800" hR="10800" stAng="-10711872" swAng="5258988"/>
                    </a:path>
                  </a:pathLst>
                </a:custGeom>
                <a:gradFill rotWithShape="0">
                  <a:gsLst>
                    <a:gs pos="0">
                      <a:srgbClr val="996633"/>
                    </a:gs>
                    <a:gs pos="100000">
                      <a:srgbClr val="281a0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778800" y="2816280"/>
                  <a:ext cx="90360" cy="104760"/>
                </a:xfrm>
                <a:custGeom>
                  <a:avLst/>
                  <a:gdLst>
                    <a:gd name="textAreaLeft" fmla="*/ 44280 w 90360"/>
                    <a:gd name="textAreaRight" fmla="*/ 90360 w 90360"/>
                    <a:gd name="textAreaTop" fmla="*/ 0 h 104760"/>
                    <a:gd name="textAreaBottom" fmla="*/ 52200 h 10476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10635" y="1"/>
                      </a:moveTo>
                      <a:arcTo wR="10800" hR="10800" stAng="-5452549" swAng="53636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35" y="1"/>
                      </a:moveTo>
                      <a:arcTo wR="10800" hR="10800" stAng="-5452549" swAng="5363615"/>
                    </a:path>
                  </a:pathLst>
                </a:custGeom>
                <a:gradFill rotWithShape="0">
                  <a:gsLst>
                    <a:gs pos="0">
                      <a:srgbClr val="996633"/>
                    </a:gs>
                    <a:gs pos="100000">
                      <a:srgbClr val="281a0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248" name=""/>
            <p:cNvGrpSpPr/>
            <p:nvPr/>
          </p:nvGrpSpPr>
          <p:grpSpPr>
            <a:xfrm>
              <a:off x="6180120" y="2297160"/>
              <a:ext cx="255600" cy="446040"/>
              <a:chOff x="6180120" y="2297160"/>
              <a:chExt cx="255600" cy="446040"/>
            </a:xfrm>
          </p:grpSpPr>
          <p:sp>
            <p:nvSpPr>
              <p:cNvPr id="249" name=""/>
              <p:cNvSpPr/>
              <p:nvPr/>
            </p:nvSpPr>
            <p:spPr>
              <a:xfrm>
                <a:off x="6238800" y="2297160"/>
                <a:ext cx="135000" cy="123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6180120" y="2436840"/>
                <a:ext cx="255600" cy="306360"/>
                <a:chOff x="6180120" y="2436840"/>
                <a:chExt cx="255600" cy="30636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6224760" y="2436840"/>
                  <a:ext cx="168120" cy="60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ff"/>
                    </a:gs>
                    <a:gs pos="50000">
                      <a:srgbClr val="002f75"/>
                    </a:gs>
                    <a:gs pos="100000">
                      <a:srgbClr val="00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6180120" y="2479680"/>
                  <a:ext cx="255600" cy="263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6633"/>
                    </a:gs>
                    <a:gs pos="100000">
                      <a:srgbClr val="281a0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6180120" y="2436840"/>
                  <a:ext cx="92160" cy="103320"/>
                </a:xfrm>
                <a:custGeom>
                  <a:avLst/>
                  <a:gdLst>
                    <a:gd name="textAreaLeft" fmla="*/ 0 w 92160"/>
                    <a:gd name="textAreaRight" fmla="*/ 46080 w 92160"/>
                    <a:gd name="textAreaTop" fmla="*/ 0 h 103320"/>
                    <a:gd name="textAreaBottom" fmla="*/ 51480 h 10332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4" y="10523"/>
                      </a:moveTo>
                      <a:arcTo wR="10800" hR="10800" stAng="-10711872" swAng="52589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" y="10523"/>
                      </a:moveTo>
                      <a:arcTo wR="10800" hR="10800" stAng="-10711872" swAng="5258988"/>
                    </a:path>
                  </a:pathLst>
                </a:custGeom>
                <a:gradFill rotWithShape="0">
                  <a:gsLst>
                    <a:gs pos="0">
                      <a:srgbClr val="996633"/>
                    </a:gs>
                    <a:gs pos="100000">
                      <a:srgbClr val="281a0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6343560" y="2436840"/>
                  <a:ext cx="90720" cy="104760"/>
                </a:xfrm>
                <a:custGeom>
                  <a:avLst/>
                  <a:gdLst>
                    <a:gd name="textAreaLeft" fmla="*/ 44640 w 90720"/>
                    <a:gd name="textAreaRight" fmla="*/ 90720 w 90720"/>
                    <a:gd name="textAreaTop" fmla="*/ 0 h 104760"/>
                    <a:gd name="textAreaBottom" fmla="*/ 52200 h 10476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10635" y="1"/>
                      </a:moveTo>
                      <a:arcTo wR="10800" hR="10800" stAng="-5452549" swAng="53636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35" y="1"/>
                      </a:moveTo>
                      <a:arcTo wR="10800" hR="10800" stAng="-5452549" swAng="5363615"/>
                    </a:path>
                  </a:pathLst>
                </a:custGeom>
                <a:gradFill rotWithShape="0">
                  <a:gsLst>
                    <a:gs pos="0">
                      <a:srgbClr val="996633"/>
                    </a:gs>
                    <a:gs pos="100000">
                      <a:srgbClr val="281a0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6213600" y="2676600"/>
              <a:ext cx="255600" cy="446040"/>
              <a:chOff x="6213600" y="2676600"/>
              <a:chExt cx="255600" cy="446040"/>
            </a:xfrm>
          </p:grpSpPr>
          <p:sp>
            <p:nvSpPr>
              <p:cNvPr id="256" name=""/>
              <p:cNvSpPr/>
              <p:nvPr/>
            </p:nvSpPr>
            <p:spPr>
              <a:xfrm>
                <a:off x="6272280" y="2676600"/>
                <a:ext cx="135000" cy="123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6213600" y="2816280"/>
                <a:ext cx="255600" cy="306360"/>
                <a:chOff x="6213600" y="2816280"/>
                <a:chExt cx="255600" cy="30636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6257880" y="2816280"/>
                  <a:ext cx="168480" cy="60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ff"/>
                    </a:gs>
                    <a:gs pos="50000">
                      <a:srgbClr val="002f75"/>
                    </a:gs>
                    <a:gs pos="100000">
                      <a:srgbClr val="00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213600" y="2859120"/>
                  <a:ext cx="255600" cy="263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6633"/>
                    </a:gs>
                    <a:gs pos="100000">
                      <a:srgbClr val="281a0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6213600" y="2816280"/>
                  <a:ext cx="91800" cy="102960"/>
                </a:xfrm>
                <a:custGeom>
                  <a:avLst/>
                  <a:gdLst>
                    <a:gd name="textAreaLeft" fmla="*/ 0 w 91800"/>
                    <a:gd name="textAreaRight" fmla="*/ 45720 w 91800"/>
                    <a:gd name="textAreaTop" fmla="*/ 0 h 102960"/>
                    <a:gd name="textAreaBottom" fmla="*/ 51480 h 10296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4" y="10523"/>
                      </a:moveTo>
                      <a:arcTo wR="10800" hR="10800" stAng="-10711872" swAng="525898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" y="10523"/>
                      </a:moveTo>
                      <a:arcTo wR="10800" hR="10800" stAng="-10711872" swAng="5258988"/>
                    </a:path>
                  </a:pathLst>
                </a:custGeom>
                <a:gradFill rotWithShape="0">
                  <a:gsLst>
                    <a:gs pos="0">
                      <a:srgbClr val="996633"/>
                    </a:gs>
                    <a:gs pos="100000">
                      <a:srgbClr val="281a0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6377040" y="2816280"/>
                  <a:ext cx="90360" cy="104760"/>
                </a:xfrm>
                <a:custGeom>
                  <a:avLst/>
                  <a:gdLst>
                    <a:gd name="textAreaLeft" fmla="*/ 44280 w 90360"/>
                    <a:gd name="textAreaRight" fmla="*/ 90360 w 90360"/>
                    <a:gd name="textAreaTop" fmla="*/ 0 h 104760"/>
                    <a:gd name="textAreaBottom" fmla="*/ 52200 h 104760"/>
                  </a:gdLst>
                  <a:ahLst/>
                  <a:rect l="textAreaLeft" t="textAreaTop" r="textAreaRight" b="textAreaBottom"/>
                  <a:pathLst>
                    <a:path stroke="0" w="21600" h="21600">
                      <a:moveTo>
                        <a:pt x="10635" y="1"/>
                      </a:moveTo>
                      <a:arcTo wR="10800" hR="10800" stAng="-5452549" swAng="53636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35" y="1"/>
                      </a:moveTo>
                      <a:arcTo wR="10800" hR="10800" stAng="-5452549" swAng="5363615"/>
                    </a:path>
                  </a:pathLst>
                </a:custGeom>
                <a:gradFill rotWithShape="0">
                  <a:gsLst>
                    <a:gs pos="0">
                      <a:srgbClr val="996633"/>
                    </a:gs>
                    <a:gs pos="100000">
                      <a:srgbClr val="281a0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lnSpc>
                      <a:spcPct val="97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1200240" y="1766520"/>
            <a:ext cx="794376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Displays and exhibits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93800" indent="-336600">
              <a:lnSpc>
                <a:spcPct val="90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Program theme ideas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93800" indent="-336600">
              <a:lnSpc>
                <a:spcPct val="90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Council and district events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93800" indent="-336600">
              <a:lnSpc>
                <a:spcPct val="90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Scouting literature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93800" indent="-336600">
              <a:lnSpc>
                <a:spcPct val="90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Equipment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93800" indent="-336600">
              <a:lnSpc>
                <a:spcPct val="90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Unit show and tell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93800" indent="-336600">
              <a:lnSpc>
                <a:spcPct val="90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Scouting memorabilia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93800" indent="-336600">
              <a:lnSpc>
                <a:spcPct val="90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Trading post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93800" indent="-336600">
              <a:lnSpc>
                <a:spcPct val="90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200" spc="-1" strike="noStrike">
                <a:solidFill>
                  <a:srgbClr val="ffff00"/>
                </a:solidFill>
                <a:latin typeface="FrancineHmk"/>
              </a:rPr>
              <a:t>Boys’ Life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93800" indent="-336600">
              <a:lnSpc>
                <a:spcPct val="90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Other stuff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1193760" y="105840"/>
            <a:ext cx="7872480" cy="155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Roundtable Morale Builders (1)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1154160" y="1807920"/>
            <a:ext cx="745632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3000" indent="-333000">
              <a:lnSpc>
                <a:spcPct val="100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Information center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1" marL="785520" indent="-333000">
              <a:lnSpc>
                <a:spcPct val="100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Announcements (keep them brief)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85520" indent="-333000">
              <a:lnSpc>
                <a:spcPct val="100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Written notices and packets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85520" indent="-333000">
              <a:lnSpc>
                <a:spcPct val="100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Scouting “supermarket”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85520" indent="-333000">
              <a:lnSpc>
                <a:spcPct val="100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Physical property bank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33000" indent="-333000">
              <a:lnSpc>
                <a:spcPct val="100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Song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1" marL="785520" indent="-333000">
              <a:lnSpc>
                <a:spcPct val="100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Use of songs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85520" indent="-333000">
              <a:lnSpc>
                <a:spcPct val="100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Songleading tips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85520" indent="-333000">
              <a:lnSpc>
                <a:spcPct val="100000"/>
              </a:lnSpc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Songbooks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1133280" y="165240"/>
            <a:ext cx="7940520" cy="15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Roundtable Morale Builders (2)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1271520" y="1582200"/>
            <a:ext cx="7021440" cy="544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Icebreakers, stunts, and skits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93800" indent="-336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Icebreakers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93800" indent="-336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200" spc="-1" strike="noStrike">
                <a:solidFill>
                  <a:srgbClr val="ffff00"/>
                </a:solidFill>
                <a:latin typeface="FrancineHmk"/>
              </a:rPr>
              <a:t>Group Meeting Sparklers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93800" indent="-336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Cheers and applause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93800" indent="-336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Stunts and skits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2" marL="1251000" indent="-336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Developing skits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2" marL="1251000" indent="-336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Staging skits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2" marL="1251000" indent="-336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Resources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93800" indent="-336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Funny lost-and-found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1083960" y="85680"/>
            <a:ext cx="7940520" cy="15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Roundtable Morale Builders (3)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1696680" y="1720440"/>
            <a:ext cx="560556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Games and contests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93800" indent="-336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Value of games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93800" indent="-336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Types of games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93800" indent="-336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Use of games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Recognitions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93800" indent="-336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New people / new units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93800" indent="-336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Units and leaders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93800" indent="-336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Awards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93800" indent="-336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Fun stuff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1154160" y="76320"/>
            <a:ext cx="7912080" cy="15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Roundtable Morale Builders (4)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6831000" y="3889440"/>
            <a:ext cx="843120" cy="23619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7672320" y="3876840"/>
            <a:ext cx="979560" cy="23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1628640" y="1889280"/>
            <a:ext cx="70502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3000" indent="-3330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Ceremonie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1" marL="785520" indent="-3330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Purpose of ceremonies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85520" indent="-3330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Essential ingredients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85520" indent="-3330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Staging ceremonies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85520" indent="-3330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Involvement and participation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85520" indent="-3330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Types of ceremonies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85520" indent="-3330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Ceremonial props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1153800" y="57240"/>
            <a:ext cx="7891560" cy="15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Roundtable Morale Builders (5)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66880" y="0"/>
            <a:ext cx="8191440" cy="15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Review of Quality </a:t>
            </a:r>
            <a:br>
              <a:rPr sz="4800"/>
            </a:b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Roundtable Ingredients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33720" y="1612800"/>
            <a:ext cx="508176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Action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Material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Handouts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Skills and crafts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New ideas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Useful information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Fun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Food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98400" y="41868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Introduction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76240" y="1809360"/>
            <a:ext cx="79437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Essential elements for succes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lvl="1" marL="7938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The will to do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938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The skill to do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Who should attend roundtable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When and where to hold roundtable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Why people attend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98400" y="506520"/>
            <a:ext cx="819144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FrancineHmk"/>
              </a:rPr>
              <a:t> 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FrancineHmk"/>
              </a:rPr>
              <a:t>Questions?</a:t>
            </a:r>
            <a:endParaRPr b="0" lang="en-US" sz="60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60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FrancineHmk"/>
              </a:rPr>
              <a:t>Comments!</a:t>
            </a:r>
            <a:endParaRPr b="0" lang="en-US" sz="60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98400" y="550800"/>
            <a:ext cx="819144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38360" y="227484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98400" y="41868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Roundtable Structure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47360" y="1957320"/>
            <a:ext cx="67834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Combined session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Separate session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9040" y="66240"/>
            <a:ext cx="8191440" cy="155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Basic Ingredients of a </a:t>
            </a:r>
            <a:br>
              <a:rPr sz="4800"/>
            </a:b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Roundtable Program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27200" y="1849320"/>
            <a:ext cx="7943760" cy="473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Preopening — exhibits, display, literature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Opening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Information and recognition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Cub Scout program theme /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Boy Scout program feature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Closing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After the meeting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002360" y="2844720"/>
          <a:ext cx="1640160" cy="303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02360" y="2844720"/>
                    <a:ext cx="1640160" cy="30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98400" y="8208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Planning Cycle</a:t>
            </a: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	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85960" y="1322280"/>
            <a:ext cx="7943760" cy="54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Annual program planning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ineHmk"/>
              </a:rPr>
              <a:t>Annual planning conference</a:t>
            </a:r>
            <a:endParaRPr b="0" lang="en-US" sz="2800" spc="-1" strike="noStrike">
              <a:solidFill>
                <a:srgbClr val="ffffff"/>
              </a:solidFill>
              <a:latin typeface="FrancineHmk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ineHmk"/>
              </a:rPr>
              <a:t>Monthly program themes</a:t>
            </a:r>
            <a:endParaRPr b="0" lang="en-US" sz="2800" spc="-1" strike="noStrike">
              <a:solidFill>
                <a:srgbClr val="ffffff"/>
              </a:solidFill>
              <a:latin typeface="FrancineHmk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ineHmk"/>
              </a:rPr>
              <a:t>Use of theme managers</a:t>
            </a:r>
            <a:endParaRPr b="0" lang="en-US" sz="28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Quarterly planning meeting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ineHmk"/>
              </a:rPr>
              <a:t>Monthly staff meetings</a:t>
            </a:r>
            <a:endParaRPr b="0" lang="en-US" sz="3200" spc="-1" strike="noStrike">
              <a:solidFill>
                <a:srgbClr val="ffffff"/>
              </a:solidFill>
              <a:latin typeface="FrancineHmk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ineHmk"/>
              </a:rPr>
              <a:t>Program themes</a:t>
            </a:r>
            <a:endParaRPr b="0" lang="en-US" sz="2800" spc="-1" strike="noStrike">
              <a:solidFill>
                <a:srgbClr val="ffffff"/>
              </a:solidFill>
              <a:latin typeface="FrancineHmk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ineHmk"/>
              </a:rPr>
              <a:t>Personal resources</a:t>
            </a:r>
            <a:endParaRPr b="0" lang="en-US" sz="2800" spc="-1" strike="noStrike">
              <a:solidFill>
                <a:srgbClr val="ffffff"/>
              </a:solidFill>
              <a:latin typeface="FrancineHmk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ineHmk"/>
              </a:rPr>
              <a:t>District and council events</a:t>
            </a:r>
            <a:endParaRPr b="0" lang="en-US" sz="2800" spc="-1" strike="noStrike">
              <a:solidFill>
                <a:srgbClr val="ffffff"/>
              </a:solidFill>
              <a:latin typeface="FrancineHmk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ineHmk"/>
              </a:rPr>
              <a:t>Special dates</a:t>
            </a:r>
            <a:endParaRPr b="0" lang="en-US" sz="2800" spc="-1" strike="noStrike">
              <a:solidFill>
                <a:srgbClr val="ffffff"/>
              </a:solidFill>
              <a:latin typeface="FrancineHm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132600" y="3097080"/>
            <a:ext cx="2514600" cy="247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98400" y="213840"/>
            <a:ext cx="8191440" cy="155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Roundtable Planning </a:t>
            </a:r>
            <a:br>
              <a:rPr sz="4800"/>
            </a:b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Checklists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76240" y="1809360"/>
            <a:ext cx="794376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2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581280" y="2590920"/>
          <a:ext cx="1798920" cy="1860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1280" y="2590920"/>
                    <a:ext cx="1798920" cy="18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9200" y="15048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Resource Materials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80960" y="168120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Planning guide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ffff00"/>
                </a:solidFill>
                <a:latin typeface="FrancineHmk"/>
              </a:rPr>
              <a:t>Program Help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ffff00"/>
                </a:solidFill>
                <a:latin typeface="FrancineHmk"/>
              </a:rPr>
              <a:t>Scouting</a:t>
            </a: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 magazine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ffff00"/>
                </a:solidFill>
                <a:latin typeface="FrancineHmk"/>
              </a:rPr>
              <a:t>Boys’ Life</a:t>
            </a: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 magazine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Scouting literature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Other resources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213520" y="2106720"/>
            <a:ext cx="3306600" cy="422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3080" y="22968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dddddd"/>
                </a:solidFill>
                <a:latin typeface="FrancineHmk"/>
              </a:rPr>
              <a:t>Closing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87320" y="2146320"/>
            <a:ext cx="654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ineHmk"/>
              </a:rPr>
              <a:t>BCS 109 coming up!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  <a:p>
            <a:pPr marL="336600" indent="-336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33660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FrancineHmk"/>
              </a:rPr>
              <a:t>Effective Roundtables II</a:t>
            </a:r>
            <a:endParaRPr b="0" lang="en-US" sz="36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98400" y="506520"/>
            <a:ext cx="819144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FrancineHmk"/>
              </a:rPr>
              <a:t> </a:t>
            </a:r>
            <a:endParaRPr b="0" lang="en-US" sz="4800" spc="-1" strike="noStrike">
              <a:solidFill>
                <a:srgbClr val="dddddd"/>
              </a:solidFill>
              <a:latin typeface="FrancineHm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76240" y="18097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FrancineHmk"/>
              </a:rPr>
              <a:t>Questions?</a:t>
            </a:r>
            <a:endParaRPr b="0" lang="en-US" sz="60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6000" spc="-1" strike="noStrike">
              <a:solidFill>
                <a:srgbClr val="ffffff"/>
              </a:solidFill>
              <a:latin typeface="FrancineHmk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FrancineHmk"/>
              </a:rPr>
              <a:t>Comments!</a:t>
            </a:r>
            <a:endParaRPr b="0" lang="en-US" sz="6000" spc="-1" strike="noStrike">
              <a:solidFill>
                <a:srgbClr val="ffffff"/>
              </a:solidFill>
              <a:latin typeface="FrancineHm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orge Crowl</dc:creator>
  <dc:description>revised March 1998</dc:description>
  <dc:language>en-US</dc:language>
  <cp:lastModifiedBy>George Crowl</cp:lastModifiedBy>
  <cp:revision>0</cp:revision>
  <dc:subject/>
  <dc:title>Classification: Marking</dc:title>
</cp:coreProperties>
</file>