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3298-9C30-441F-B16B-5BD3FE0FD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47760" y="866880"/>
            <a:ext cx="4343400" cy="3257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393840" y="4190760"/>
            <a:ext cx="60451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:55—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old saying, “Plan your work and work your plan.”  Everything that happens in a program year starts with a pl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388-F733-4A7F-8668-AAF1E9F8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EF5-F8CF-4E40-88D1-B3A4B72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D52-7635-4D40-9400-7DA8FC9F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68E-E3AA-4095-A6F6-B7BAE0B0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8635-B6D3-4432-93AB-B0A9CBF8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F131-A731-45FD-95CD-8DCBC9A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8537-CDA1-4648-94E1-B08CA284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2478-82DD-4A8B-9E23-1CD7FFB8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4A0-6D97-45CE-B6F9-70A4EE69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7282-120C-4F6A-9036-921A2328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CC01-6603-41B3-95DA-1825D716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23B-4053-4DD3-B9D5-080946B9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529-BFC6-4C4A-B354-8D7A6E3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00EB-FCB8-4722-9D4E-EC23D27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4C23-6C70-4965-8698-3933FFDE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3DF9-5FAB-4B4B-AF1C-CB166D25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B88C-FE1C-4AD9-8D12-5690704C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BBE-46F9-4A56-BD98-BB2DB48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172-8E22-4CD5-9CF7-007C8411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7AA-C96C-47EF-A3AC-C526E6B2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D53-AA2C-49F9-9DC7-393D4C8F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8FB-CCAB-4903-90F5-02250530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03D-6EA0-4603-AB07-50CA5CBE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053-DA4B-43BA-BE5C-964CC52A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B1F-122B-42E6-925D-E67E30FDC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634-DABF-46ED-B4EB-A3DAC537CB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1690920" cy="1654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olunteer-Professional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lationship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are Commissioners and Professionals Simila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537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eath of Service on badge of off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ry out their service as a “Commissioned” volunteer or profes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beginning of the movement, professionals were unpaid commissi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505320" y="5029200"/>
            <a:ext cx="16905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estions &amp; Solu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Tahoma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pled with 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o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olunteer-Professional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9718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Intentionall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begin to build a good relationship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thrives, Scouting thrives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is not working well, Scouting suffer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alities of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ood Relationship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Good volunteer-professional relationships are characterized by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tual trust, mutual respect, and mutual recognition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ccff"/>
                </a:solidFill>
                <a:latin typeface="Tahoma"/>
              </a:rPr>
              <a:t>of each other’s role and competenc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o are you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cessib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cce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hange phone numbers, e-mail addresses &amp; mailing addr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oid the impression that you are too busy or annoyed when ca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calls promp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 to emails with a return email or phone c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viro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welcom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e professional into the 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volunteers get acquainted with the new profes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make the most efficient use of each other’s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ssioners should know that they can turn to their professional for advice or troubleshoo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create the kind of relationship in which you are comfortable asking for hel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lationshi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 Scouting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 of being a good Scouter is working with all kinds of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k with your professional partner about how you are working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to know your professional as a whole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in mind that Scouting is not a person’s only priority in l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your professional know if you plan to have your spouse, secretary, or work associate assist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evelop good 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king Togeth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gendas together before meetings and collaborate on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k out each other’s guidance before taking on challe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out differences in private, behind closed doors – always present a united front to the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ect each other’s exper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ve for solutions that meet everyone’s ne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03:56Z</dcterms:created>
  <dc:creator>Al Friedrich</dc:creator>
  <dc:description/>
  <dc:language>en-US</dc:language>
  <cp:lastModifiedBy>Al Friedrich</cp:lastModifiedBy>
  <dcterms:modified xsi:type="dcterms:W3CDTF">2010-02-14T10:51:06Z</dcterms:modified>
  <cp:revision>28</cp:revision>
  <dc:subject/>
  <dc:title>Annual  Commissioner Service Plan</dc:title>
</cp:coreProperties>
</file>