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46320" y="866880"/>
            <a:ext cx="4348080" cy="325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0360" y="8294760"/>
            <a:ext cx="6186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r" pos="583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"/>
          <p:cNvSpPr/>
          <p:nvPr/>
        </p:nvSpPr>
        <p:spPr>
          <a:xfrm>
            <a:off x="401760" y="504720"/>
            <a:ext cx="6041880" cy="2811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403200" y="460440"/>
            <a:ext cx="60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Narrow"/>
              </a:rPr>
              <a:t>Serving Scouts With disAbiliti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47760" y="866880"/>
            <a:ext cx="4344840" cy="3257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47760" y="866880"/>
            <a:ext cx="4344840" cy="32572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84160" y="418680"/>
            <a:ext cx="710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76240" y="3959280"/>
            <a:ext cx="794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4160" y="418680"/>
            <a:ext cx="710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387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6760" y="1809720"/>
            <a:ext cx="387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76240" y="3959280"/>
            <a:ext cx="387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6760" y="3959280"/>
            <a:ext cx="387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84160" y="418680"/>
            <a:ext cx="710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255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2200" y="1809720"/>
            <a:ext cx="255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8520" y="1809720"/>
            <a:ext cx="255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76240" y="3959280"/>
            <a:ext cx="255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2200" y="3959280"/>
            <a:ext cx="255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8520" y="3959280"/>
            <a:ext cx="255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84160" y="418680"/>
            <a:ext cx="710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84160" y="418680"/>
            <a:ext cx="710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84160" y="418680"/>
            <a:ext cx="710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387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6760" y="1809720"/>
            <a:ext cx="387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4160" y="418680"/>
            <a:ext cx="710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84160" y="418680"/>
            <a:ext cx="7105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84160" y="418680"/>
            <a:ext cx="710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387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6760" y="1809720"/>
            <a:ext cx="387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76240" y="3959280"/>
            <a:ext cx="387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84160" y="418680"/>
            <a:ext cx="710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387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6760" y="1809720"/>
            <a:ext cx="387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6760" y="3959280"/>
            <a:ext cx="387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84160" y="418680"/>
            <a:ext cx="710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387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6760" y="1809720"/>
            <a:ext cx="387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6240" y="3959280"/>
            <a:ext cx="794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84160" y="418680"/>
            <a:ext cx="710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1657440"/>
            <a:ext cx="8115120" cy="129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92000" indent="-3394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244880" indent="-3394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77840" y="165240"/>
            <a:ext cx="1359000" cy="13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Tonymei.novato@earthlink.net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swd.org/review-scoutmasters-guide.htm" TargetMode="External"/><Relationship Id="rId2" Type="http://schemas.openxmlformats.org/officeDocument/2006/relationships/hyperlink" Target="http://wwswd.org/downloads/58-730-Alt-Eagle-Scout-MB-application.PDF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60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MCS 424:   Serving Scouts with disAbilities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5360" y="209520"/>
            <a:ext cx="1251000" cy="1268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74640" y="254160"/>
            <a:ext cx="1219320" cy="1234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857680" y="228600"/>
            <a:ext cx="1231560" cy="1265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102200" y="233280"/>
            <a:ext cx="1282680" cy="1257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397480" y="233280"/>
            <a:ext cx="1270080" cy="1312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6603840" y="2667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7785000" y="258840"/>
            <a:ext cx="1282680" cy="1307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3086280" y="3838680"/>
            <a:ext cx="2857320" cy="2552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63200" y="418680"/>
            <a:ext cx="7226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 Guide to Working With Boy Scouts With disABILITIES</a:t>
            </a:r>
            <a:endParaRPr b="1" i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Guide for working with ALL Scout youth                 (handout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Best summary pub --- BY FAR!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ummarizes the types of disAbilities and provides general advice/guidan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Scouting for Youth With Disabilities Manual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, #34059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 “MUST HAVE”  -- the seminal resource with guidance, policy and form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4160" y="418680"/>
            <a:ext cx="710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Scouting for Youth With DisABILITIES Manual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BSA # 34059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419640" y="1928880"/>
            <a:ext cx="358272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84160" y="418680"/>
            <a:ext cx="710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Scouting for Youth With DisABILITIES Manual</a:t>
            </a:r>
            <a:br>
              <a:rPr sz="3200"/>
            </a:b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Table of Contents</a:t>
            </a:r>
            <a:br>
              <a:rPr sz="3600"/>
            </a:br>
            <a:endParaRPr b="1" i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-804600">
              <a:spcBef>
                <a:spcPts val="700"/>
              </a:spcBef>
              <a:buClr>
                <a:srgbClr val="ffffff"/>
              </a:buClr>
              <a:buSzPct val="75000"/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couting is…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804600" indent="-804600">
              <a:spcBef>
                <a:spcPts val="700"/>
              </a:spcBef>
              <a:buClr>
                <a:srgbClr val="ffffff"/>
              </a:buClr>
              <a:buSzPct val="75000"/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How to Organize…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804600" indent="-804600">
              <a:spcBef>
                <a:spcPts val="700"/>
              </a:spcBef>
              <a:buClr>
                <a:srgbClr val="ffffff"/>
              </a:buClr>
              <a:buSzPct val="75000"/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Joining Scout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257120" indent="-80460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clusion vs disAbilities-Specific Uni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804600" indent="-804600">
              <a:spcBef>
                <a:spcPts val="700"/>
              </a:spcBef>
              <a:buClr>
                <a:srgbClr val="ffffff"/>
              </a:buClr>
              <a:buSzPct val="75000"/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dult Leadership Suppor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804600" indent="-804600">
              <a:spcBef>
                <a:spcPts val="700"/>
              </a:spcBef>
              <a:buClr>
                <a:srgbClr val="ffffff"/>
              </a:buClr>
              <a:buSzPct val="75000"/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ub Scouting Program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804600" indent="-804600">
              <a:spcBef>
                <a:spcPts val="700"/>
              </a:spcBef>
              <a:buClr>
                <a:srgbClr val="ffffff"/>
              </a:buClr>
              <a:buSzPct val="75000"/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Boy Scouting Program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804600" indent="-804600">
              <a:spcBef>
                <a:spcPts val="700"/>
              </a:spcBef>
              <a:buClr>
                <a:srgbClr val="ffffff"/>
              </a:buClr>
              <a:buSzPct val="75000"/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Venturing Program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4160" y="418680"/>
            <a:ext cx="710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Scouting for Youth With DisABILITIES Manual</a:t>
            </a:r>
            <a:br>
              <a:rPr sz="3200"/>
            </a:b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Table of Contents</a:t>
            </a:r>
            <a:br>
              <a:rPr sz="3600"/>
            </a:br>
            <a:endParaRPr b="1" i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 Narrow"/>
              <a:buAutoNum type="roman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Learning For Life Program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 Narrow"/>
              <a:buAutoNum type="roman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Understanding Categories of Disabilities and Best Practic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 Narrow"/>
              <a:buAutoNum type="roman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ppendix – Fact Sheets &amp; Form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 Narrow"/>
              <a:buAutoNum type="roman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ppendix – Resourc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 Narrow"/>
              <a:buAutoNum type="roman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ppendix – Best Practices &amp; Additional Resourc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 Narrow"/>
              <a:buAutoNum type="roman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ummar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84160" y="185400"/>
            <a:ext cx="710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Scouting for Youth With DisABILITIES Manual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Categories of disAbilities &amp; Best Methods</a:t>
            </a:r>
            <a:endParaRPr b="1" i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17560" y="210024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efinitions of Term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earning disAbiliti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utism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DD/ADH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Hearing/Speech/Languag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motional/Behavioral/Social Impairmen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hysical disAbiliti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Visual Impairmen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ognitive, Intellectual, and Developmenta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4160" y="418680"/>
            <a:ext cx="710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Boy Scout Form #78-530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pplication for Alternate Eagle Scout Merit Badges (handout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ction X, Appendix C of Manua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What qualifies as an alternate MB?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ouncil Advancement Committee approv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NOTE: Use of ISAP simplifies and support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28720" y="418680"/>
            <a:ext cx="7161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Individualized Scout Achievement Plan  (ISAP)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couting’s “IEP” for advancement (handout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ollows and documents BSA requirements for qualifying as Scout with disabi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Lays groundwork for, and describes alternative requirement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orm at Section X, Appendix E, in manual recommends using – developed by WWSWd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018200" y="5025960"/>
            <a:ext cx="18338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4160" y="418680"/>
            <a:ext cx="710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WWSWd Website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Working With Scouts With disAbiliti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wwswd.org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UNOFFICIAL – originally housed on Marin Council site (1998-2006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 RESOURC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067520" y="4962600"/>
            <a:ext cx="17049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4160" y="418680"/>
            <a:ext cx="710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lternate Requirement Primer</a:t>
            </a:r>
            <a:endParaRPr b="1" i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Meet qualification of having disAbi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ouncil Advancement Committee approval (see Section X, Appendix D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[Maximum] age waive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s challenging as original requiremen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Varies by program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4160" y="418680"/>
            <a:ext cx="710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lternate Requirement Prim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(by Program)</a:t>
            </a:r>
            <a:endParaRPr b="1" i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ub Scouts ------------ “Do Your Best”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Boy Scouts:  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92000" indent="-3394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-2-1 ------------------ Approved alternate reqt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92000" indent="-3394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Merit Badges ------ No alternate reqt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92000" indent="-3394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Eagle ----------------- Alternate Eagle MB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Varsity ------------------- Same as Boy Scout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Venturing --------------- Not defined ye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4160" y="418680"/>
            <a:ext cx="710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Introduction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ony Mei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Unit Commissioner, Marin Counci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Webmaster, WWSWd.org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ff"/>
                </a:solidFill>
                <a:uFillTx/>
                <a:latin typeface="Arial Narrow"/>
                <a:hlinkClick r:id="rId1"/>
              </a:rPr>
              <a:t>Tonymei.novato@gmail.com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         </a:t>
            </a: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QUESTIONS ?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695680" y="2390760"/>
            <a:ext cx="3790800" cy="3389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809720" y="482760"/>
            <a:ext cx="668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Serving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couts</a:t>
            </a: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with disAbiliti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Narrow"/>
              </a:rPr>
              <a:t>Provide what a Commissioner needs to know to support a program that provides the scouting opportunity for youth with disAbilities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"/>
          <p:cNvSpPr/>
          <p:nvPr/>
        </p:nvSpPr>
        <p:spPr>
          <a:xfrm>
            <a:off x="2394000" y="398520"/>
            <a:ext cx="546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URPOS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4160" y="418680"/>
            <a:ext cx="710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OAL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ery boy, who wishes to participate in Boy Scouts of America programs, should be given the same opportunities as their non-disabled peers, to participate fully, and to be respected and treated like others in the unit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869080" y="4929120"/>
            <a:ext cx="286380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84160" y="418680"/>
            <a:ext cx="710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Points to Ponder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How do you address a youth/Scout that has a disAbility?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Different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ABILITIES, rather tha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dis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BILITI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hallenge faced by all program division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Youth with disAbilities = an underserved popul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ll boys have “special needs”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Volunteer leaders often don’t understand disAbilities, are unsure or frustrated by a Scout who has disAbilities --- they need resour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84160" y="418680"/>
            <a:ext cx="710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factors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DERSTANDING,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TIENCE, &amp;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ON SENS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LL are important for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68240" indent="-32904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cout leader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68240" indent="-32904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nit member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68240" indent="-32904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THER adults who work with the uni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68240" indent="-32904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he Scou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68240" indent="-32904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cout’s parent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4160" y="418680"/>
            <a:ext cx="710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imary Resource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RENTS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79480" y="2141640"/>
            <a:ext cx="761364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#1 SOURCE OF INFORMATION: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n their son’s ABILITI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n their son’s disAbiliti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bout their son’s dis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by default, most parents become an expert on their children’s diagnosi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4160" y="418680"/>
            <a:ext cx="710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Toolkit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ff"/>
                </a:solidFill>
                <a:uFillTx/>
                <a:latin typeface="Arial Narrow"/>
                <a:hlinkClick r:id="rId1"/>
              </a:rPr>
              <a:t>A Guide to Working With Boy Scouts With DisABILITIES:  No. 33056C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Scouting for Youth With disABILITIES</a:t>
            </a: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 Manual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BSA # 34059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ff"/>
                </a:solidFill>
                <a:uFillTx/>
                <a:latin typeface="Arial Narrow"/>
                <a:hlinkClick r:id="rId2"/>
              </a:rPr>
              <a:t>Application for Alternate Eagle Scout Merit Badges:  No. 58-730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dividual Scout Achievement Pla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WWSWd websit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lternate Requirement Prime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200" y="418680"/>
            <a:ext cx="7226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 Guide to Working With Boy Scouts With disABILITIES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BSA #33056C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897280" y="1933560"/>
            <a:ext cx="354960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7T16:06:14Z</dcterms:created>
  <dc:creator>Tony Mei</dc:creator>
  <dc:description>updated February 2009
created February 2008 </dc:description>
  <cp:keywords/>
  <dc:language>en-US</dc:language>
  <cp:lastModifiedBy>Anthony Mei</cp:lastModifiedBy>
  <cp:lastPrinted>2002-05-20T21:08:08Z</cp:lastPrinted>
  <dcterms:modified xsi:type="dcterms:W3CDTF">2009-02-22T20:03:12Z</dcterms:modified>
  <cp:revision>151</cp:revision>
  <dc:subject>Northern California Commissioner College</dc:subject>
  <dc:title>MCS - Serving Scouts with disAbilities</dc:title>
</cp:coreProperties>
</file>