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8.jpeg" ContentType="image/jpeg"/>
  <Override PartName="/ppt/media/image9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6BED69-701B-4A7C-998E-EACA467573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ftr" idx="3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 type="sldNum" idx="3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792BA6-7B6C-4CB8-A145-802A8B2E0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E69BC1-F7DD-49A9-BA28-4EAEF75B6E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F728-F3BF-455E-AA34-C10F50AF1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19A8-80B3-499E-8A22-0D58B2E4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7AB972-BD36-46CF-A04B-535A9358D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E2DC9F-2437-4918-820B-C43DAF8AA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9EBF36-5F70-4F88-A06F-33D637BCB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A596D4-4D0A-4BDA-BB96-CC9D380E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237CA3-23F1-4F0A-A94D-FF051F77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9AAEC6-B315-4C98-BFFA-128EAAD0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617B99-6E59-41FC-8FF0-76487D116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C88EEE-3C6D-48ED-AEFD-58C21821F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ACB3F1-5988-437E-85FD-52D8C73ED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A23DC6-132B-4779-A18A-6648EAAD2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3C84-0AD3-46BA-892F-A80298E6F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0B923C-E53E-4C60-A9A1-45AAAB6EF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15091C-4A43-44AC-8CED-F8B715603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47186B-E77D-4088-978B-7BEA22BF7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7045E7-47EA-48FB-A35D-6BF8293F2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C5649A-994E-4956-A56D-AC4784E09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5C4CC2-6F8F-48D2-A121-F969F270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9F7889-9EF4-4DB8-A5B4-17F4BF5F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0EC610-E7FD-493A-83CA-E07E0B87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58694E-8E15-4575-A6C6-8ABB3C860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AD5DEA-FC57-4D42-8607-D4BDAEA43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9B91-454E-4FD7-BBC1-D5DE55439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FBD9E8-B5C5-4FA9-BF37-001D269CB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DC986F-B33D-461C-9AE4-E6E24343E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8C48B8-9F43-4211-88E3-C49661B9B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CFFBDF-89C5-4B66-85BA-B3E334B40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B89551-7905-4824-B8A5-835B9252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493B13-32AA-4C81-8B5C-9109DE8F5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372BE2-D487-43BA-B3E2-09F198F8B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66A80D-4870-47B8-B95C-07092CB4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1DD9A6-06E8-47D2-9D7A-E0FF1D05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EA8901-BA46-4612-A2FA-27A58CAA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CA90C-D03B-4094-9A68-60B0372A7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F120F9-F575-4A31-BAED-B79E86EEB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C98012-A031-4A59-BEF1-38144C3E5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21BD3C-A09A-4A0A-A59C-140010977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5EC43-AB81-4428-8C11-B9C8669BE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1F8A5-4596-4F55-BE05-9E7900DB2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D036A-7A8B-41EA-8391-99AFF7571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627A6-F148-4095-8A2C-F21503280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FEF52-9181-438B-8504-35CCD95B7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3C9A1-63CC-4A89-B68D-80447D19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5689-B817-4B62-B0C0-5AC1A9CEA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EB0DA-94FD-4D0E-BBFF-EF018FBA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336BB-5772-42F2-A7DC-3DD06708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FDCF1-3039-4B72-BF6E-85D75B806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0C0BB-0390-454D-8E51-9C39E59EF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A00EF-D393-4FEB-9F73-BFF661E26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46006-C0C2-46DE-8832-DFCE872CB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6D416-D0AC-47E4-8AE2-E9559EA0D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37B66-107D-42FD-B809-35BADDA9B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BECBC-87C8-43CA-8D17-0974EEEC2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771F7-0CA0-493F-851A-580BA35FD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EC9D-0DE8-4CA0-9B43-042DF9FF8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8F3DA-24D6-4DAF-B202-5CAACA66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5CE3B-560D-4741-9F53-6D85DF3D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3D019-5CBA-442F-8C80-A47A1A93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D6C1C-8E20-4C57-848A-B5E4603B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53858-4A4E-4771-B453-32C3EE222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033E3-2F5B-4988-BFFE-0AF57EEA1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00E45-4585-44FB-9F2E-9D3B4A3E8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00735-C33A-4B77-9CFF-D94A9B437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8375B-B10B-421A-BD16-D55E42392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2205A-A9F0-4B4B-A46D-43553069D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ADB6-8896-45C5-8FF3-16A20B0D2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07C51-2F79-4945-A345-6B4DF6D55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CBB0C-2C63-45A6-AC21-6899736FD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03E50-E750-47A2-BBE3-BD505DC59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90BC0-5742-427D-A02B-7CBB09EC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094BD-70B1-4457-B85D-717F274A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FEBB6-A76E-4174-BB00-F4D79A30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DED00-C217-4DC4-AF01-7F374F7CB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74600-D637-43A8-A978-5021448A3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5F846-9BB0-454E-AC7B-486E7A6A9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C8F63-9A29-43C1-9C82-975253A1F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45B6-17BB-4658-98A0-2CFA7AF9D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0D367-DCCE-49C7-8E31-FB9C2567C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5EED8-EA80-4756-A637-7D3D2F2E8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23BA3-A412-4978-95EA-2352E77BA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E98B3-6440-4242-BAE6-D265702FE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60596-F022-42B2-AB67-FB5792C0A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13A97-028B-401D-9DAC-73690E0E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B9724-0C88-49BB-A442-A4E5DE31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DE13B-4D7C-417C-AC27-4FFBEACC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F6C9A-5408-4F15-A43E-49FDFDD9C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36997-8B9F-485A-9F5D-12FF99FF1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8F1C-A8AA-4546-B1AF-F51691157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97EA6-D12A-40F4-927D-1328F6CAE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0CC6A-5E8A-43A3-BF70-D4E585E5E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D19C5-BAD2-4E9E-BD26-486EFCD74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A5C648-DE6F-4E55-83EB-27B65ABFA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7D9A8-527C-434E-AC36-8D338B615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CBDF7-8888-4876-AA7A-035C148E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F5C0F-A6F1-4BBD-AE76-CAF4554D2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10459-1A84-49EE-9F2B-1F63C44D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E9B3F-56C2-4929-BD87-55A5F59E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B684C-4350-4609-98DE-03BA8C9E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BEC1-67E8-43DB-8CCA-165A6EC8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196E0-8A75-41DA-88C7-DD3D4392C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34A857-61D1-461D-895A-FCBB68227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9267F-D59F-4117-8944-DAD477228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97AC2B-9B64-442C-861C-CBD0FF588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780BE-312D-40A6-A3B4-7F7C3C407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A79DF-5FDD-4D89-9469-2AEB74EA1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054EE-DA65-4362-A0F7-5443AF79C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7F7AC-52D7-46B8-AB4A-B99695E0E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B5174-77BC-4951-A051-E45F17FCD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FE645-DD6E-4A93-80CE-A0A660AF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4391-631F-4787-9A52-D8939EF5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5DC8D-0CAB-40D0-86F6-5A16B198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5DE748-87FF-4BCE-AC32-1E748AAB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9EFBC-CB53-40C7-AF78-348289756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D5A85-8AB5-46AB-BB03-29BB93248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CA050-6C6F-4D45-B1AC-2A57BBDFC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4C5B40-0B6A-4678-8B48-21D83AEF8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7E149-6978-4404-A20E-03E37192C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8C69B6-3833-4285-9108-F8D8BDB22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A98831-6087-4C93-AF61-36778E807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0DED94-6D34-4FC6-9A04-42C19A395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BB77-E978-4692-B6AB-F51AB038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3C3C77-C305-4441-AD6D-45E8280F7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6AA8FD-5DF7-40BA-8134-5F40124A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7EF522-15AF-417E-801D-0FFF24C6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5CDECF-54EA-43BA-94FD-587A3357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67F20-D942-4E1D-9F92-6A78C41B8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86E226-4BDD-4D65-AD63-1229D8B42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040A46-3B1D-469D-9AB7-1F3F7651B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3AC1BA-1384-4DAE-BAA9-E1E21CD9D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D18D41-E55B-4BB2-AA81-641774603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B15891-4952-418F-9301-0F22214C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D58FBA-9BE6-44FF-8E47-CB819193C56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DFFE4B-A68D-464B-98DA-B2B7978858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7"/>
          <p:cNvSpPr/>
          <p:nvPr/>
        </p:nvSpPr>
        <p:spPr>
          <a:xfrm>
            <a:off x="0" y="5867280"/>
            <a:ext cx="9144000" cy="990720"/>
          </a:xfrm>
          <a:custGeom>
            <a:avLst/>
            <a:gdLst/>
            <a:ahLst/>
            <a:rect l="l" t="t" r="r" b="b"/>
            <a:pathLst>
              <a:path w="9144000" h="990600">
                <a:moveTo>
                  <a:pt x="0" y="0"/>
                </a:moveTo>
                <a:lnTo>
                  <a:pt x="4607626" y="215735"/>
                </a:lnTo>
                <a:lnTo>
                  <a:pt x="9144000" y="0"/>
                </a:lnTo>
                <a:lnTo>
                  <a:pt x="9144000" y="990600"/>
                </a:lnTo>
                <a:lnTo>
                  <a:pt x="0" y="990600"/>
                </a:lnTo>
                <a:lnTo>
                  <a:pt x="0" y="0"/>
                </a:lnTo>
                <a:close/>
              </a:path>
            </a:pathLst>
          </a:custGeom>
          <a:solidFill>
            <a:srgbClr val="003f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8" descr="AnnivGrStandard_Rev.gif"/>
          <p:cNvPicPr/>
          <p:nvPr/>
        </p:nvPicPr>
        <p:blipFill>
          <a:blip r:embed="rId2"/>
          <a:stretch/>
        </p:blipFill>
        <p:spPr>
          <a:xfrm>
            <a:off x="6357960" y="6213600"/>
            <a:ext cx="2568600" cy="40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6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7"/>
          <p:cNvSpPr/>
          <p:nvPr/>
        </p:nvSpPr>
        <p:spPr>
          <a:xfrm>
            <a:off x="0" y="5867280"/>
            <a:ext cx="9144000" cy="990720"/>
          </a:xfrm>
          <a:custGeom>
            <a:avLst/>
            <a:gdLst/>
            <a:ahLst/>
            <a:rect l="l" t="t" r="r" b="b"/>
            <a:pathLst>
              <a:path w="9144000" h="990600">
                <a:moveTo>
                  <a:pt x="0" y="0"/>
                </a:moveTo>
                <a:lnTo>
                  <a:pt x="4607626" y="215735"/>
                </a:lnTo>
                <a:lnTo>
                  <a:pt x="9144000" y="0"/>
                </a:lnTo>
                <a:lnTo>
                  <a:pt x="9144000" y="990600"/>
                </a:lnTo>
                <a:lnTo>
                  <a:pt x="0" y="990600"/>
                </a:lnTo>
                <a:lnTo>
                  <a:pt x="0" y="0"/>
                </a:lnTo>
                <a:close/>
              </a:path>
            </a:pathLst>
          </a:custGeom>
          <a:solidFill>
            <a:srgbClr val="003f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8" descr="AnnivGrStandard_Rev.gif"/>
          <p:cNvPicPr/>
          <p:nvPr/>
        </p:nvPicPr>
        <p:blipFill>
          <a:blip r:embed="rId2"/>
          <a:stretch/>
        </p:blipFill>
        <p:spPr>
          <a:xfrm>
            <a:off x="6357960" y="6213600"/>
            <a:ext cx="2568600" cy="40932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9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2A8777-F5A8-4AA0-BC3C-7341611A659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809FE1-C61E-4E33-A78F-69FFB1CE50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6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7"/>
          <p:cNvSpPr/>
          <p:nvPr/>
        </p:nvSpPr>
        <p:spPr>
          <a:xfrm>
            <a:off x="0" y="5867280"/>
            <a:ext cx="9144000" cy="990720"/>
          </a:xfrm>
          <a:custGeom>
            <a:avLst/>
            <a:gdLst/>
            <a:ahLst/>
            <a:rect l="l" t="t" r="r" b="b"/>
            <a:pathLst>
              <a:path w="9144000" h="990600">
                <a:moveTo>
                  <a:pt x="0" y="0"/>
                </a:moveTo>
                <a:lnTo>
                  <a:pt x="4607626" y="215735"/>
                </a:lnTo>
                <a:lnTo>
                  <a:pt x="9144000" y="0"/>
                </a:lnTo>
                <a:lnTo>
                  <a:pt x="9144000" y="990600"/>
                </a:lnTo>
                <a:lnTo>
                  <a:pt x="0" y="990600"/>
                </a:lnTo>
                <a:lnTo>
                  <a:pt x="0" y="0"/>
                </a:lnTo>
                <a:close/>
              </a:path>
            </a:pathLst>
          </a:custGeom>
          <a:solidFill>
            <a:srgbClr val="003f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8" descr="AnnivGrStandard_Rev.gif"/>
          <p:cNvPicPr/>
          <p:nvPr/>
        </p:nvPicPr>
        <p:blipFill>
          <a:blip r:embed="rId2"/>
          <a:stretch/>
        </p:blipFill>
        <p:spPr>
          <a:xfrm>
            <a:off x="6357960" y="6213600"/>
            <a:ext cx="2568600" cy="409320"/>
          </a:xfrm>
          <a:prstGeom prst="rect">
            <a:avLst/>
          </a:prstGeom>
          <a:ln w="0">
            <a:noFill/>
          </a:ln>
        </p:spPr>
      </p:pic>
      <p:sp>
        <p:nvSpPr>
          <p:cNvPr id="454" name="Rectangle 9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8B487E-A43E-41F2-A0E0-CA0E5DECC8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7A0546-B5E2-42D8-BAD2-4C82D758E3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7"/>
          <p:cNvSpPr/>
          <p:nvPr/>
        </p:nvSpPr>
        <p:spPr>
          <a:xfrm>
            <a:off x="0" y="5867280"/>
            <a:ext cx="9144000" cy="990720"/>
          </a:xfrm>
          <a:custGeom>
            <a:avLst/>
            <a:gdLst/>
            <a:ahLst/>
            <a:rect l="l" t="t" r="r" b="b"/>
            <a:pathLst>
              <a:path w="9144000" h="990600">
                <a:moveTo>
                  <a:pt x="0" y="0"/>
                </a:moveTo>
                <a:lnTo>
                  <a:pt x="4607626" y="215735"/>
                </a:lnTo>
                <a:lnTo>
                  <a:pt x="9144000" y="0"/>
                </a:lnTo>
                <a:lnTo>
                  <a:pt x="9144000" y="990600"/>
                </a:lnTo>
                <a:lnTo>
                  <a:pt x="0" y="990600"/>
                </a:lnTo>
                <a:lnTo>
                  <a:pt x="0" y="0"/>
                </a:lnTo>
                <a:close/>
              </a:path>
            </a:pathLst>
          </a:custGeom>
          <a:solidFill>
            <a:srgbClr val="003f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AnnivGrStandard_Rev.gif"/>
          <p:cNvPicPr/>
          <p:nvPr/>
        </p:nvPicPr>
        <p:blipFill>
          <a:blip r:embed="rId2"/>
          <a:stretch/>
        </p:blipFill>
        <p:spPr>
          <a:xfrm>
            <a:off x="6357960" y="6213600"/>
            <a:ext cx="2568600" cy="4093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9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10"/>
          <p:cNvSpPr/>
          <p:nvPr/>
        </p:nvSpPr>
        <p:spPr>
          <a:xfrm>
            <a:off x="0" y="5867280"/>
            <a:ext cx="9144000" cy="990720"/>
          </a:xfrm>
          <a:custGeom>
            <a:avLst/>
            <a:gdLst/>
            <a:ahLst/>
            <a:rect l="l" t="t" r="r" b="b"/>
            <a:pathLst>
              <a:path w="9144000" h="990600">
                <a:moveTo>
                  <a:pt x="0" y="0"/>
                </a:moveTo>
                <a:lnTo>
                  <a:pt x="4607626" y="215735"/>
                </a:lnTo>
                <a:lnTo>
                  <a:pt x="9144000" y="0"/>
                </a:lnTo>
                <a:lnTo>
                  <a:pt x="9144000" y="990600"/>
                </a:lnTo>
                <a:lnTo>
                  <a:pt x="0" y="990600"/>
                </a:lnTo>
                <a:lnTo>
                  <a:pt x="0" y="0"/>
                </a:lnTo>
                <a:close/>
              </a:path>
            </a:pathLst>
          </a:custGeom>
          <a:solidFill>
            <a:srgbClr val="003f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1" descr="AnnivGrStandard_Rev.gif"/>
          <p:cNvPicPr/>
          <p:nvPr/>
        </p:nvPicPr>
        <p:blipFill>
          <a:blip r:embed="rId3"/>
          <a:stretch/>
        </p:blipFill>
        <p:spPr>
          <a:xfrm>
            <a:off x="6357960" y="6213600"/>
            <a:ext cx="2568600" cy="4093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08CF8D-6318-4E36-8225-2581B7296E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914D4A-4A63-4CF3-B6B2-B1B5E73570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7"/>
          <p:cNvSpPr/>
          <p:nvPr/>
        </p:nvSpPr>
        <p:spPr>
          <a:xfrm>
            <a:off x="0" y="5867280"/>
            <a:ext cx="9144000" cy="990720"/>
          </a:xfrm>
          <a:custGeom>
            <a:avLst/>
            <a:gdLst/>
            <a:ahLst/>
            <a:rect l="l" t="t" r="r" b="b"/>
            <a:pathLst>
              <a:path w="9144000" h="990600">
                <a:moveTo>
                  <a:pt x="0" y="0"/>
                </a:moveTo>
                <a:lnTo>
                  <a:pt x="4607626" y="215735"/>
                </a:lnTo>
                <a:lnTo>
                  <a:pt x="9144000" y="0"/>
                </a:lnTo>
                <a:lnTo>
                  <a:pt x="9144000" y="990600"/>
                </a:lnTo>
                <a:lnTo>
                  <a:pt x="0" y="990600"/>
                </a:lnTo>
                <a:lnTo>
                  <a:pt x="0" y="0"/>
                </a:lnTo>
                <a:close/>
              </a:path>
            </a:pathLst>
          </a:custGeom>
          <a:solidFill>
            <a:srgbClr val="003f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AnnivGrStandard_Rev.gif"/>
          <p:cNvPicPr/>
          <p:nvPr/>
        </p:nvPicPr>
        <p:blipFill>
          <a:blip r:embed="rId2"/>
          <a:stretch/>
        </p:blipFill>
        <p:spPr>
          <a:xfrm>
            <a:off x="6357960" y="6213600"/>
            <a:ext cx="2568600" cy="4093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9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B26C12-D6F0-44E1-8B57-B58E5C5CA20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1677D6-7B5D-4971-88CC-D30C298FD6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0" y="5867280"/>
            <a:ext cx="9144000" cy="990720"/>
          </a:xfrm>
          <a:custGeom>
            <a:avLst/>
            <a:gdLst/>
            <a:ahLst/>
            <a:rect l="l" t="t" r="r" b="b"/>
            <a:pathLst>
              <a:path w="9144000" h="990600">
                <a:moveTo>
                  <a:pt x="0" y="0"/>
                </a:moveTo>
                <a:lnTo>
                  <a:pt x="4607626" y="215735"/>
                </a:lnTo>
                <a:lnTo>
                  <a:pt x="9144000" y="0"/>
                </a:lnTo>
                <a:lnTo>
                  <a:pt x="9144000" y="990600"/>
                </a:lnTo>
                <a:lnTo>
                  <a:pt x="0" y="990600"/>
                </a:lnTo>
                <a:lnTo>
                  <a:pt x="0" y="0"/>
                </a:lnTo>
                <a:close/>
              </a:path>
            </a:pathLst>
          </a:custGeom>
          <a:solidFill>
            <a:srgbClr val="003f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AnnivGrStandard_Rev.gif"/>
          <p:cNvPicPr/>
          <p:nvPr/>
        </p:nvPicPr>
        <p:blipFill>
          <a:blip r:embed="rId2"/>
          <a:stretch/>
        </p:blipFill>
        <p:spPr>
          <a:xfrm>
            <a:off x="6357960" y="6213600"/>
            <a:ext cx="2568600" cy="4093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9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60804E-2BF4-4315-93D9-EBF463FC4B3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74AFB2-8348-4D3A-97F7-4AC277B56F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6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7"/>
          <p:cNvSpPr/>
          <p:nvPr/>
        </p:nvSpPr>
        <p:spPr>
          <a:xfrm>
            <a:off x="0" y="5867280"/>
            <a:ext cx="9144000" cy="990720"/>
          </a:xfrm>
          <a:custGeom>
            <a:avLst/>
            <a:gdLst/>
            <a:ahLst/>
            <a:rect l="l" t="t" r="r" b="b"/>
            <a:pathLst>
              <a:path w="9144000" h="990600">
                <a:moveTo>
                  <a:pt x="0" y="0"/>
                </a:moveTo>
                <a:lnTo>
                  <a:pt x="4607626" y="215735"/>
                </a:lnTo>
                <a:lnTo>
                  <a:pt x="9144000" y="0"/>
                </a:lnTo>
                <a:lnTo>
                  <a:pt x="9144000" y="990600"/>
                </a:lnTo>
                <a:lnTo>
                  <a:pt x="0" y="990600"/>
                </a:lnTo>
                <a:lnTo>
                  <a:pt x="0" y="0"/>
                </a:lnTo>
                <a:close/>
              </a:path>
            </a:pathLst>
          </a:custGeom>
          <a:solidFill>
            <a:srgbClr val="003f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8" descr="AnnivGrStandard_Rev.gif"/>
          <p:cNvPicPr/>
          <p:nvPr/>
        </p:nvPicPr>
        <p:blipFill>
          <a:blip r:embed="rId2"/>
          <a:stretch/>
        </p:blipFill>
        <p:spPr>
          <a:xfrm>
            <a:off x="6357960" y="6213600"/>
            <a:ext cx="2568600" cy="40932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9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4D3B0A-EC76-47CB-B5B5-7FED13056C4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23B05D-C22B-4147-B04F-F208DF9ADC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6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7"/>
          <p:cNvSpPr/>
          <p:nvPr/>
        </p:nvSpPr>
        <p:spPr>
          <a:xfrm>
            <a:off x="0" y="5867280"/>
            <a:ext cx="9144000" cy="990720"/>
          </a:xfrm>
          <a:custGeom>
            <a:avLst/>
            <a:gdLst/>
            <a:ahLst/>
            <a:rect l="l" t="t" r="r" b="b"/>
            <a:pathLst>
              <a:path w="9144000" h="990600">
                <a:moveTo>
                  <a:pt x="0" y="0"/>
                </a:moveTo>
                <a:lnTo>
                  <a:pt x="4607626" y="215735"/>
                </a:lnTo>
                <a:lnTo>
                  <a:pt x="9144000" y="0"/>
                </a:lnTo>
                <a:lnTo>
                  <a:pt x="9144000" y="990600"/>
                </a:lnTo>
                <a:lnTo>
                  <a:pt x="0" y="990600"/>
                </a:lnTo>
                <a:lnTo>
                  <a:pt x="0" y="0"/>
                </a:lnTo>
                <a:close/>
              </a:path>
            </a:pathLst>
          </a:custGeom>
          <a:solidFill>
            <a:srgbClr val="003f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8" descr="AnnivGrStandard_Rev.gif"/>
          <p:cNvPicPr/>
          <p:nvPr/>
        </p:nvPicPr>
        <p:blipFill>
          <a:blip r:embed="rId2"/>
          <a:stretch/>
        </p:blipFill>
        <p:spPr>
          <a:xfrm>
            <a:off x="6357960" y="6213600"/>
            <a:ext cx="2568600" cy="40932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9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4159D0-1854-4C2D-89A6-888DF0267FE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5C29C6-8E6C-4DCE-913A-E973DCB5ED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6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reeform 7"/>
          <p:cNvSpPr/>
          <p:nvPr/>
        </p:nvSpPr>
        <p:spPr>
          <a:xfrm>
            <a:off x="0" y="5867280"/>
            <a:ext cx="9144000" cy="990720"/>
          </a:xfrm>
          <a:custGeom>
            <a:avLst/>
            <a:gdLst/>
            <a:ahLst/>
            <a:rect l="l" t="t" r="r" b="b"/>
            <a:pathLst>
              <a:path w="9144000" h="990600">
                <a:moveTo>
                  <a:pt x="0" y="0"/>
                </a:moveTo>
                <a:lnTo>
                  <a:pt x="4607626" y="215735"/>
                </a:lnTo>
                <a:lnTo>
                  <a:pt x="9144000" y="0"/>
                </a:lnTo>
                <a:lnTo>
                  <a:pt x="9144000" y="990600"/>
                </a:lnTo>
                <a:lnTo>
                  <a:pt x="0" y="990600"/>
                </a:lnTo>
                <a:lnTo>
                  <a:pt x="0" y="0"/>
                </a:lnTo>
                <a:close/>
              </a:path>
            </a:pathLst>
          </a:custGeom>
          <a:solidFill>
            <a:srgbClr val="003f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8" descr="AnnivGrStandard_Rev.gif"/>
          <p:cNvPicPr/>
          <p:nvPr/>
        </p:nvPicPr>
        <p:blipFill>
          <a:blip r:embed="rId2"/>
          <a:stretch/>
        </p:blipFill>
        <p:spPr>
          <a:xfrm>
            <a:off x="6357960" y="6213600"/>
            <a:ext cx="2568600" cy="40932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9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578C73-37E9-44A1-97A0-60F3D17388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E54B59-FD83-4857-B03B-F16467A96D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6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7"/>
          <p:cNvSpPr/>
          <p:nvPr/>
        </p:nvSpPr>
        <p:spPr>
          <a:xfrm>
            <a:off x="0" y="5867280"/>
            <a:ext cx="9144000" cy="990720"/>
          </a:xfrm>
          <a:custGeom>
            <a:avLst/>
            <a:gdLst/>
            <a:ahLst/>
            <a:rect l="l" t="t" r="r" b="b"/>
            <a:pathLst>
              <a:path w="9144000" h="990600">
                <a:moveTo>
                  <a:pt x="0" y="0"/>
                </a:moveTo>
                <a:lnTo>
                  <a:pt x="4607626" y="215735"/>
                </a:lnTo>
                <a:lnTo>
                  <a:pt x="9144000" y="0"/>
                </a:lnTo>
                <a:lnTo>
                  <a:pt x="9144000" y="990600"/>
                </a:lnTo>
                <a:lnTo>
                  <a:pt x="0" y="990600"/>
                </a:lnTo>
                <a:lnTo>
                  <a:pt x="0" y="0"/>
                </a:lnTo>
                <a:close/>
              </a:path>
            </a:pathLst>
          </a:custGeom>
          <a:solidFill>
            <a:srgbClr val="003f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8" descr="AnnivGrStandard_Rev.gif"/>
          <p:cNvPicPr/>
          <p:nvPr/>
        </p:nvPicPr>
        <p:blipFill>
          <a:blip r:embed="rId2"/>
          <a:stretch/>
        </p:blipFill>
        <p:spPr>
          <a:xfrm>
            <a:off x="6357960" y="6213600"/>
            <a:ext cx="2568600" cy="40932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9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97C5BF-350C-4DF4-9B74-AA564371AC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090B55-8998-485F-A670-F3DE5ECD08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6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reeform 7"/>
          <p:cNvSpPr/>
          <p:nvPr/>
        </p:nvSpPr>
        <p:spPr>
          <a:xfrm>
            <a:off x="0" y="5867280"/>
            <a:ext cx="9144000" cy="990720"/>
          </a:xfrm>
          <a:custGeom>
            <a:avLst/>
            <a:gdLst/>
            <a:ahLst/>
            <a:rect l="l" t="t" r="r" b="b"/>
            <a:pathLst>
              <a:path w="9144000" h="990600">
                <a:moveTo>
                  <a:pt x="0" y="0"/>
                </a:moveTo>
                <a:lnTo>
                  <a:pt x="4607626" y="215735"/>
                </a:lnTo>
                <a:lnTo>
                  <a:pt x="9144000" y="0"/>
                </a:lnTo>
                <a:lnTo>
                  <a:pt x="9144000" y="990600"/>
                </a:lnTo>
                <a:lnTo>
                  <a:pt x="0" y="990600"/>
                </a:lnTo>
                <a:lnTo>
                  <a:pt x="0" y="0"/>
                </a:lnTo>
                <a:close/>
              </a:path>
            </a:pathLst>
          </a:custGeom>
          <a:solidFill>
            <a:srgbClr val="003f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8" descr="AnnivGrStandard_Rev.gif"/>
          <p:cNvPicPr/>
          <p:nvPr/>
        </p:nvPicPr>
        <p:blipFill>
          <a:blip r:embed="rId2"/>
          <a:stretch/>
        </p:blipFill>
        <p:spPr>
          <a:xfrm>
            <a:off x="6357960" y="6213600"/>
            <a:ext cx="2568600" cy="40932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9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FC817C-5056-44D0-B9C5-9897260B768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732267-F8FA-4CF0-BFE9-4E13A01822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Slide Number Placeholder 3"/>
          <p:cNvSpPr/>
          <p:nvPr/>
        </p:nvSpPr>
        <p:spPr>
          <a:xfrm>
            <a:off x="380880" y="6172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0C944B-2263-4CE6-9B83-0DF0B8DE12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4" descr="Journey_to_excellence Clean.JPG"/>
          <p:cNvPicPr/>
          <p:nvPr/>
        </p:nvPicPr>
        <p:blipFill>
          <a:blip r:embed="rId1"/>
          <a:stretch/>
        </p:blipFill>
        <p:spPr>
          <a:xfrm>
            <a:off x="1905120" y="1654200"/>
            <a:ext cx="5486400" cy="313200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6" descr="Journey_Logos.png"/>
          <p:cNvPicPr/>
          <p:nvPr/>
        </p:nvPicPr>
        <p:blipFill>
          <a:blip r:embed="rId2"/>
          <a:stretch/>
        </p:blipFill>
        <p:spPr>
          <a:xfrm>
            <a:off x="1066680" y="438120"/>
            <a:ext cx="6921720" cy="1216080"/>
          </a:xfrm>
          <a:prstGeom prst="rect">
            <a:avLst/>
          </a:prstGeom>
          <a:ln w="0">
            <a:noFill/>
          </a:ln>
        </p:spPr>
      </p:pic>
      <p:sp>
        <p:nvSpPr>
          <p:cNvPr id="506" name="TextBox 4"/>
          <p:cNvSpPr/>
          <p:nvPr/>
        </p:nvSpPr>
        <p:spPr>
          <a:xfrm>
            <a:off x="1752480" y="5029200"/>
            <a:ext cx="586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76092"/>
                </a:solidFill>
                <a:latin typeface="Baskerville Old Face"/>
                <a:ea typeface="바탕"/>
              </a:rPr>
              <a:t>PERFORMANCE RECOGNITION PROGRAM FOR COMMISSION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ere’s an Example for Boy Scou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57200" y="1650960"/>
            <a:ext cx="822960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dvancem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Increase the percentage of boy scouts earning rank advanceme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4000"/>
                </a:solidFill>
                <a:latin typeface="Calibri"/>
              </a:rPr>
              <a:t>Bronze</a:t>
            </a:r>
            <a:r>
              <a:rPr b="0" lang="en-US" sz="2400" spc="-1" strike="noStrike">
                <a:solidFill>
                  <a:srgbClr val="804000"/>
                </a:solidFill>
                <a:latin typeface="Calibri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ve 55% of boy scouts advance one rank OR have a 2 percentage point increase – 75 poi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alibri"/>
              </a:rPr>
              <a:t>Silver </a:t>
            </a:r>
            <a:r>
              <a:rPr b="0" lang="en-US" sz="2400" spc="-1" strike="noStrike">
                <a:solidFill>
                  <a:srgbClr val="808080"/>
                </a:solidFill>
                <a:latin typeface="Calibri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ve 60% of boy scouts advance OR have 55% advance and have a 2 percentage point increase – 150 poi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8000"/>
                </a:solidFill>
                <a:latin typeface="Calibri"/>
              </a:rPr>
              <a:t>Gold</a:t>
            </a:r>
            <a:r>
              <a:rPr b="0" lang="en-US" sz="2400" spc="-1" strike="noStrike">
                <a:solidFill>
                  <a:srgbClr val="ff8000"/>
                </a:solidFill>
                <a:latin typeface="Calibri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ve 65% of boy scouts advance OR have 60% advance and have a 2 percentage point increase) - 300 poi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655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ere’s another Examp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Boy Scou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2319120"/>
            <a:ext cx="8229600" cy="34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hort Term Camping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The troop conducts short term or weekend campouts throughout the ye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4000"/>
                </a:solidFill>
                <a:latin typeface="Calibri"/>
              </a:rPr>
              <a:t>Bronze</a:t>
            </a:r>
            <a:r>
              <a:rPr b="0" lang="en-US" sz="2300" spc="-1" strike="noStrike">
                <a:solidFill>
                  <a:srgbClr val="804000"/>
                </a:solidFill>
                <a:latin typeface="Calibri"/>
              </a:rPr>
              <a:t> –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onduct 4 short term campouts - 50 point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8080"/>
                </a:solidFill>
                <a:latin typeface="Calibri"/>
              </a:rPr>
              <a:t>Silver </a:t>
            </a:r>
            <a:r>
              <a:rPr b="0" lang="en-US" sz="2300" spc="-1" strike="noStrike">
                <a:solidFill>
                  <a:srgbClr val="808080"/>
                </a:solidFill>
                <a:latin typeface="Calibri"/>
              </a:rPr>
              <a:t>–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onduct 8 short term campouts – 100 point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8000"/>
                </a:solidFill>
                <a:latin typeface="Calibri"/>
              </a:rPr>
              <a:t>Gold</a:t>
            </a:r>
            <a:r>
              <a:rPr b="0" lang="en-US" sz="2300" spc="-1" strike="noStrike">
                <a:solidFill>
                  <a:srgbClr val="ff8000"/>
                </a:solidFill>
                <a:latin typeface="Calibri"/>
              </a:rPr>
              <a:t> –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onduct 10 short term campouts – 200 point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ere’s an Example for Ventur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457200" y="1417320"/>
            <a:ext cx="82296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Youth leadershi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The crew has elected youth leaders who are leading the crew activit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4000"/>
                </a:solidFill>
                <a:latin typeface="Calibri"/>
              </a:rPr>
              <a:t>Bronze</a:t>
            </a:r>
            <a:r>
              <a:rPr b="0" lang="en-US" sz="2300" spc="-1" strike="noStrike">
                <a:solidFill>
                  <a:srgbClr val="804000"/>
                </a:solidFill>
                <a:latin typeface="Calibri"/>
              </a:rPr>
              <a:t> –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Have an elected president, vice president, secretary, and treasurer, and they are leading the activities of the crew. 75 point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8080"/>
                </a:solidFill>
                <a:latin typeface="Calibri"/>
              </a:rPr>
              <a:t>Silver </a:t>
            </a:r>
            <a:r>
              <a:rPr b="0" lang="en-US" sz="2300" spc="-1" strike="noStrike">
                <a:solidFill>
                  <a:srgbClr val="808080"/>
                </a:solidFill>
                <a:latin typeface="Calibri"/>
              </a:rPr>
              <a:t>–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50% of the youth participate in Introduction to Leadership Skills for Crews (ILSC) course. 150 point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8000"/>
                </a:solidFill>
                <a:latin typeface="Calibri"/>
              </a:rPr>
              <a:t>Gold </a:t>
            </a:r>
            <a:r>
              <a:rPr b="0" lang="en-US" sz="2300" spc="-1" strike="noStrike">
                <a:solidFill>
                  <a:srgbClr val="ff8000"/>
                </a:solidFill>
                <a:latin typeface="Calibri"/>
              </a:rPr>
              <a:t>–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70% of youth participate in Introduction to Leadership Skills for Crews. 300 point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934004-DD97-40C4-8E31-8C6A227D89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ere’s another Exampl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r Ventur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457200" y="198252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ctivities –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rew has regular activities throughout the year reflecting the interests of the youth memb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4000"/>
                </a:solidFill>
                <a:latin typeface="Calibri"/>
              </a:rPr>
              <a:t>Bronze </a:t>
            </a:r>
            <a:r>
              <a:rPr b="0" lang="en-US" sz="2300" spc="-1" strike="noStrike">
                <a:solidFill>
                  <a:srgbClr val="804000"/>
                </a:solidFill>
                <a:latin typeface="Calibri"/>
              </a:rPr>
              <a:t>–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Have carried out at least four activities. 100 point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8080"/>
                </a:solidFill>
                <a:latin typeface="Calibri"/>
              </a:rPr>
              <a:t>Silver</a:t>
            </a:r>
            <a:r>
              <a:rPr b="0" lang="en-US" sz="2300" spc="-1" strike="noStrike">
                <a:solidFill>
                  <a:srgbClr val="808080"/>
                </a:solidFill>
                <a:latin typeface="Calibri"/>
              </a:rPr>
              <a:t> –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Have carried out at least five activities. – 200 point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8000"/>
                </a:solidFill>
                <a:latin typeface="Calibri"/>
              </a:rPr>
              <a:t>Gold </a:t>
            </a:r>
            <a:r>
              <a:rPr b="0" lang="en-US" sz="2300" spc="-1" strike="noStrike">
                <a:solidFill>
                  <a:srgbClr val="ff8000"/>
                </a:solidFill>
                <a:latin typeface="Calibri"/>
              </a:rPr>
              <a:t>–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Have carried out at least six activities. – 400 point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is the overall rating determined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274680" y="1417680"/>
            <a:ext cx="851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e Units receive points in each category: </a:t>
            </a:r>
            <a:r>
              <a:rPr b="1" lang="en-US" sz="2400" spc="-1" strike="noStrike">
                <a:solidFill>
                  <a:srgbClr val="ff8000"/>
                </a:solidFill>
                <a:latin typeface="Calibri"/>
              </a:rPr>
              <a:t>Gol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400" spc="-1" strike="noStrike">
                <a:solidFill>
                  <a:srgbClr val="808080"/>
                </a:solidFill>
                <a:latin typeface="Calibri"/>
              </a:rPr>
              <a:t>Silver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r </a:t>
            </a:r>
            <a:r>
              <a:rPr b="1" lang="en-US" sz="2400" spc="-1" strike="noStrike">
                <a:solidFill>
                  <a:srgbClr val="804000"/>
                </a:solidFill>
                <a:latin typeface="Calibri"/>
              </a:rPr>
              <a:t>Bron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otal points are added to give the total scor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Requirements most correlated with success receive the most point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No one requirement is mandatory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Your total score determines your overall rating.  Complete a specified number of requirements and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4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804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804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804000"/>
                </a:solidFill>
                <a:latin typeface="Calibri"/>
              </a:rPr>
              <a:t>	</a:t>
            </a:r>
            <a:r>
              <a:rPr b="1" lang="en-US" sz="2300" spc="-1" strike="noStrike">
                <a:solidFill>
                  <a:srgbClr val="804000"/>
                </a:solidFill>
                <a:latin typeface="Calibri"/>
              </a:rPr>
              <a:t>Bronze =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700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300" spc="-1" strike="noStrike">
                <a:solidFill>
                  <a:srgbClr val="808080"/>
                </a:solidFill>
                <a:latin typeface="Calibri"/>
              </a:rPr>
              <a:t>Silver =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1000</a:t>
            </a:r>
            <a:r>
              <a:rPr b="1" lang="en-US" sz="2300" spc="-1" strike="noStrike">
                <a:solidFill>
                  <a:srgbClr val="808080"/>
                </a:solidFill>
                <a:latin typeface="Calibri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8000"/>
                </a:solidFill>
                <a:latin typeface="Calibri"/>
              </a:rPr>
              <a:t>	</a:t>
            </a:r>
            <a:r>
              <a:rPr b="1" lang="en-US" sz="2300" spc="-1" strike="noStrike">
                <a:solidFill>
                  <a:srgbClr val="ff8000"/>
                </a:solidFill>
                <a:latin typeface="Calibri"/>
              </a:rPr>
              <a:t>	</a:t>
            </a:r>
            <a:r>
              <a:rPr b="1" lang="en-US" sz="2300" spc="-1" strike="noStrike">
                <a:solidFill>
                  <a:srgbClr val="ff8000"/>
                </a:solidFill>
                <a:latin typeface="Calibri"/>
              </a:rPr>
              <a:t>	</a:t>
            </a:r>
            <a:r>
              <a:rPr b="1" lang="en-US" sz="2300" spc="-1" strike="noStrike">
                <a:solidFill>
                  <a:srgbClr val="ff8000"/>
                </a:solidFill>
                <a:latin typeface="Calibri"/>
              </a:rPr>
              <a:t>	</a:t>
            </a:r>
            <a:r>
              <a:rPr b="1" lang="en-US" sz="2300" spc="-1" strike="noStrike">
                <a:solidFill>
                  <a:srgbClr val="ff8000"/>
                </a:solidFill>
                <a:latin typeface="Calibri"/>
              </a:rPr>
              <a:t>Gold =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1600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Journey to Excellence assessment is made at the time of Unit rechartering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45B01C-D7DA-4F22-8F88-30932F9A48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5" name=""/>
          <p:cNvGraphicFramePr/>
          <p:nvPr/>
        </p:nvGraphicFramePr>
        <p:xfrm>
          <a:off x="0" y="1757520"/>
          <a:ext cx="9144000" cy="109368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</a:tblGrid>
              <a:tr h="307080">
                <a:tc gridSpan="1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 Rechar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de8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de8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de8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de8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de8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de8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de8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de8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de8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95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95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953"/>
                    </a:solidFill>
                  </a:tcPr>
                </a:tc>
              </a:tr>
              <a:tr h="489960"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ts Work on 2011 Journey to Excellence Objective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BAC Recharter Period 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ts Earn 2011 Awar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56" name=""/>
          <p:cNvGraphicFramePr/>
          <p:nvPr/>
        </p:nvGraphicFramePr>
        <p:xfrm>
          <a:off x="0" y="2854440"/>
          <a:ext cx="9144000" cy="119988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</a:tblGrid>
              <a:tr h="307080">
                <a:tc gridSpan="1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 Rechar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95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95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953"/>
                    </a:solidFill>
                  </a:tcPr>
                </a:tc>
              </a:tr>
              <a:tr h="596520"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ts Work on 2012 Journey to Excellence Objective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BAC Recharter Period 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ts Earn 2012 Awar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57" name="TextBox 19"/>
          <p:cNvSpPr/>
          <p:nvPr/>
        </p:nvSpPr>
        <p:spPr>
          <a:xfrm>
            <a:off x="568440" y="735120"/>
            <a:ext cx="760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ourney to Excellence Tim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0" y="3952800"/>
          <a:ext cx="9144000" cy="113976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</a:tblGrid>
              <a:tr h="307080">
                <a:tc gridSpan="1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 Recharter Mon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9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9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9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9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9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9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9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9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9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95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95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953"/>
                    </a:solidFill>
                  </a:tcPr>
                </a:tc>
              </a:tr>
              <a:tr h="525600"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ts Work on 2013 Journey to Excellence Objectiv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BAC Recharter Period 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ts Earn 2013 Awar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569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og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1947600"/>
            <a:ext cx="8229600" cy="38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ts with a satisfactory performance receive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804000"/>
                </a:solidFill>
                <a:latin typeface="Calibri"/>
              </a:rPr>
              <a:t>Bronze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level of recogn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ts which do better than satisfactory receive higher recogni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800" spc="-1" strike="noStrike">
                <a:solidFill>
                  <a:srgbClr val="808080"/>
                </a:solidFill>
                <a:latin typeface="Calibri"/>
              </a:rPr>
              <a:t>Silver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”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vel</a:t>
            </a:r>
            <a:r>
              <a:rPr b="0" lang="en-US" sz="2800" spc="-1" strike="noStrike">
                <a:solidFill>
                  <a:srgbClr val="80808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Excellent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800" spc="-1" strike="noStrike">
                <a:solidFill>
                  <a:srgbClr val="ff8000"/>
                </a:solidFill>
                <a:latin typeface="Calibri"/>
              </a:rPr>
              <a:t>Gold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”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vel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0" lang="en-US" sz="2800" spc="-1" strike="noStrike">
                <a:solidFill>
                  <a:srgbClr val="ff8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tstanding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D962AB-0E30-463A-9B99-21B3E19F9D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539280"/>
            <a:ext cx="796608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lculating points for a typical Pac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3" name="Content Placeholder 2" descr=""/>
          <p:cNvPicPr/>
          <p:nvPr/>
        </p:nvPicPr>
        <p:blipFill>
          <a:blip r:embed="rId1"/>
          <a:stretch/>
        </p:blipFill>
        <p:spPr>
          <a:xfrm>
            <a:off x="419040" y="1368360"/>
            <a:ext cx="8004240" cy="3895920"/>
          </a:xfrm>
          <a:prstGeom prst="rect">
            <a:avLst/>
          </a:prstGeom>
          <a:ln w="0">
            <a:noFill/>
          </a:ln>
        </p:spPr>
      </p:pic>
      <p:sp>
        <p:nvSpPr>
          <p:cNvPr id="56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ED3841-EFE5-47BF-82F6-58849B1ABC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27"/>
          <p:cNvSpPr/>
          <p:nvPr/>
        </p:nvSpPr>
        <p:spPr>
          <a:xfrm>
            <a:off x="458640" y="5264280"/>
            <a:ext cx="83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Pack achieved at least 10 of 13 requirements and earned a total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1150 points.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ce Silver is 1000 and Gold is 1600</a:t>
            </a:r>
            <a:r>
              <a:rPr b="0" lang="en-US" sz="1800" spc="-1" strike="noStrike">
                <a:solidFill>
                  <a:srgbClr val="808080"/>
                </a:solidFill>
                <a:latin typeface="Calibri"/>
              </a:rPr>
              <a:t>,  this Pack qualifies for the Silver aw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traight Connector 29"/>
          <p:cNvSpPr/>
          <p:nvPr/>
        </p:nvSpPr>
        <p:spPr>
          <a:xfrm flipV="1">
            <a:off x="457200" y="2487600"/>
            <a:ext cx="1440" cy="1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8640" y="402840"/>
            <a:ext cx="822960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lculating points for a typical Troo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58640" y="1422000"/>
            <a:ext cx="822960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Bronze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ilver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Gol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Advancement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75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500" spc="-1" strike="noStrike" u="sng">
                <a:solidFill>
                  <a:srgbClr val="808080"/>
                </a:solidFill>
                <a:uFillTx/>
                <a:latin typeface="Verdana"/>
              </a:rPr>
              <a:t>150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30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Retention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500" spc="-1" strike="noStrike" u="sng">
                <a:solidFill>
                  <a:srgbClr val="804000"/>
                </a:solidFill>
                <a:uFillTx/>
                <a:latin typeface="Verdana"/>
              </a:rPr>
              <a:t>75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150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30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Building Boy Scouting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500" spc="-1" strike="noStrike" u="sng">
                <a:solidFill>
                  <a:srgbClr val="804000"/>
                </a:solidFill>
                <a:uFillTx/>
                <a:latin typeface="Verdana"/>
              </a:rPr>
              <a:t>75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150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30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rained Leadership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500" spc="-1" strike="noStrike" u="sng">
                <a:solidFill>
                  <a:srgbClr val="804000"/>
                </a:solidFill>
                <a:uFillTx/>
                <a:latin typeface="Verdana"/>
              </a:rPr>
              <a:t>75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150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30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rt Term Camping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50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100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500" spc="-1" strike="noStrike" u="sng">
                <a:solidFill>
                  <a:srgbClr val="ff8000"/>
                </a:solidFill>
                <a:uFillTx/>
                <a:latin typeface="Verdana"/>
              </a:rPr>
              <a:t>20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ong Term Camping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50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500" spc="-1" strike="noStrike" u="sng">
                <a:solidFill>
                  <a:srgbClr val="808080"/>
                </a:solidFill>
                <a:uFillTx/>
                <a:latin typeface="Verdana"/>
              </a:rPr>
              <a:t>100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20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Patrol Method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50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100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20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ervice Projects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50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500" spc="-1" strike="noStrike" u="sng">
                <a:solidFill>
                  <a:srgbClr val="808080"/>
                </a:solidFill>
                <a:uFillTx/>
                <a:latin typeface="Verdana"/>
              </a:rPr>
              <a:t>100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20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ebelos to Scout Transition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50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100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500" spc="-1" strike="noStrike" u="sng">
                <a:solidFill>
                  <a:srgbClr val="ff8000"/>
                </a:solidFill>
                <a:uFillTx/>
                <a:latin typeface="Verdana"/>
              </a:rPr>
              <a:t>20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Budget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25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500" spc="-1" strike="noStrike" u="sng">
                <a:solidFill>
                  <a:srgbClr val="808080"/>
                </a:solidFill>
                <a:uFillTx/>
                <a:latin typeface="Verdana"/>
              </a:rPr>
              <a:t>50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10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ourts of Honor/Parent Meetings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25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50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10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Re-register On Time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500" spc="-1" strike="noStrike" u="sng">
                <a:solidFill>
                  <a:srgbClr val="804000"/>
                </a:solidFill>
                <a:uFillTx/>
                <a:latin typeface="Verdana"/>
              </a:rPr>
              <a:t>5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Annual Assessment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500" spc="-1" strike="noStrike" u="sng">
                <a:solidFill>
                  <a:srgbClr val="804000"/>
                </a:solidFill>
                <a:uFillTx/>
                <a:latin typeface="Verdana"/>
              </a:rPr>
              <a:t>5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UM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500" spc="-1" strike="noStrike">
                <a:solidFill>
                  <a:srgbClr val="804000"/>
                </a:solidFill>
                <a:latin typeface="Verdana"/>
              </a:rPr>
              <a:t>325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500" spc="-1" strike="noStrike">
                <a:solidFill>
                  <a:srgbClr val="808080"/>
                </a:solidFill>
                <a:latin typeface="Verdana"/>
              </a:rPr>
              <a:t>400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500" spc="-1" strike="noStrike">
                <a:solidFill>
                  <a:srgbClr val="ff8000"/>
                </a:solidFill>
                <a:latin typeface="Verdana"/>
              </a:rPr>
              <a:t>40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Troop achieved 11 of 13 requirements. Total of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125 point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Since Silver is 1000 and Gold is 1600, </a:t>
            </a:r>
            <a:r>
              <a:rPr b="0" lang="en-US" sz="1800" spc="-1" strike="noStrike">
                <a:solidFill>
                  <a:srgbClr val="808080"/>
                </a:solidFill>
                <a:latin typeface="Calibri"/>
              </a:rPr>
              <a:t>this troop qualifies for the Silver awar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Straight Connector 29"/>
          <p:cNvSpPr/>
          <p:nvPr/>
        </p:nvSpPr>
        <p:spPr>
          <a:xfrm flipV="1">
            <a:off x="457200" y="2487600"/>
            <a:ext cx="1440" cy="1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lculating points for a typical Cr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57200" y="1431720"/>
            <a:ext cx="8229600" cy="44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Bronze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            Silver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            Gol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Activities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100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500" spc="-1" strike="noStrike" u="sng">
                <a:solidFill>
                  <a:srgbClr val="808080"/>
                </a:solidFill>
                <a:uFillTx/>
                <a:latin typeface="Verdana"/>
              </a:rPr>
              <a:t>200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40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Building Venturing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500" spc="-1" strike="noStrike" u="sng">
                <a:solidFill>
                  <a:srgbClr val="804000"/>
                </a:solidFill>
                <a:uFillTx/>
                <a:latin typeface="Verdana"/>
              </a:rPr>
              <a:t>75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150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30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Retention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500" spc="-1" strike="noStrike" u="sng">
                <a:solidFill>
                  <a:srgbClr val="804000"/>
                </a:solidFill>
                <a:uFillTx/>
                <a:latin typeface="Verdana"/>
              </a:rPr>
              <a:t>75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150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30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Youth Leadership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500" spc="-1" strike="noStrike" u="sng">
                <a:solidFill>
                  <a:srgbClr val="804000"/>
                </a:solidFill>
                <a:uFillTx/>
                <a:latin typeface="Verdana"/>
              </a:rPr>
              <a:t>75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150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30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ervice Projects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75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150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500" spc="-1" strike="noStrike" u="sng">
                <a:solidFill>
                  <a:srgbClr val="ff8000"/>
                </a:solidFill>
                <a:uFillTx/>
                <a:latin typeface="Verdana"/>
              </a:rPr>
              <a:t>30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rained Leadership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75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500" spc="-1" strike="noStrike" u="sng">
                <a:solidFill>
                  <a:srgbClr val="808080"/>
                </a:solidFill>
                <a:uFillTx/>
                <a:latin typeface="Verdana"/>
              </a:rPr>
              <a:t>150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30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uper Activity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75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150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30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Parent’s Meetings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25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500" spc="-1" strike="noStrike" u="sng">
                <a:solidFill>
                  <a:srgbClr val="808080"/>
                </a:solidFill>
                <a:uFillTx/>
                <a:latin typeface="Verdana"/>
              </a:rPr>
              <a:t>50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10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Budget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25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50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500" spc="-1" strike="noStrike" u="sng">
                <a:solidFill>
                  <a:srgbClr val="ff8000"/>
                </a:solidFill>
                <a:uFillTx/>
                <a:latin typeface="Verdana"/>
              </a:rPr>
              <a:t>10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Re-register On Time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500" spc="-1" strike="noStrike" u="sng">
                <a:solidFill>
                  <a:srgbClr val="804000"/>
                </a:solidFill>
                <a:uFillTx/>
                <a:latin typeface="Verdana"/>
              </a:rPr>
              <a:t>5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Annual Assessment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500" spc="-1" strike="noStrike" u="sng">
                <a:solidFill>
                  <a:srgbClr val="804000"/>
                </a:solidFill>
                <a:uFillTx/>
                <a:latin typeface="Verdana"/>
              </a:rPr>
              <a:t>5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804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UM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500" spc="-1" strike="noStrike">
                <a:solidFill>
                  <a:srgbClr val="804000"/>
                </a:solidFill>
                <a:latin typeface="Verdana"/>
              </a:rPr>
              <a:t>325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500" spc="-1" strike="noStrike">
                <a:solidFill>
                  <a:srgbClr val="808080"/>
                </a:solidFill>
                <a:latin typeface="Verdana"/>
              </a:rPr>
              <a:t>400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500" spc="-1" strike="noStrike">
                <a:solidFill>
                  <a:srgbClr val="ff8000"/>
                </a:solidFill>
                <a:latin typeface="Verdana"/>
              </a:rPr>
              <a:t>40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Crew achieved at least 9 of 11 requirements. Total of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125 point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Since Silver is 1000 and Gold is 1600, </a:t>
            </a:r>
            <a:r>
              <a:rPr b="0" lang="en-US" sz="1800" spc="-1" strike="noStrike">
                <a:solidFill>
                  <a:srgbClr val="808080"/>
                </a:solidFill>
                <a:latin typeface="Calibri"/>
              </a:rPr>
              <a:t>this Crew qualifies for the Silver award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Straight Connector 29"/>
          <p:cNvSpPr/>
          <p:nvPr/>
        </p:nvSpPr>
        <p:spPr>
          <a:xfrm flipV="1">
            <a:off x="457200" y="2487600"/>
            <a:ext cx="1440" cy="1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41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missioners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Scouting’s Journey to Excellenc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57200" y="35510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urney to Excellence is the new performance assessment, communication and recognition program for Councils, Districts and Uni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86BAA3-8C22-49C0-A571-29D8C54874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509400"/>
            <a:ext cx="8229600" cy="97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centive for Continuous Improve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457200" y="1992240"/>
            <a:ext cx="8229600" cy="36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tter Performance means better Scouting for youth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tter Performance can earn a higher level of Recogn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y requirements and “leading indicators” are tracked and improvement can be quickly identifi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37C4A5-37E4-4D67-AFCB-A1670BB44B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You get Early Warning of Potential Proble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457200" y="1938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orm has several requirements shown to b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ading indicator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ore important the requirement, the higher its point val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issioners can take note of low scores in “leading indicators” and take early action to head off more severe probl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F2DF86-2904-42C8-B687-8D410E2D01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12400" y="615600"/>
            <a:ext cx="868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nual Requirement Re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57200" y="2449440"/>
            <a:ext cx="822960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ach year,  the requirements will be reconsidered to reflect improved performance by Units, Districts and Counci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5F1E1E-DA19-4165-B3A1-95E7A21B37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1600" y="331920"/>
            <a:ext cx="753588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Using Journey to Excellence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279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are the form with the Unit during 2010/2011 rechartering.   Suggest they use it for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ral times during the year during visits or contacts,  check on how they are doing.   Record the results on Unit Visit Tracking System (UVTS 2.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lp them complete the form during 2011/2012 rechartering.   Certify the performance.  Share the 2012 Journey to Excellence standar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 sure the Unit gets recognition items.   Present their recognition public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A2DEBD-2060-4EBB-97FA-2A8D0158C4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604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ourney to Excellence in th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trict and Counci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457200" y="1989000"/>
            <a:ext cx="8229600" cy="43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are Journey to Excellence standards for Districts and Counci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are specific standards for Commissioner Service in the District and Counc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d Commissioner Service helps your District and Council earn </a:t>
            </a:r>
            <a:r>
              <a:rPr b="0" lang="en-US" sz="3200" spc="-1" strike="noStrike">
                <a:solidFill>
                  <a:srgbClr val="ff8000"/>
                </a:solidFill>
                <a:latin typeface="Calibri"/>
              </a:rPr>
              <a:t>Gol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808080"/>
                </a:solidFill>
                <a:latin typeface="Calibri"/>
              </a:rPr>
              <a:t>Silv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lang="en-US" sz="3200" spc="-1" strike="noStrike">
                <a:solidFill>
                  <a:srgbClr val="804000"/>
                </a:solidFill>
                <a:latin typeface="Calibri"/>
              </a:rPr>
              <a:t>Bronz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ecog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6439C1-4302-4242-BAA3-6F7CB6BD15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strict standard for Commission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nit Servic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Unit visits are being made and entered into Unit Visit Tracking System 2.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4000"/>
                </a:solidFill>
                <a:latin typeface="Calibri"/>
              </a:rPr>
              <a:t>Bronze</a:t>
            </a:r>
            <a:r>
              <a:rPr b="0" lang="en-US" sz="2800" spc="-1" strike="noStrike">
                <a:solidFill>
                  <a:srgbClr val="804000"/>
                </a:solidFill>
                <a:latin typeface="Calibri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 commissioner visits/contacts to 25% of units and they are entered into UVTS 2.0 – 50 p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Calibri"/>
              </a:rPr>
              <a:t>Silver </a:t>
            </a:r>
            <a:r>
              <a:rPr b="0" lang="en-US" sz="2800" spc="-1" strike="noStrike">
                <a:solidFill>
                  <a:srgbClr val="808080"/>
                </a:solidFill>
                <a:latin typeface="Calibri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 commissioner visits/contacts to 35% of units and logged into UVTS 2.0 – 100 p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8000"/>
                </a:solidFill>
                <a:latin typeface="Calibri"/>
              </a:rPr>
              <a:t>Gold </a:t>
            </a:r>
            <a:r>
              <a:rPr b="0" lang="en-US" sz="2800" spc="-1" strike="noStrike">
                <a:solidFill>
                  <a:srgbClr val="ff8000"/>
                </a:solidFill>
                <a:latin typeface="Calibri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 commissioner visits/contacts to 50% of units and logged into UVTS 2.0 – 200 p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F0FC7C-C0F0-40F5-AB88-69327C183E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d a Council standard for Commission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mmissioner Servic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Increase the number of registered Commissioners over the prior y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4000"/>
                </a:solidFill>
                <a:latin typeface="Calibri"/>
              </a:rPr>
              <a:t>Bronze </a:t>
            </a:r>
            <a:r>
              <a:rPr b="0" lang="en-US" sz="2400" spc="-1" strike="noStrike">
                <a:solidFill>
                  <a:srgbClr val="804000"/>
                </a:solidFill>
                <a:latin typeface="Calibri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issioner to unit ratio of 1:8 or 5% increase in the number of Commissioners over the prior year - 25 p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alibri"/>
              </a:rPr>
              <a:t>Silver</a:t>
            </a:r>
            <a:r>
              <a:rPr b="0" lang="en-US" sz="2400" spc="-1" strike="noStrike">
                <a:solidFill>
                  <a:srgbClr val="808080"/>
                </a:solidFill>
                <a:latin typeface="Calibri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issioner to unit ratio of 1:4 or 7.5% increase in the number of Commissioners over the prior year - 50 p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8000"/>
                </a:solidFill>
                <a:latin typeface="Calibri"/>
              </a:rPr>
              <a:t>Gold</a:t>
            </a:r>
            <a:r>
              <a:rPr b="0" lang="en-US" sz="2400" spc="-1" strike="noStrike">
                <a:solidFill>
                  <a:srgbClr val="ff8000"/>
                </a:solidFill>
                <a:latin typeface="Calibri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issioner to unit ratio of 1:3 or 10% increase in the number of Commissioners over the prior year - 100 p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4A000A-E63B-4B3C-8B68-C9D164BCB7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50480" y="385560"/>
            <a:ext cx="8869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mplementing Journey to Excellen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528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easuring Continuous Improve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cognizing and Publicizing Outstanding Perform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dentifying Potential Problems so they can be addressed and correct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ncouraging Mutual Assistance and Suppor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pporting the Local Council’s Balanced Scorecar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uilding Better Scouting for More Scou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2CDFC0-6101-40F5-8118-2233403166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67760" y="736560"/>
            <a:ext cx="8842680" cy="486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 FOR YOU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RVICE AS A COMMISSION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D FOR HELPING TO IMPLEM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OURNEY TO EXCELLENCE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http://www.scouting.org/Volunteer.aspx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216554-917B-462E-A7A5-5643BD67A9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itle 1"/>
          <p:cNvSpPr/>
          <p:nvPr/>
        </p:nvSpPr>
        <p:spPr>
          <a:xfrm>
            <a:off x="457200" y="627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urney to Excellence uses 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anced Scorec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45720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21EF0C-F359-49D6-BC92-F168BAB793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Content Placeholder 8" descr="three-legged_stool.jpg"/>
          <p:cNvPicPr/>
          <p:nvPr/>
        </p:nvPicPr>
        <p:blipFill>
          <a:blip r:embed="rId1"/>
          <a:stretch/>
        </p:blipFill>
        <p:spPr>
          <a:xfrm>
            <a:off x="2971800" y="1905120"/>
            <a:ext cx="2765520" cy="3657600"/>
          </a:xfrm>
          <a:prstGeom prst="rect">
            <a:avLst/>
          </a:prstGeom>
          <a:ln w="0">
            <a:noFill/>
          </a:ln>
        </p:spPr>
      </p:pic>
      <p:sp>
        <p:nvSpPr>
          <p:cNvPr id="513" name="TextBox 6"/>
          <p:cNvSpPr/>
          <p:nvPr/>
        </p:nvSpPr>
        <p:spPr>
          <a:xfrm>
            <a:off x="990720" y="19051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7"/>
          <p:cNvSpPr/>
          <p:nvPr/>
        </p:nvSpPr>
        <p:spPr>
          <a:xfrm>
            <a:off x="7162920" y="19810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8"/>
          <p:cNvSpPr/>
          <p:nvPr/>
        </p:nvSpPr>
        <p:spPr>
          <a:xfrm>
            <a:off x="1295280" y="54673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ustain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6" name="Shape 9"/>
          <p:cNvCxnSpPr>
            <a:stCxn id="513" idx="2"/>
          </p:cNvCxnSpPr>
          <p:nvPr/>
        </p:nvCxnSpPr>
        <p:spPr>
          <a:xfrm flipH="1" rot="16200000">
            <a:off x="1792080" y="2169000"/>
            <a:ext cx="1215000" cy="1600920"/>
          </a:xfrm>
          <a:prstGeom prst="bentConnector2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17" name="Shape 10"/>
          <p:cNvCxnSpPr>
            <a:stCxn id="514" idx="2"/>
          </p:cNvCxnSpPr>
          <p:nvPr/>
        </p:nvCxnSpPr>
        <p:spPr>
          <a:xfrm rot="5400000">
            <a:off x="6097320" y="1978560"/>
            <a:ext cx="1215360" cy="2134440"/>
          </a:xfrm>
          <a:prstGeom prst="bentConnector2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18" name="Shape 11"/>
          <p:cNvCxnSpPr/>
          <p:nvPr/>
        </p:nvCxnSpPr>
        <p:spPr>
          <a:xfrm flipV="1">
            <a:off x="3276360" y="4650840"/>
            <a:ext cx="1067400" cy="1145520"/>
          </a:xfrm>
          <a:prstGeom prst="bentConnector2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9" name="TextBox 22"/>
          <p:cNvSpPr/>
          <p:nvPr/>
        </p:nvSpPr>
        <p:spPr>
          <a:xfrm>
            <a:off x="5943600" y="426708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, growth, and sustainability must all be in balance for success to be truly achie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33200" y="493200"/>
            <a:ext cx="889488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ommissioner’s Role in Journey to Excellence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457200" y="1706400"/>
            <a:ext cx="8229600" cy="45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’re not an Ump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’re not a Judge or the pol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are a friend, a mentor and a co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maybe help a bit with scor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12988D-EA6E-4208-9285-4C80B7FB62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3" descr=""/>
          <p:cNvPicPr/>
          <p:nvPr/>
        </p:nvPicPr>
        <p:blipFill>
          <a:blip r:embed="rId1"/>
          <a:stretch/>
        </p:blipFill>
        <p:spPr>
          <a:xfrm>
            <a:off x="7405560" y="5251320"/>
            <a:ext cx="1019160" cy="8589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4" descr=""/>
          <p:cNvPicPr/>
          <p:nvPr/>
        </p:nvPicPr>
        <p:blipFill>
          <a:blip r:embed="rId2"/>
          <a:stretch/>
        </p:blipFill>
        <p:spPr>
          <a:xfrm>
            <a:off x="7773840" y="2513160"/>
            <a:ext cx="912960" cy="99684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5" descr="as2616.gif"/>
          <p:cNvPicPr/>
          <p:nvPr/>
        </p:nvPicPr>
        <p:blipFill>
          <a:blip r:embed="rId3"/>
          <a:stretch/>
        </p:blipFill>
        <p:spPr>
          <a:xfrm>
            <a:off x="4497480" y="1600200"/>
            <a:ext cx="1065240" cy="108756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6" descr="thumbnail.jpg"/>
          <p:cNvPicPr/>
          <p:nvPr/>
        </p:nvPicPr>
        <p:blipFill>
          <a:blip r:embed="rId4"/>
          <a:stretch/>
        </p:blipFill>
        <p:spPr>
          <a:xfrm>
            <a:off x="6408720" y="2687760"/>
            <a:ext cx="996840" cy="82224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7" descr="bxp68008.jpg"/>
          <p:cNvPicPr/>
          <p:nvPr/>
        </p:nvPicPr>
        <p:blipFill>
          <a:blip r:embed="rId5"/>
          <a:stretch/>
        </p:blipFill>
        <p:spPr>
          <a:xfrm>
            <a:off x="7512120" y="3745080"/>
            <a:ext cx="1174680" cy="11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ourney to Excellence helps  Units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ramewor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or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lann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or the y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method for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valuat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e Un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ssessme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how they’re doing in the key areas found in great Un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uidan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 areas where they might do bet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ecific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uidelines and standard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what is good perform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arly warning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potential problem ar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cogni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or  good perform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enchmark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o get ideas and tips from other good un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3CC997-39E4-4AEC-BAB6-E415752604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33520" y="599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it performance is assess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 key areas includ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820800" y="2692440"/>
            <a:ext cx="4038480" cy="21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vanc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tdo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rvice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i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723920" y="2692440"/>
            <a:ext cx="4038840" cy="21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mbershi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t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dershi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dg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E5A1BA-5A57-435B-BA50-B80CEB1896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phasis of Journey to Excell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457200" y="1873080"/>
            <a:ext cx="8229600" cy="42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inuous Improvement is a Go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d the Unit do measurably better in key areas than last yea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 are they already performing at a high level in those area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ither way,  the Unit can qualify for the stand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54D0C9-D692-484F-AC96-C0933525CA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68120" y="456840"/>
            <a:ext cx="8807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ere’s an Example for Cub Scou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dvancemen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e the percentage of Cub Scouts earning rank advanceme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4000"/>
                </a:solidFill>
                <a:latin typeface="Calibri"/>
              </a:rPr>
              <a:t>Bronze</a:t>
            </a:r>
            <a:r>
              <a:rPr b="0" lang="en-US" sz="2300" spc="-1" strike="noStrike">
                <a:solidFill>
                  <a:srgbClr val="804000"/>
                </a:solidFill>
                <a:latin typeface="Calibri"/>
              </a:rPr>
              <a:t> –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Have 55% of Cub Scouts advance one rank OR have a 2 percentage points increase – 100 point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8080"/>
                </a:solidFill>
                <a:latin typeface="Calibri"/>
              </a:rPr>
              <a:t>Silver</a:t>
            </a:r>
            <a:r>
              <a:rPr b="0" lang="en-US" sz="2300" spc="-1" strike="noStrike">
                <a:solidFill>
                  <a:srgbClr val="808080"/>
                </a:solidFill>
                <a:latin typeface="Calibri"/>
              </a:rPr>
              <a:t> –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Have 75% of Cub Scouts advance OR 55% advance, and have a 2 percentage points increase - 200 point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8000"/>
                </a:solidFill>
                <a:latin typeface="Calibri"/>
              </a:rPr>
              <a:t>Gold </a:t>
            </a:r>
            <a:r>
              <a:rPr b="0" lang="en-US" sz="2300" spc="-1" strike="noStrike">
                <a:solidFill>
                  <a:srgbClr val="ff8000"/>
                </a:solidFill>
                <a:latin typeface="Calibri"/>
              </a:rPr>
              <a:t>–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Have 90% of Cub Scouts advance, or 75% and have a 2 percentage points increase – 400 point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80BD09-2885-453A-97A0-5D44FE2085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647640"/>
            <a:ext cx="82296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ere’s another Examp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Cub Scou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57200" y="2255760"/>
            <a:ext cx="822960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utdoor activitie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ack has activities in the outdoor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4000"/>
                </a:solidFill>
                <a:latin typeface="Calibri"/>
              </a:rPr>
              <a:t>Bronze –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Have three outdoor activities during the year. 75 pt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8080"/>
                </a:solidFill>
                <a:latin typeface="Calibri"/>
              </a:rPr>
              <a:t>Silver –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Have four outdoor activities during the year.  150 pt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8000"/>
                </a:solidFill>
                <a:latin typeface="Calibri"/>
              </a:rPr>
              <a:t>Gold –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Have five outdoor activities during the year 300 pt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1:54:58Z</dcterms:created>
  <dc:creator>Neil Lupton</dc:creator>
  <dc:description/>
  <dc:language>en-US</dc:language>
  <cp:lastModifiedBy>Al Friedrich</cp:lastModifiedBy>
  <dcterms:modified xsi:type="dcterms:W3CDTF">2011-02-21T02:02:39Z</dcterms:modified>
  <cp:revision>84</cp:revision>
  <dc:subject/>
  <dc:title>Slide 1</dc:title>
</cp:coreProperties>
</file>