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3774-5119-4677-9A3A-29837D73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648A-051F-4C78-B588-F9F181693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067C-666B-4983-A748-C39AB484B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6D56-16A5-49C2-80E6-47381BD9AD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1043-AD38-4634-A59B-9B4E71DB3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9DF4-C594-4D21-AC6A-12DF4C06F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DB7B-03EC-455B-B167-59CCB14A4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7B96-EA8B-4704-BBFC-9A1039DB3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CEFE-1AEE-4864-BD46-0AEFB1A01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138F-C983-4B91-BBA9-1DAC6632C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0495-0295-43BD-ADC3-B58EE49FA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93C7-0612-4F67-80DF-B2F6E7BE0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886440"/>
            <a:ext cx="595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20120225 /asc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CS 307: WEBELOS-to-Scout Trans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3F4E3-039F-413C-ACDB-BD31305EC79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2920" y="1018800"/>
            <a:ext cx="907092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WEBELOS-to-Scout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CS 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ebruary 25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drew Cromarty (ADC) and Robin Holbrook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nford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cific Skyline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How Pre-Teen Sociology affects WEBELOS-to-Scout Trans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5th-grade boys are growing rapidly–in all directions, and away from their childhoo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5th-grade boys are ready to, and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to, make their own troop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hoosing a troop is the first big choice they'll make in their life about who they want to become when they grow up, and who their friend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D1A6-840F-4D8A-8CA1-71969115ED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roop choice is individual, and personal to the WEBELO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need to respect and encourage their independent cho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n is older than you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a cub likes one troop, and his Den Leader/ Cubmaster/ Parent prefers another: Chances are 99% he's right &amp; they're wrong–and they're not listening to him when he's telling them who he's becoming as a young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23AA-A2BC-44E9-967A-21EAB54A8A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re is no ”normal” troop for a WEBELOS Scout/den to joi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ere is no "normal" troop for cubs to move to. Same pack/troop unit numbers or chartering org is irrelevant. It's the cub's personal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 common but BAD idea: Pushing an entire WEBELOS den to move together to one tr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king a boy join a bad-fit troop he didn't choose is one major cause of first-year dropouts from Boy Scout Troo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want boys staying in scouting. Ensure each WEBELOS Scout chooses his own tr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6A57-799C-4E33-BF2D-2006F5C595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missioner W2ST go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ncourage every WEBELOS Scout to visit several troops, to find the right one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vise troops to seek out WEBELOS Scouts who fit the tr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vise pack officials on how to facilitate cubs making their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vise parents to be a chauffeur, and otherwise, just let it all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F554-69B7-47BC-9FDC-25AFDF5ABA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How to achieve those go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et WEBELOS dens &amp; troops interacting early and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ach unit leaders about local packs (for troops) or troops (for packs). Connect the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ke sure packs know troop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recruiting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schedules &amp; practices (vary wide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ke sure troops know pack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graduation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schedules &amp; practices (vary wide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7DCD-BE7A-4C29-9658-FB7B966EC2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ncourage early-and-often pack/troop intera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vise units to start W2ST in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xplain &amp; encourage use of Den Ch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ll troops &amp; WEBELOS I &amp; II dens: Participate in District WEBELOS Open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oops: Plan a WEBELOS Open House Night. WEBELOS II Dens: Attend Troop open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 promising pairings, joint or troop-hosted outing (e.g. Mountain 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9565-AC27-41C3-9B46-1974A6DE08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Using Den Chief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0709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cks: Request Den Chiefs of loca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n Chief is WEBELOS Den Leader's helper, and a role model for cu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p: The Den Chief probably knows more cool scouting skills than the Den L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oops: Provide trained Den Chiefs to WEBELOS 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M chooses Den Chief candidates, who then get Trained, and assigned (by agreement) to a p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ip: Choose boys who need a growth opportunity, who will benefit from being res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1160" y="4343400"/>
            <a:ext cx="1293840" cy="4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DE1C-E0F6-4985-A45D-26136E39B0F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lanning &amp; Running a Troop WEBELOS Open House Nigh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lan activities the troop's scouts find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PL leads, as alw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member, cubs think basic scouting skills &amp; tools are cool (e.g. fi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vite one or more WEBELOS II d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ave a boy scout pair up with &amp; ”host” each WEBELOS guest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M should take parents aside, give a pep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oal: show the visiting cubs who the troop is. It's a "first date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A8C2-42BE-4FC1-B838-DDDBC6097A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losing the De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oy scouts should be sure to actually ask cubs to jo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et cubs decide, but ask for a decision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metimes cub dens are a no-show for Troop Open House events. Fact of life. Plan for the unexpected, and plan to replan. Allow room in troop schedule for another 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en are you done recruiting? When the troop has a completed Boy Scout application form, and the cub attends troop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0C3E-0973-4F7B-AC33-9B71D21DA34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ormal trans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ifferent packs have different graduation schedules–e.g. February Blue and Gold dinner,  or June Arrow Of Light cere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M, SPL, and several scouts from the troop should attend graduation/bridging cere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SPL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accepts the new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WEBELOS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into the tro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SM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welcomes new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parents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into the tr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velop a troop W2ST culture---a small unique troop-specific recognition to make new cubs feel welcome at graduation (e.g. neckerchief, SHB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EF93-3EE6-4BE2-97B6-2203F90B76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ckground: Commissioners, Cub scouts, and Scouting's Growth and Retent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e Sociology of Pre-Teen and Teen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's goals for W2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w to achiev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losing the Deal, and Afte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ummary - Things to Do &amp;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42E4-E69D-4688-980A-0A3092DFD9B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 WEBELOS may become a Boy Scout as soon as he achieves Arrow of Light. He then skips the first scout rank advancement, and comes into the troop already at Scout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et WEBELOS scouts (&amp; parents) planning in Spring for summer camp with the tr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member, cubs were not boy-led. Troops differ, but: If troop has a New Scout patrol, SM should assign a Troop Guide or ASM to help them learn Patrol Method and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7C5E-220D-48C4-8C12-EEB7D739B0E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ummary 1/2:</a:t>
            </a:r>
            <a:br>
              <a:rPr sz="4400"/>
            </a:b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missioner's W2ST ro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e a resource to Packs, Cub Scouts, Parents, and Boy Scout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ncourage cubs to continue on in Scouting, in a unit that ”fits.” Help Troops recrui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elp packs &amp; troops find each other and build relationships--with Den Chiefs, troop visits, joint outings, District &amp; Troop WEBELOS Open House Nights, relationships between unit adult leaders, awareness of schedules, and planning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CAB2-FC63-4D55-A36B-56389643D2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176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ummary 2/2:</a:t>
            </a:r>
            <a:br>
              <a:rPr sz="4400"/>
            </a:b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ings to rememb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ere's a natural scouting calendar, but every troop &amp; pack is a little different. Know your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 cub or den is "expected" to go to any troop. Choice is individual, by each c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10 &amp; 11-year-old boys need to choose their own new friends, i.e. their own troop. Le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very Boy Scout Troop has its own unique persona. Help cubs find one that fit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B1FD-0852-4C03-AC93-C30FEC680B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losing Though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cubs are with boys they like and respect in the new 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they will respect elected boy leaders &amp; patrol method, flourish and advance, stay in scouting, learn to become leaders, accept the ethical lessons and values of Scouting, and maximize their chance for personal development &amp;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C9DA-71C2-4B38-8120-8CDCC0BBC04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018800"/>
            <a:ext cx="907092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WEBELOS-to-Scout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CS 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missioner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ebruary 25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drew Cromarty (ADC) and Robin Holbrook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nford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cific Skyline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Commissioner's Mi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ur Mission: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Help Scouting units succ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hen the units succeed, the scouts, parents, leaders, professionals, and scouting program all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imarily: Advise unit adult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4EEF-8F0B-46A2-9611-FAA67E16DF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bout Cub Scouts: </a:t>
            </a:r>
            <a:br>
              <a:rPr sz="4400"/>
            </a:b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 few remind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4th/5th grade Cub Scouts are called "WEBELOS Scout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re is no such word as "Webel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"S" in ”WEBELOS” is always pronou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BELOS is an acrony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B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L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al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riginally from "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lf,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ar, and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on" cub sco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BELOS Scouts have their own dens, advancement, uniform, and a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97AD-556C-455C-AB75-BD670561A2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Growth and Retention Challenge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ts succeed by gaining new members and keeping scouts in sco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ow do we get cub scouts to stay in sc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ow troops find new members and th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EBELOS-to-Scout Tran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DF5D-74A4-483A-BAD0-C72F758950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missioner's growth &amp; retention responsibilitie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Be a resourc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to Cub Scout Packs, Boy Scout Troops, Parents, &amp; Sc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Encourage cubs to continue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on in Scouting, in a unit that fit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Help Troops recruit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"/>
              </a:rPr>
              <a:t>Help cubs find troops that “match,”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and vice-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DE37-F015-46A8-9B1A-BA7B910C1C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Sociology of Cub Pac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ub scout packs &amp; dens are run by moms and da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ub packs &amp; dens have no boy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ubs are there to learn, do projects, compete, and have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8183-0109-4EC0-AE8A-8DFB762785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Sociology of Pre-Teen Boy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ary to middle school is a big maturity transition toward being a young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ng teens want to learn &amp; do cool things, compete, be independent, form new friendships, lead others, learn what kind of person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 5th grader keeps almost none of his friends. A 9th-grader's cohort may become life-long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07D3-40B9-489F-BD34-F5D86FEBFA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Sociology of Troop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oops are boy-led. This means: Teen-age boys make all the key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ults are present for safety, training, role models / teaching ethics, and to guide in delivery of the Scouting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nly trained uniformed adults routinely work with boys. (Non-trained non-uniformed adults work on Troop Committee in the backgroun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very Boy Scout Troop has its own unique culture &amp; persona–set by the boys. It's a t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87F9-A362-40B7-8BA5-DEB09CEAE5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2:41:52Z</dcterms:created>
  <dc:creator/>
  <dc:description/>
  <dc:language>en-US</dc:language>
  <cp:lastModifiedBy/>
  <cp:lastPrinted>2012-02-25T06:08:58Z</cp:lastPrinted>
  <dcterms:modified xsi:type="dcterms:W3CDTF">2012-02-27T20:43:18Z</dcterms:modified>
  <cp:revision>97</cp:revision>
  <dc:subject/>
  <dc:title>WEBELOS-to-Scout Transition MCS307 20120225</dc:title>
</cp:coreProperties>
</file>