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move the slid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60738-4648-482C-8AC2-0808EED71A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DD2-5D11-4431-BA47-C1ED1EDA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6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79880"/>
            <a:ext cx="8226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D6C-D83F-4F1F-A3AF-846AFBE4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695-525C-4111-9D1F-021F24B3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60452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60452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7988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407988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407988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900-F033-4922-98DB-426A8075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769160" cy="123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2E5-81B1-4CCC-96D9-C1A3531E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8226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6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79880"/>
            <a:ext cx="8226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8200" y="160452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560" y="160452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7988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8200" y="407988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560" y="407988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FAC-9B83-4363-A5BA-1D4434AA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01F-0FC3-498A-B06E-CE7A1FC3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3D2-5452-4BD2-96B5-09E94E42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769160" cy="123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068-3FF3-49BA-86BB-C987BD97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2D2-AB37-4C69-B3BE-7826C6A5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FF4-253A-48C0-920B-A7979656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8226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061-CB71-495C-9E6C-28AAF0FC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2448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61440"/>
            <a:ext cx="776916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FrancineHmk"/>
              </a:defRPr>
            </a:lvl1pPr>
          </a:lstStyle>
          <a:p>
            <a:pPr indent="0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FrancineHmk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FrancineHmk"/>
              </a:defRPr>
            </a:lvl1pPr>
          </a:lstStyle>
          <a:p>
            <a:pPr indent="0" algn="ct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FrancineHmk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FrancineHmk"/>
              </a:defRPr>
            </a:lvl1pPr>
          </a:lstStyle>
          <a:p>
            <a:pPr indent="0" algn="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AB8D8-E572-494D-B60B-2026DF4E706B}" type="slidenum">
              <a:rPr b="0" lang="en-GB" sz="1600" spc="-1" strike="noStrike">
                <a:solidFill>
                  <a:srgbClr val="ffffff"/>
                </a:solidFill>
                <a:latin typeface="FrancineHm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1960" indent="-2919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636120" indent="-24300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982800" indent="-1965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1375920" indent="-1965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1769040" indent="-1965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1769040" indent="-19656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1769040" indent="-19656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2448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1960" indent="-2919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636120" indent="-24300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982800" indent="-1965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1375920" indent="-1965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1769040" indent="-1965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1769040" indent="-19656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1769040" indent="-19656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9440" y="286920"/>
            <a:ext cx="787536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0" spc="-1" strike="noStrike">
                <a:solidFill>
                  <a:srgbClr val="dddddd"/>
                </a:solidFill>
                <a:latin typeface="FrancineHmk"/>
              </a:rPr>
              <a:t>Selecting a Thesis Topic</a:t>
            </a:r>
            <a:br>
              <a:rPr sz="8000"/>
            </a:br>
            <a:r>
              <a:rPr b="0" lang="en-GB" sz="4400" spc="-1" strike="noStrike">
                <a:solidFill>
                  <a:srgbClr val="dddddd"/>
                </a:solidFill>
                <a:latin typeface="FrancineHmk"/>
              </a:rPr>
              <a:t>DCS 601 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3935160"/>
            <a:ext cx="8292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739800" indent="-282600"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NorCal Commissioner's Colleg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David D. Frydenlun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Pacific Skyline Council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55440" y="250560"/>
            <a:ext cx="46846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Introductio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92200" y="2060640"/>
            <a:ext cx="8229600" cy="33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Many Topics Fail Because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hey Are Too Broad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Do Not Be Afraid to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Narrow The Scop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ork With Your Adviso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11080" y="43920"/>
            <a:ext cx="77724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Ways to Choose Scope Limit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7120" y="168552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lac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im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Number of Cas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Definable Aspect or Facto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Cos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Feasibility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Availability of Data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7000" y="-1440"/>
            <a:ext cx="7772400" cy="16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Work From General to Specific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7840" y="200772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3000" indent="-33300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raining - In What Area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Boy Scout Training - What Part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coutmaster Field Skills - What Level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ntermediate - What Part of Problem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“</a:t>
            </a: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Get All ASMs to First Class Rank Skills Within One Year of Taking Job!”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04640" y="-116280"/>
            <a:ext cx="7383240" cy="16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Exploration of Topic Area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4120" y="1855800"/>
            <a:ext cx="8229600" cy="31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Literature Search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nterviews and Visi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Develop Preliminary Outlin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ersonal Observation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0080" y="-1440"/>
            <a:ext cx="7772400" cy="16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Develop and Support </a:t>
            </a:r>
            <a:br>
              <a:rPr sz="4800"/>
            </a:b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Thesi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3480" y="1990440"/>
            <a:ext cx="6742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Literatur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urvey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nterview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Consultan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Other Studi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90360" y="240840"/>
            <a:ext cx="468468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Introductio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2200" y="225900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opic Should Be of Value to Scouting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Minimum 20 Pages, Publishabl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ersonal, Meaningful Research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8000" y="125280"/>
            <a:ext cx="77724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First Step, Select a Topic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1120" y="1612440"/>
            <a:ext cx="78976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6160" indent="-3261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Your Area of Interes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26160" indent="-3261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Your Area of Expertis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26160" indent="-3261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District to Nationwide Area of Nee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26160" indent="-3261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ndividual Project/Your Own Work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26160" indent="-3261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Completion in About One Yea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09920" indent="-27108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Write, Edit, Final Rewrit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33640" y="179280"/>
            <a:ext cx="747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Some Possible Topic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mproving Scouter Communication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Print Media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Direct Word of Mouth 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203720"/>
            <a:ext cx="822960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chool Coordinators to Form Unit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39800" indent="-2826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Pack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9800" indent="-2826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Troop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9800" indent="-2826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Cre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960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Guiding Scouter Training Path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chool Coordinators to Form Uni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Pack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roops 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Crew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05" name=""/>
          <p:cNvSpPr/>
          <p:nvPr/>
        </p:nvSpPr>
        <p:spPr>
          <a:xfrm>
            <a:off x="1441440" y="496800"/>
            <a:ext cx="62071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Some Possible Topics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22280" y="4984920"/>
            <a:ext cx="822960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ncreasing Attendance at Training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39800" indent="-2826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Roundtab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6560" y="1819080"/>
            <a:ext cx="822960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Cluster Activities for Training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Venturing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mproving Wolf/Bear Retentio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Guiding Volunteer Scouter Growth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479520"/>
            <a:ext cx="62071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Some Possible Topics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1494000" y="5224320"/>
            <a:ext cx="61545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ddddd"/>
                </a:solidFill>
                <a:latin typeface="FrancineHmk"/>
              </a:rPr>
              <a:t>Discussion of Topic Selection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3960" y="241200"/>
            <a:ext cx="64152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Preliminary Step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7120" y="1334880"/>
            <a:ext cx="8229600" cy="54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Develop Thesis Statement/Problem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Review Existing Literatur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BSA Pub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Web Posting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Organizational Literatur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Observe, Survey, Interview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Field Tes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rite and Review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9440" y="286920"/>
            <a:ext cx="787536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0" spc="-1" strike="noStrike">
                <a:solidFill>
                  <a:srgbClr val="dddddd"/>
                </a:solidFill>
                <a:latin typeface="FrancineHmk"/>
              </a:rPr>
              <a:t>Limiting the Topic's Scope </a:t>
            </a:r>
            <a:br>
              <a:rPr sz="8000"/>
            </a:br>
            <a:r>
              <a:rPr b="0" lang="en-GB" sz="4400" spc="-1" strike="noStrike">
                <a:solidFill>
                  <a:srgbClr val="dddddd"/>
                </a:solidFill>
                <a:latin typeface="FrancineHmk"/>
              </a:rPr>
              <a:t>DCS 602 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3935160"/>
            <a:ext cx="8292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739800" indent="-282600"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NorCal Commissioner's Colleg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David D. Frydenlun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8838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Pacific Skyline Council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