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620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Click to move the slide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620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964A9-EB92-4833-88D5-09760943E6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19AB-C16F-4333-B734-FEB00198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6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79880"/>
            <a:ext cx="8226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0C91-5263-4EB6-9100-DBC8DA67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60452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7988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407988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B653-84BB-4D7D-91B5-B63074B7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52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604520"/>
            <a:ext cx="264852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9560" y="1604520"/>
            <a:ext cx="264852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79880"/>
            <a:ext cx="264852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4079880"/>
            <a:ext cx="264852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9560" y="4079880"/>
            <a:ext cx="264852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1E89-5865-4F40-AFA4-3F97CD56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6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6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4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440" y="1604520"/>
            <a:ext cx="4014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440" y="761760"/>
            <a:ext cx="7769160" cy="123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440" y="1604520"/>
            <a:ext cx="4014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07988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6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3286-3420-4C68-BFFC-F1A45190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4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160452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440" y="407988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160452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79880"/>
            <a:ext cx="8226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6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079880"/>
            <a:ext cx="8226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160452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7988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440" y="407988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52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8200" y="1604520"/>
            <a:ext cx="264852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9560" y="1604520"/>
            <a:ext cx="264852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079880"/>
            <a:ext cx="264852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8200" y="4079880"/>
            <a:ext cx="264852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9560" y="4079880"/>
            <a:ext cx="264852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6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581B-C265-4B18-AFAA-B1AAC9BC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4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604520"/>
            <a:ext cx="4014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46F4-7C94-4129-90AE-5F305160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DB50-8A7D-40EC-A87A-A9849595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761760"/>
            <a:ext cx="7769160" cy="123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0E5B-F600-4EDB-A7F3-BDD6C64E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604520"/>
            <a:ext cx="4014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7988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0A07-CC5D-45EC-8872-88A226FB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4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60452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407988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9012-9086-4BAD-8D37-7CCA08B8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604520"/>
            <a:ext cx="4014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79880"/>
            <a:ext cx="822636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4C27-3C92-4E56-AE68-82C315DD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2448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61440"/>
            <a:ext cx="776916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Click to edit the title text format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12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600" spc="-1" strike="noStrike">
                <a:solidFill>
                  <a:srgbClr val="ffffff"/>
                </a:solidFill>
                <a:latin typeface="FrancineHmk"/>
              </a:defRPr>
            </a:lvl1pPr>
          </a:lstStyle>
          <a:p>
            <a:pPr indent="0">
              <a:lnSpc>
                <a:spcPct val="112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FrancineHmk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12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600" spc="-1" strike="noStrike">
                <a:solidFill>
                  <a:srgbClr val="ffffff"/>
                </a:solidFill>
                <a:latin typeface="FrancineHmk"/>
              </a:defRPr>
            </a:lvl1pPr>
          </a:lstStyle>
          <a:p>
            <a:pPr indent="0" algn="ctr">
              <a:lnSpc>
                <a:spcPct val="112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FrancineHmk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12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600" spc="-1" strike="noStrike">
                <a:solidFill>
                  <a:srgbClr val="ffffff"/>
                </a:solidFill>
                <a:latin typeface="FrancineHmk"/>
              </a:defRPr>
            </a:lvl1pPr>
          </a:lstStyle>
          <a:p>
            <a:pPr indent="0" algn="r">
              <a:lnSpc>
                <a:spcPct val="112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D1005-7D7E-4BE7-AAD5-6C2F8F90D5E6}" type="slidenum">
              <a:rPr b="0" lang="en-GB" sz="1600" spc="-1" strike="noStrike">
                <a:solidFill>
                  <a:srgbClr val="ffffff"/>
                </a:solidFill>
                <a:latin typeface="FrancineHmk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1960" indent="-291960">
              <a:lnSpc>
                <a:spcPct val="125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636120" indent="-243000">
              <a:lnSpc>
                <a:spcPct val="125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2" marL="982800" indent="-196560">
              <a:lnSpc>
                <a:spcPct val="125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3" marL="1375920" indent="-196560">
              <a:lnSpc>
                <a:spcPct val="125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4" marL="1769040" indent="-196560">
              <a:lnSpc>
                <a:spcPct val="125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5" marL="1769040" indent="-19656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FrancineHmk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6" marL="1769040" indent="-19656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FrancineHmk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2448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691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Click to edit the title text format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636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1960" indent="-291960">
              <a:lnSpc>
                <a:spcPct val="125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636120" indent="-243000">
              <a:lnSpc>
                <a:spcPct val="125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2" marL="982800" indent="-196560">
              <a:lnSpc>
                <a:spcPct val="125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3" marL="1375920" indent="-196560">
              <a:lnSpc>
                <a:spcPct val="125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4" marL="1769040" indent="-196560">
              <a:lnSpc>
                <a:spcPct val="125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5" marL="1769040" indent="-19656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FrancineHmk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6" marL="1769040" indent="-19656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FrancineHmk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9440" y="115560"/>
            <a:ext cx="787536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dddddd"/>
                </a:solidFill>
                <a:latin typeface="FrancineHmk"/>
              </a:rPr>
              <a:t>Assessing Council/District </a:t>
            </a:r>
            <a:br>
              <a:rPr sz="6000"/>
            </a:br>
            <a:r>
              <a:rPr b="0" lang="en-GB" sz="6000" spc="-1" strike="noStrike">
                <a:solidFill>
                  <a:srgbClr val="dddddd"/>
                </a:solidFill>
                <a:latin typeface="FrancineHmk"/>
              </a:rPr>
              <a:t>Health</a:t>
            </a:r>
            <a:br>
              <a:rPr sz="8000"/>
            </a:br>
            <a:r>
              <a:rPr b="0" lang="en-GB" sz="4400" spc="-1" strike="noStrike">
                <a:solidFill>
                  <a:srgbClr val="dddddd"/>
                </a:solidFill>
                <a:latin typeface="FrancineHmk"/>
              </a:rPr>
              <a:t>DCS 620 </a:t>
            </a:r>
            <a:endParaRPr b="0" lang="en-US" sz="4400" spc="-1" strike="noStrike">
              <a:solidFill>
                <a:srgbClr val="dddddd"/>
              </a:solidFill>
              <a:latin typeface="FrancineHm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3935160"/>
            <a:ext cx="829296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738360" indent="-28116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NorCal Commissioner's Colleg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38360" indent="-28116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David D. Frydenlund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38360" indent="-28116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Pacific Skyline Council</a:t>
            </a:r>
            <a:endParaRPr b="0" lang="en-US" sz="24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98280"/>
            <a:ext cx="7772400" cy="12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Money Metrics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25400" y="1676520"/>
            <a:ext cx="822960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2560" indent="-32256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Asset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02720" indent="-26820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What is the long term management plan?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22560" indent="-32256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Budget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02720" indent="-26820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Income vs Expense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22560" indent="-32256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Endowment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22560" indent="-32256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Fundraising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02720" indent="-26820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Don't Drink Your Own Blood!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7280" y="-70200"/>
            <a:ext cx="7772400" cy="16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Professional vs. Volunteer Relationships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73120" y="184608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29400" indent="-32940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Who Works For Who?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29400" indent="-32940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Why Is It This Way?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29400" indent="-32940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Does This Work?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29400" indent="-32940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Is This The Way It Is Supposed to Be?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17480" indent="-27396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The Advertised Model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17480" indent="-27396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The Reality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04640" y="0"/>
            <a:ext cx="738324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The Advertised Model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4120" y="1855800"/>
            <a:ext cx="8229600" cy="40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Multi-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30800" indent="-27828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Council, District, Unit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4440" indent="-3344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Volunteer Controlled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30800" indent="-27828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Board, Committee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4440" indent="-3344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Professional Staff Support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30800" indent="-27828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Key Three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0080" y="108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The Natural Tension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71040" y="1568520"/>
            <a:ext cx="80946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Professionals Serve Two Master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30800" indent="-27828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They Work For the Board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30800" indent="-27828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They Work For National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4440" indent="-3344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Volunteers Serve Many Master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30800" indent="-27828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Most Have Job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30800" indent="-27828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Most Have Familie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30800" indent="-27828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Most Have Multi-Level Loyaltie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01720" y="107640"/>
            <a:ext cx="777240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Consequences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4120" y="155088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Professionals Have Mixed Loyalty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Volunteers Have Mixed Commitment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Volunteers Have Mixed Loyalty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Professionals Often Fear Relying on Volunteer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Volunteers Sometimes Resent Professional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1800" y="17928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Board Spectrum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0760" y="1622160"/>
            <a:ext cx="73594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Working Board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Money Board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Show Board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Lap Dog Board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920" y="142920"/>
            <a:ext cx="75880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Key Three Pecking Order?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6480" y="1612440"/>
            <a:ext cx="65534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Committee Chair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Commissioner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District Executiv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360" y="68400"/>
            <a:ext cx="7078680" cy="65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Key Question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Do Your Professionals and Your Volunteers Work Together...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The Way They are Supposed To?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890720" y="-536400"/>
            <a:ext cx="46846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Introduction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"/>
          <p:cNvSpPr/>
          <p:nvPr/>
        </p:nvSpPr>
        <p:spPr>
          <a:xfrm>
            <a:off x="592200" y="2259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8040" indent="-3380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The Health of ANY Scouting Level is Best Measured By Assessing Its Ability to Deliver the Purpose of Scouting Through the Aims and Methods of Scouting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8000" y="125280"/>
            <a:ext cx="77724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Purpose of Scouting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1120" y="1881360"/>
            <a:ext cx="78976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To Build: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38360" indent="-28116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Character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38360" indent="-28116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Citizenship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38360" indent="-28116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Physical Fitnes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33640" y="179280"/>
            <a:ext cx="747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Methods of Scouting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541160"/>
            <a:ext cx="8229600" cy="51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Ideals  (Oath and Law)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4440" indent="-3344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Patrols  (Teamwork)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4440" indent="-3344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Outdoor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4440" indent="-3344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Advancement  (Goals)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4440" indent="-3344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Adult Association  (Role Models)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4440" indent="-3344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Uniform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4440" indent="-3344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Leadership Development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4440" indent="-3344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Personal Growth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5513400"/>
            <a:ext cx="52056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1120" y="1811160"/>
            <a:ext cx="8229600" cy="37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Different Than Unit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32240" indent="-27972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Indirect Service to Youth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32240" indent="-27972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Success Measured by Aggregate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32240" indent="-27972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Service Divided Into Type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2" marL="1131480" indent="-226080">
              <a:lnSpc>
                <a:spcPct val="112000"/>
              </a:lnSpc>
              <a:spcBef>
                <a:spcPts val="700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ineHmk"/>
              </a:rPr>
              <a:t>3Ms and a P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lvl="1" marL="732240" indent="-27972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Governance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05" name=""/>
          <p:cNvSpPr/>
          <p:nvPr/>
        </p:nvSpPr>
        <p:spPr>
          <a:xfrm>
            <a:off x="1441440" y="496800"/>
            <a:ext cx="62071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Council and District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6" name=""/>
          <p:cNvSpPr/>
          <p:nvPr/>
        </p:nvSpPr>
        <p:spPr>
          <a:xfrm>
            <a:off x="422280" y="5594400"/>
            <a:ext cx="82296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36480" y="1836360"/>
            <a:ext cx="82296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Primary Volunteer Responsibility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32240" indent="-27972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Program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Primary Professional Responsibility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32240" indent="-27972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Membership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32240" indent="-27972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Manpower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32240" indent="-27972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Money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09" name=""/>
          <p:cNvSpPr/>
          <p:nvPr/>
        </p:nvSpPr>
        <p:spPr>
          <a:xfrm>
            <a:off x="1692360" y="479520"/>
            <a:ext cx="62071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Three Ms and a P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1494000" y="5224320"/>
            <a:ext cx="61545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53960" y="241200"/>
            <a:ext cx="641520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Program Metrics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7120" y="1676520"/>
            <a:ext cx="8229600" cy="39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Events Run By Volunteer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Number of Event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Attendance at Event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Trip Permit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Advancement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Membership Metrics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36480" y="1604520"/>
            <a:ext cx="82296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Retention Within Program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Bridging Percentag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Recruiting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Market Penetration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0000"/>
            </a:gs>
            <a:gs pos="100000">
              <a:srgbClr val="0033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55440" y="250560"/>
            <a:ext cx="59799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Manpower Metrics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67436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Retention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4440" indent="-3344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Recruiting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4440" indent="-3344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Training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4440" indent="-3344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Promotion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4440" indent="-3344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Award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4440" indent="-3344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Infrastructure Staffing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