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3BC89-16B6-48CC-895C-C533F80EEE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1C3-126D-4191-AF03-9B9A79E0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87E-08E2-46B7-92E3-648EA8EF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2D0-D313-4916-BF25-E79BB4E5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775-7C7A-417C-B893-027D843A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123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3A3-3BDE-4F54-8B71-A465D7B6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1D7-75BC-4C02-A85C-72A71FC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D38-8351-4FA4-81DE-6AAA12D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07E-E530-440E-9293-BD80803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123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F9D-ABDF-4C00-AA60-84EA5C46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7C3-4E8A-48C4-A17B-41869571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612-8CA2-468A-8C00-F578349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5D2-0EA0-4E79-85A4-D2BD71F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2448"/>
              </a:gs>
              <a:gs pos="50000">
                <a:srgbClr val="003366"/>
              </a:gs>
              <a:gs pos="100000">
                <a:srgbClr val="0024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096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ct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600" spc="-1" strike="noStrike">
                <a:solidFill>
                  <a:srgbClr val="ffffff"/>
                </a:solidFill>
                <a:latin typeface="FrancineHmk"/>
              </a:defRPr>
            </a:lvl1pPr>
          </a:lstStyle>
          <a:p>
            <a:pPr indent="0" algn="r">
              <a:lnSpc>
                <a:spcPct val="11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ADAD0D-851D-428E-A440-9C977337FA8C}" type="slidenum">
              <a:rPr b="0" lang="en-GB" sz="1600" spc="-1" strike="noStrike">
                <a:solidFill>
                  <a:srgbClr val="ffffff"/>
                </a:solidFill>
                <a:latin typeface="FrancineHmk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0240" indent="-300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51960" indent="-24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1005840" indent="-2008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407960" indent="-2008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810440" indent="-2008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810440" indent="-2008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810440" indent="-2008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2448"/>
              </a:gs>
              <a:gs pos="50000">
                <a:srgbClr val="003366"/>
              </a:gs>
              <a:gs pos="100000">
                <a:srgbClr val="0024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7080" indent="-3070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667080" indent="-25560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1028520" indent="-205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1440000" indent="-205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1851480" indent="-20556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1851480" indent="-20556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1851480" indent="-20556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FrancineHmk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9440" y="123480"/>
            <a:ext cx="7875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dddddd"/>
                </a:solidFill>
                <a:latin typeface="FrancineHmk"/>
              </a:rPr>
              <a:t>Preventing Commissioner Burnout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DCS 610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39800" indent="-28260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David D. Frydenlun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39800" indent="-28260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3960" y="241200"/>
            <a:ext cx="6415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otiva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7120" y="167652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at is it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otivation Comes From Within.  It is something that prompts or incites an Action.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he Only Way to Motivate is:  To Help the Person to WANT to DO It.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40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otivating Other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6480" y="160452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tay Current in Your Own Job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ake Training Cours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Use Sincere, Helpful, Enthusiastic Attitud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reate a Sense of Belong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reate a Sense of Inclus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vide Appropriate Recogni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55440" y="250560"/>
            <a:ext cx="59799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ime Managemen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3200" y="1665000"/>
            <a:ext cx="8229600" cy="35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ecide What is Importan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et Prioriti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ick a Primary Role, Focus on i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Group and Combine Task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Organize Files, Papers, Manua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55440" y="250560"/>
            <a:ext cx="59799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ime Managemen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3200" y="1665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hrow Away Obsolete Material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o Not Let Tasks Back Up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Use Do Lis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isten Carefully, Avoid Re-Do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Do Not Procrastinate (Wrongly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earn to Say NO (Politely)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97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ommissioner Wellnes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4480" y="1677960"/>
            <a:ext cx="86691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ake Time to Relax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Keep Weight Under Contro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tay Fit, Exercise Regularl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ead a Balanced Lif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ake Time for Your Famil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eek Prompt Medical Care for Problem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4080" y="13500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Introduc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4916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e have all heard some one say: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“</a:t>
            </a: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 can't do Scouting one more day,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          </a:t>
            </a: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 am sick of it!”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his is a sure sign of BURNOU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8000" y="125280"/>
            <a:ext cx="77724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Types of Burnou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1120" y="1881360"/>
            <a:ext cx="789768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Fatiqu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Boredom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ack of Motiva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Others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33640" y="179280"/>
            <a:ext cx="7472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Signs of Fatigu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6200" y="1846440"/>
            <a:ext cx="8229600" cy="31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irednes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Lack of Idea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Lack of Plann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240" indent="-33624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Others?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513400"/>
            <a:ext cx="5205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1120" y="18108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ake Vaca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et Someone Else Lead Temporarily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Let Someone Else Execute Idea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Get Help from Others on Task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Get More Sleep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7680" indent="-3376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duce Late Night TV Watch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4" name=""/>
          <p:cNvSpPr/>
          <p:nvPr/>
        </p:nvSpPr>
        <p:spPr>
          <a:xfrm>
            <a:off x="1441440" y="496800"/>
            <a:ext cx="6207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ombating Fatigue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" y="5594400"/>
            <a:ext cx="822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36480" y="210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eventing or Curing Boredom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41240" indent="-28404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hange of Pac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41240" indent="-28404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Look for New Ways to Handle Task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41240" indent="-28404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Do Special Trip or Activity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41240" indent="-28404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each a Skill to Other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41240" indent="-28404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Read/Listen to Inspirational Material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41240" indent="-284040">
              <a:lnSpc>
                <a:spcPct val="112000"/>
              </a:lnSpc>
              <a:spcBef>
                <a:spcPts val="799"/>
              </a:spcBef>
              <a:buClr>
                <a:srgbClr val="dddddd"/>
              </a:buClr>
              <a:buSzPct val="65000"/>
              <a:buFont typeface="FrancineHmk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Reflect on Accomplishmen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08" name=""/>
          <p:cNvSpPr/>
          <p:nvPr/>
        </p:nvSpPr>
        <p:spPr>
          <a:xfrm>
            <a:off x="1030320" y="673200"/>
            <a:ext cx="81136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494000" y="5224320"/>
            <a:ext cx="6154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793440" y="205920"/>
            <a:ext cx="823428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Boredom</a:t>
            </a:r>
            <a:br>
              <a:rPr sz="4800"/>
            </a:br>
            <a:r>
              <a:rPr b="0" lang="en-GB" sz="3600" spc="-1" strike="noStrike">
                <a:solidFill>
                  <a:srgbClr val="dddddd"/>
                </a:solidFill>
                <a:latin typeface="FrancineHmk"/>
              </a:rPr>
              <a:t>(No Longer Interested in Task or Event)</a:t>
            </a:r>
            <a:endParaRPr b="0" lang="en-US" sz="36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3960" y="241200"/>
            <a:ext cx="6415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otiva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7120" y="167652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at is it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3960" y="241200"/>
            <a:ext cx="6415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otiva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7120" y="167652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at is it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otivation Comes From Within.  It is something that prompts or incites an Action.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3960" y="241200"/>
            <a:ext cx="64152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otiva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7120" y="167652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at is it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Motivation Comes From Within.  It is something that prompts or incites an Action.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1280" indent="-341280">
              <a:lnSpc>
                <a:spcPct val="112000"/>
              </a:lnSpc>
              <a:spcBef>
                <a:spcPts val="901"/>
              </a:spcBef>
              <a:buClr>
                <a:srgbClr val="dddddd"/>
              </a:buClr>
              <a:buSzPct val="65000"/>
              <a:buFont typeface="FrancineHm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The Only Way to Motivate is: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