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67E8-1A52-4FA6-8725-A95EB072D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47760" y="866880"/>
            <a:ext cx="4343400" cy="3257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:55—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old saying, “Plan your work and work your plan.”  Everything that happens in a program year starts with a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900-5CFC-4BDA-AB9C-A625846E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FE2-9AD4-4F06-873C-2F0F833D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2BB-2073-484A-8D9A-9D60B78D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96D-63B1-4696-A941-89816828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58DD-019B-46B4-B17D-287B4B77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2BB3-AFAF-4380-8435-69E80AB5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1993-13A8-4752-A2D0-326CFE1E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0FD5-D95E-4F75-A161-AB340809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7A9B-55A0-4B44-8A91-CA059F1A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0499-0344-42AA-B948-33E444CA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50E0-3439-48AA-BBCF-BB6BC46D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6AD-2D96-4A81-8553-B6C19F53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7E24-4012-4302-A57D-BCBBF0C3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922E-EFA1-4F9F-9E8D-D541BA5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EF3A-B7B3-4243-BD92-77E0B22B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8EFF-79BF-437F-A06F-5E34EEA9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A0AC-55E7-48CE-B470-E068A1E7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4B7-DEE7-4F00-8860-DA6B4E9C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0F9-A1E2-4ABB-9FC6-EBD4266C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D10-5631-4680-B87B-E71FD819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748-C2F3-4AB9-ABC2-CA48C988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DAB-15CA-4ED5-B756-079751C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696-1822-489E-A222-83E94307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C70-6716-4BF9-98FE-605969B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8DF7-D43D-43DA-BF91-B236519A24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201A-18F0-47F9-968E-3762CB7552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581280" y="838080"/>
            <a:ext cx="1690920" cy="16542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dvance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lunteer-Professional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lationship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geth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annual strategic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vital decisions of Scouting at the district and council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Scouting in the local comm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What do professionals 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expect from volunteers?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What do volunteers 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expect from professionals?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are Commissioners and Professionals Simila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537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eath of Service on badge of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ry out their service as a “Commissioned” volunteer or profes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beginning of the movement, professionals were unpaid commissio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505320" y="5029200"/>
            <a:ext cx="16905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What can I do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 to create a better relationship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 with my professional counterpart?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What suggestions can I make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 to my professional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 to help us have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 a better relationship?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fca"/>
                </a:solidFill>
                <a:latin typeface="Tahoma"/>
              </a:rPr>
              <a:t>Under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pled with 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ood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Volunteer-Professional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29718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Intentionally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begin to build a good relationship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en the partnership thrives, Scouting thrives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en the partnership is not working well, Scouting suffer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54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alities of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ood Relationship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514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Good volunteer-professional relationships are characterized by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tual trust, mutual respect, and mutual recognition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of each other’s role and competenc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54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to do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514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Promote open communication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early define expectations.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Match interests and talent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pport each other 100%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Create a non-judgmental relationship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alue each other’s available time.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Be a good partner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54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o are you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514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out Execu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ruits, trains and guides capable and dedicated volunteers to carry out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administrative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s as an advi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ains a good relationship with communit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s provide a quality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unte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s and carries out plans to promote Scou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s membership goals, budgets, training programs and annual unit service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s units succeed in the areas of program, membership and fin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ves to make a difference in the lives of the y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03:56Z</dcterms:created>
  <dc:creator>Al Friedrich</dc:creator>
  <dc:description/>
  <dc:language>en-US</dc:language>
  <cp:lastModifiedBy>Al Friedrich</cp:lastModifiedBy>
  <dcterms:modified xsi:type="dcterms:W3CDTF">2010-02-14T10:49:24Z</dcterms:modified>
  <cp:revision>37</cp:revision>
  <dc:subject/>
  <dc:title>Annual  Commissioner Service Plan</dc:title>
</cp:coreProperties>
</file>