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393480" y="4191120"/>
            <a:ext cx="6041880" cy="41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45960" y="866880"/>
            <a:ext cx="4344840" cy="325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8294760"/>
            <a:ext cx="6186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 Narrow"/>
              </a:rPr>
              <a:t>Lesson Plan • Master of Commissioner Science • July 2002</a:t>
            </a:r>
            <a:r>
              <a:rPr b="0" i="1" lang="en-GB" sz="1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n-GB" sz="1000" spc="-1" strike="noStrike">
                <a:solidFill>
                  <a:srgbClr val="ffffff"/>
                </a:solidFill>
                <a:latin typeface="Arial Narrow"/>
              </a:rPr>
              <a:t>page </a:t>
            </a:r>
            <a:fld id="{4907D299-C5D7-4998-A485-3D74846E6B0F}" type="slidenum">
              <a:rPr b="0" i="1" lang="en-GB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"/>
          <p:cNvSpPr/>
          <p:nvPr/>
        </p:nvSpPr>
        <p:spPr>
          <a:xfrm>
            <a:off x="401760" y="504720"/>
            <a:ext cx="6041880" cy="2811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"/>
          <p:cNvSpPr/>
          <p:nvPr/>
        </p:nvSpPr>
        <p:spPr>
          <a:xfrm>
            <a:off x="403200" y="460440"/>
            <a:ext cx="60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 Narrow"/>
              </a:rPr>
              <a:t>Master of Commissioner Science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[Where there are no or incomplete notes on the notes pages, the slide contains all the information in the syllabus.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[Change the instructor’s name.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52440" indent="-352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romanUcPeriod"/>
              <a:tabLst>
                <a:tab algn="l" pos="352440"/>
                <a:tab algn="l" pos="809640"/>
                <a:tab algn="l" pos="1266840"/>
                <a:tab algn="l" pos="1724040"/>
                <a:tab algn="l" pos="2181240"/>
                <a:tab algn="l" pos="2638440"/>
                <a:tab algn="l" pos="3095640"/>
                <a:tab algn="l" pos="3552840"/>
                <a:tab algn="l" pos="4010040"/>
                <a:tab algn="l" pos="4467240"/>
                <a:tab algn="l" pos="4924440"/>
                <a:tab algn="l" pos="5381640"/>
                <a:tab algn="l" pos="5838840"/>
                <a:tab algn="l" pos="6296040"/>
                <a:tab algn="l" pos="6753240"/>
                <a:tab algn="l" pos="7210440"/>
                <a:tab algn="l" pos="7667640"/>
                <a:tab algn="l" pos="8124840"/>
                <a:tab algn="l" pos="8582040"/>
                <a:tab algn="l" pos="9039240"/>
                <a:tab algn="l" pos="94964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Reviewing our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52440"/>
                <a:tab algn="l" pos="809640"/>
                <a:tab algn="l" pos="1266840"/>
                <a:tab algn="l" pos="1724040"/>
                <a:tab algn="l" pos="2181240"/>
                <a:tab algn="l" pos="2638440"/>
                <a:tab algn="l" pos="3095640"/>
                <a:tab algn="l" pos="3552840"/>
                <a:tab algn="l" pos="4010040"/>
                <a:tab algn="l" pos="4467240"/>
                <a:tab algn="l" pos="4924440"/>
                <a:tab algn="l" pos="5381640"/>
                <a:tab algn="l" pos="5838840"/>
                <a:tab algn="l" pos="6296040"/>
                <a:tab algn="l" pos="6753240"/>
                <a:tab algn="l" pos="7210440"/>
                <a:tab algn="l" pos="7667640"/>
                <a:tab algn="l" pos="8124840"/>
                <a:tab algn="l" pos="8582040"/>
                <a:tab algn="l" pos="9039240"/>
                <a:tab algn="l" pos="9496440"/>
                <a:tab algn="l" pos="9601200"/>
                <a:tab algn="l" pos="10058400"/>
                <a:tab algn="l" pos="105156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.  Scoutmaster Handbook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(section on troop fina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52440"/>
                <a:tab algn="l" pos="809640"/>
                <a:tab algn="l" pos="1266840"/>
                <a:tab algn="l" pos="1724040"/>
                <a:tab algn="l" pos="2181240"/>
                <a:tab algn="l" pos="2638440"/>
                <a:tab algn="l" pos="3095640"/>
                <a:tab algn="l" pos="3552840"/>
                <a:tab algn="l" pos="4010040"/>
                <a:tab algn="l" pos="4467240"/>
                <a:tab algn="l" pos="4924440"/>
                <a:tab algn="l" pos="5381640"/>
                <a:tab algn="l" pos="5838840"/>
                <a:tab algn="l" pos="6296040"/>
                <a:tab algn="l" pos="6753240"/>
                <a:tab algn="l" pos="7210440"/>
                <a:tab algn="l" pos="7667640"/>
                <a:tab algn="l" pos="8124840"/>
                <a:tab algn="l" pos="8582040"/>
                <a:tab algn="l" pos="9039240"/>
                <a:tab algn="l" pos="9496440"/>
                <a:tab algn="l" pos="9601200"/>
                <a:tab algn="l" pos="10058400"/>
                <a:tab algn="l" pos="105156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B.  Cub Scout Leader Book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(section on pack finance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52440"/>
                <a:tab algn="l" pos="809640"/>
                <a:tab algn="l" pos="1266840"/>
                <a:tab algn="l" pos="1724040"/>
                <a:tab algn="l" pos="2181240"/>
                <a:tab algn="l" pos="2638440"/>
                <a:tab algn="l" pos="3095640"/>
                <a:tab algn="l" pos="3552840"/>
                <a:tab algn="l" pos="4010040"/>
                <a:tab algn="l" pos="4467240"/>
                <a:tab algn="l" pos="4924440"/>
                <a:tab algn="l" pos="5381640"/>
                <a:tab algn="l" pos="5838840"/>
                <a:tab algn="l" pos="6296040"/>
                <a:tab algn="l" pos="6753240"/>
                <a:tab algn="l" pos="7210440"/>
                <a:tab algn="l" pos="7667640"/>
                <a:tab algn="l" pos="8124840"/>
                <a:tab algn="l" pos="8582040"/>
                <a:tab algn="l" pos="9039240"/>
                <a:tab algn="l" pos="9496440"/>
                <a:tab algn="l" pos="9601200"/>
                <a:tab algn="l" pos="10058400"/>
                <a:tab algn="l" pos="105156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[Venturing Leader Manual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(How-to section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52440"/>
                <a:tab algn="l" pos="809640"/>
                <a:tab algn="l" pos="1266840"/>
                <a:tab algn="l" pos="1724040"/>
                <a:tab algn="l" pos="2181240"/>
                <a:tab algn="l" pos="2638440"/>
                <a:tab algn="l" pos="3095640"/>
                <a:tab algn="l" pos="3552840"/>
                <a:tab algn="l" pos="4010040"/>
                <a:tab algn="l" pos="4467240"/>
                <a:tab algn="l" pos="4924440"/>
                <a:tab algn="l" pos="5381640"/>
                <a:tab algn="l" pos="5838840"/>
                <a:tab algn="l" pos="6296040"/>
                <a:tab algn="l" pos="6753240"/>
                <a:tab algn="l" pos="7210440"/>
                <a:tab algn="l" pos="7667640"/>
                <a:tab algn="l" pos="8124840"/>
                <a:tab algn="l" pos="8582040"/>
                <a:tab algn="l" pos="9039240"/>
                <a:tab algn="l" pos="9496440"/>
                <a:tab algn="l" pos="9601200"/>
                <a:tab algn="l" pos="10058400"/>
                <a:tab algn="l" pos="105156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C.  Best Methods for District Volunteers Serving Rural Communities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nd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Best Methods for District Volunteers Serving Low-Income Urban Commun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52440"/>
                <a:tab algn="l" pos="809640"/>
                <a:tab algn="l" pos="1266840"/>
                <a:tab algn="l" pos="1724040"/>
                <a:tab algn="l" pos="2181240"/>
                <a:tab algn="l" pos="2638440"/>
                <a:tab algn="l" pos="3095640"/>
                <a:tab algn="l" pos="3552840"/>
                <a:tab algn="l" pos="4010040"/>
                <a:tab algn="l" pos="4467240"/>
                <a:tab algn="l" pos="4924440"/>
                <a:tab algn="l" pos="5381640"/>
                <a:tab algn="l" pos="5838840"/>
                <a:tab algn="l" pos="6296040"/>
                <a:tab algn="l" pos="6753240"/>
                <a:tab algn="l" pos="7210440"/>
                <a:tab algn="l" pos="7667640"/>
                <a:tab algn="l" pos="8124840"/>
                <a:tab algn="l" pos="8582040"/>
                <a:tab algn="l" pos="9039240"/>
                <a:tab algn="l" pos="94964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393480" y="4191120"/>
            <a:ext cx="60433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393480" y="4191120"/>
            <a:ext cx="60433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V. 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B.  Solicit and list ideas for acceptable unit money-earning projec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52440" indent="-352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romanUcPeriod"/>
              <a:tabLst>
                <a:tab algn="l" pos="352440"/>
                <a:tab algn="l" pos="809640"/>
                <a:tab algn="l" pos="1266840"/>
                <a:tab algn="l" pos="1724040"/>
                <a:tab algn="l" pos="2181240"/>
                <a:tab algn="l" pos="2638440"/>
                <a:tab algn="l" pos="3095640"/>
                <a:tab algn="l" pos="3552840"/>
                <a:tab algn="l" pos="4010040"/>
                <a:tab algn="l" pos="4467240"/>
                <a:tab algn="l" pos="4924440"/>
                <a:tab algn="l" pos="5381640"/>
                <a:tab algn="l" pos="5838840"/>
                <a:tab algn="l" pos="6296040"/>
                <a:tab algn="l" pos="6753240"/>
                <a:tab algn="l" pos="7210440"/>
                <a:tab algn="l" pos="7667640"/>
                <a:tab algn="l" pos="8124840"/>
                <a:tab algn="l" pos="8582040"/>
                <a:tab algn="l" pos="9039240"/>
                <a:tab algn="l" pos="94964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Local council fin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52440"/>
                <a:tab algn="l" pos="809640"/>
                <a:tab algn="l" pos="1266840"/>
                <a:tab algn="l" pos="1724040"/>
                <a:tab algn="l" pos="2181240"/>
                <a:tab algn="l" pos="2638440"/>
                <a:tab algn="l" pos="3095640"/>
                <a:tab algn="l" pos="3552840"/>
                <a:tab algn="l" pos="4010040"/>
                <a:tab algn="l" pos="4467240"/>
                <a:tab algn="l" pos="4924440"/>
                <a:tab algn="l" pos="5381640"/>
                <a:tab algn="l" pos="5838840"/>
                <a:tab algn="l" pos="6296040"/>
                <a:tab algn="l" pos="6753240"/>
                <a:tab algn="l" pos="7210440"/>
                <a:tab algn="l" pos="7667640"/>
                <a:tab algn="l" pos="8124840"/>
                <a:tab algn="l" pos="8582040"/>
                <a:tab algn="l" pos="9039240"/>
                <a:tab algn="l" pos="94964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UcPeriod"/>
              <a:tabLst>
                <a:tab algn="l" pos="352440"/>
                <a:tab algn="l" pos="809640"/>
                <a:tab algn="l" pos="1266840"/>
                <a:tab algn="l" pos="1724040"/>
                <a:tab algn="l" pos="2181240"/>
                <a:tab algn="l" pos="2638440"/>
                <a:tab algn="l" pos="3095640"/>
                <a:tab algn="l" pos="3552840"/>
                <a:tab algn="l" pos="4010040"/>
                <a:tab algn="l" pos="4467240"/>
                <a:tab algn="l" pos="4924440"/>
                <a:tab algn="l" pos="5381640"/>
                <a:tab algn="l" pos="5838840"/>
                <a:tab algn="l" pos="6296040"/>
                <a:tab algn="l" pos="6753240"/>
                <a:tab algn="l" pos="7210440"/>
                <a:tab algn="l" pos="7667640"/>
                <a:tab algn="l" pos="8124840"/>
                <a:tab algn="l" pos="8582040"/>
                <a:tab algn="l" pos="9039240"/>
                <a:tab algn="l" pos="94964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Review the SME/FOS fact sh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UcPeriod"/>
              <a:tabLst>
                <a:tab algn="l" pos="352440"/>
                <a:tab algn="l" pos="809640"/>
                <a:tab algn="l" pos="1266840"/>
                <a:tab algn="l" pos="1724040"/>
                <a:tab algn="l" pos="2181240"/>
                <a:tab algn="l" pos="2638440"/>
                <a:tab algn="l" pos="3095640"/>
                <a:tab algn="l" pos="3552840"/>
                <a:tab algn="l" pos="4010040"/>
                <a:tab algn="l" pos="4467240"/>
                <a:tab algn="l" pos="4924440"/>
                <a:tab algn="l" pos="5381640"/>
                <a:tab algn="l" pos="5838840"/>
                <a:tab algn="l" pos="6296040"/>
                <a:tab algn="l" pos="6753240"/>
                <a:tab algn="l" pos="7210440"/>
                <a:tab algn="l" pos="7667640"/>
                <a:tab algn="l" pos="8124840"/>
                <a:tab algn="l" pos="8582040"/>
                <a:tab algn="l" pos="9039240"/>
                <a:tab algn="l" pos="94964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Discuss the need for unit SME/F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UcPeriod"/>
              <a:tabLst>
                <a:tab algn="l" pos="352440"/>
                <a:tab algn="l" pos="809640"/>
                <a:tab algn="l" pos="1266840"/>
                <a:tab algn="l" pos="1724040"/>
                <a:tab algn="l" pos="2181240"/>
                <a:tab algn="l" pos="2638440"/>
                <a:tab algn="l" pos="3095640"/>
                <a:tab algn="l" pos="3552840"/>
                <a:tab algn="l" pos="4010040"/>
                <a:tab algn="l" pos="4467240"/>
                <a:tab algn="l" pos="4924440"/>
                <a:tab algn="l" pos="5381640"/>
                <a:tab algn="l" pos="5838840"/>
                <a:tab algn="l" pos="6296040"/>
                <a:tab algn="l" pos="6753240"/>
                <a:tab algn="l" pos="7210440"/>
                <a:tab algn="l" pos="7667640"/>
                <a:tab algn="l" pos="8124840"/>
                <a:tab algn="l" pos="8582040"/>
                <a:tab algn="l" pos="9039240"/>
                <a:tab algn="l" pos="94964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Discuss methods of communicating the SME/FOS story to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UcPeriod"/>
              <a:tabLst>
                <a:tab algn="l" pos="352440"/>
                <a:tab algn="l" pos="809640"/>
                <a:tab algn="l" pos="1266840"/>
                <a:tab algn="l" pos="1724040"/>
                <a:tab algn="l" pos="2181240"/>
                <a:tab algn="l" pos="2638440"/>
                <a:tab algn="l" pos="3095640"/>
                <a:tab algn="l" pos="3552840"/>
                <a:tab algn="l" pos="4010040"/>
                <a:tab algn="l" pos="4467240"/>
                <a:tab algn="l" pos="4924440"/>
                <a:tab algn="l" pos="5381640"/>
                <a:tab algn="l" pos="5838840"/>
                <a:tab algn="l" pos="6296040"/>
                <a:tab algn="l" pos="6753240"/>
                <a:tab algn="l" pos="7210440"/>
                <a:tab algn="l" pos="7667640"/>
                <a:tab algn="l" pos="8124840"/>
                <a:tab algn="l" pos="8582040"/>
                <a:tab algn="l" pos="9039240"/>
                <a:tab algn="l" pos="94964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United Way/other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393480" y="4191120"/>
            <a:ext cx="60433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52440" indent="-352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romanUcPeriod"/>
              <a:tabLst>
                <a:tab algn="l" pos="352440"/>
                <a:tab algn="l" pos="809640"/>
                <a:tab algn="l" pos="1266840"/>
                <a:tab algn="l" pos="1724040"/>
                <a:tab algn="l" pos="2181240"/>
                <a:tab algn="l" pos="2638440"/>
                <a:tab algn="l" pos="3095640"/>
                <a:tab algn="l" pos="3552840"/>
                <a:tab algn="l" pos="4010040"/>
                <a:tab algn="l" pos="4467240"/>
                <a:tab algn="l" pos="4924440"/>
                <a:tab algn="l" pos="5381640"/>
                <a:tab algn="l" pos="5838840"/>
                <a:tab algn="l" pos="6296040"/>
                <a:tab algn="l" pos="6753240"/>
                <a:tab algn="l" pos="7210440"/>
                <a:tab algn="l" pos="7667640"/>
                <a:tab algn="l" pos="8124840"/>
                <a:tab algn="l" pos="8582040"/>
                <a:tab algn="l" pos="9039240"/>
                <a:tab algn="l" pos="94964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Helping units with special $ nee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52440"/>
                <a:tab algn="l" pos="809640"/>
                <a:tab algn="l" pos="1266840"/>
                <a:tab algn="l" pos="1724040"/>
                <a:tab algn="l" pos="2181240"/>
                <a:tab algn="l" pos="2638440"/>
                <a:tab algn="l" pos="3095640"/>
                <a:tab algn="l" pos="3552840"/>
                <a:tab algn="l" pos="4010040"/>
                <a:tab algn="l" pos="4467240"/>
                <a:tab algn="l" pos="4924440"/>
                <a:tab algn="l" pos="5381640"/>
                <a:tab algn="l" pos="5838840"/>
                <a:tab algn="l" pos="6296040"/>
                <a:tab algn="l" pos="6753240"/>
                <a:tab algn="l" pos="7210440"/>
                <a:tab algn="l" pos="7667640"/>
                <a:tab algn="l" pos="8124840"/>
                <a:tab algn="l" pos="8582040"/>
                <a:tab algn="l" pos="9039240"/>
                <a:tab algn="l" pos="94964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52440"/>
                <a:tab algn="l" pos="809640"/>
                <a:tab algn="l" pos="1266840"/>
                <a:tab algn="l" pos="1724040"/>
                <a:tab algn="l" pos="2181240"/>
                <a:tab algn="l" pos="2638440"/>
                <a:tab algn="l" pos="3095640"/>
                <a:tab algn="l" pos="3552840"/>
                <a:tab algn="l" pos="4010040"/>
                <a:tab algn="l" pos="4467240"/>
                <a:tab algn="l" pos="4924440"/>
                <a:tab algn="l" pos="5381640"/>
                <a:tab algn="l" pos="5838840"/>
                <a:tab algn="l" pos="6296040"/>
                <a:tab algn="l" pos="6753240"/>
                <a:tab algn="l" pos="7210440"/>
                <a:tab algn="l" pos="7667640"/>
                <a:tab algn="l" pos="8124840"/>
                <a:tab algn="l" pos="8582040"/>
                <a:tab algn="l" pos="9039240"/>
                <a:tab algn="l" pos="94964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Distribute the rural and urban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Best Methods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folders and use them to help participants know how to help units f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UcPeriod"/>
              <a:tabLst>
                <a:tab algn="l" pos="352440"/>
                <a:tab algn="l" pos="809640"/>
                <a:tab algn="l" pos="1266840"/>
                <a:tab algn="l" pos="1724040"/>
                <a:tab algn="l" pos="2181240"/>
                <a:tab algn="l" pos="2638440"/>
                <a:tab algn="l" pos="3095640"/>
                <a:tab algn="l" pos="3552840"/>
                <a:tab algn="l" pos="4010040"/>
                <a:tab algn="l" pos="4467240"/>
                <a:tab algn="l" pos="4924440"/>
                <a:tab algn="l" pos="5381640"/>
                <a:tab algn="l" pos="5838840"/>
                <a:tab algn="l" pos="6296040"/>
                <a:tab algn="l" pos="6753240"/>
                <a:tab algn="l" pos="7210440"/>
                <a:tab algn="l" pos="7667640"/>
                <a:tab algn="l" pos="8124840"/>
                <a:tab algn="l" pos="8582040"/>
                <a:tab algn="l" pos="9039240"/>
                <a:tab algn="l" pos="94964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Unifo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UcPeriod"/>
              <a:tabLst>
                <a:tab algn="l" pos="352440"/>
                <a:tab algn="l" pos="809640"/>
                <a:tab algn="l" pos="1266840"/>
                <a:tab algn="l" pos="1724040"/>
                <a:tab algn="l" pos="2181240"/>
                <a:tab algn="l" pos="2638440"/>
                <a:tab algn="l" pos="3095640"/>
                <a:tab algn="l" pos="3552840"/>
                <a:tab algn="l" pos="4010040"/>
                <a:tab algn="l" pos="4467240"/>
                <a:tab algn="l" pos="4924440"/>
                <a:tab algn="l" pos="5381640"/>
                <a:tab algn="l" pos="5838840"/>
                <a:tab algn="l" pos="6296040"/>
                <a:tab algn="l" pos="6753240"/>
                <a:tab algn="l" pos="7210440"/>
                <a:tab algn="l" pos="7667640"/>
                <a:tab algn="l" pos="8124840"/>
                <a:tab algn="l" pos="8582040"/>
                <a:tab algn="l" pos="9039240"/>
                <a:tab algn="l" pos="94964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ummer ca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UcPeriod"/>
              <a:tabLst>
                <a:tab algn="l" pos="352440"/>
                <a:tab algn="l" pos="809640"/>
                <a:tab algn="l" pos="1266840"/>
                <a:tab algn="l" pos="1724040"/>
                <a:tab algn="l" pos="2181240"/>
                <a:tab algn="l" pos="2638440"/>
                <a:tab algn="l" pos="3095640"/>
                <a:tab algn="l" pos="3552840"/>
                <a:tab algn="l" pos="4010040"/>
                <a:tab algn="l" pos="4467240"/>
                <a:tab algn="l" pos="4924440"/>
                <a:tab algn="l" pos="5381640"/>
                <a:tab algn="l" pos="5838840"/>
                <a:tab algn="l" pos="6296040"/>
                <a:tab algn="l" pos="6753240"/>
                <a:tab algn="l" pos="7210440"/>
                <a:tab algn="l" pos="7667640"/>
                <a:tab algn="l" pos="8124840"/>
                <a:tab algn="l" pos="8582040"/>
                <a:tab algn="l" pos="9039240"/>
                <a:tab algn="l" pos="94964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Equi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UcPeriod"/>
              <a:tabLst>
                <a:tab algn="l" pos="352440"/>
                <a:tab algn="l" pos="809640"/>
                <a:tab algn="l" pos="1266840"/>
                <a:tab algn="l" pos="1724040"/>
                <a:tab algn="l" pos="2181240"/>
                <a:tab algn="l" pos="2638440"/>
                <a:tab algn="l" pos="3095640"/>
                <a:tab algn="l" pos="3552840"/>
                <a:tab algn="l" pos="4010040"/>
                <a:tab algn="l" pos="4467240"/>
                <a:tab algn="l" pos="4924440"/>
                <a:tab algn="l" pos="5381640"/>
                <a:tab algn="l" pos="5838840"/>
                <a:tab algn="l" pos="6296040"/>
                <a:tab algn="l" pos="6753240"/>
                <a:tab algn="l" pos="7210440"/>
                <a:tab algn="l" pos="7667640"/>
                <a:tab algn="l" pos="8124840"/>
                <a:tab algn="l" pos="8582040"/>
                <a:tab algn="l" pos="9039240"/>
                <a:tab algn="l" pos="94964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Registration f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52440"/>
                <a:tab algn="l" pos="809640"/>
                <a:tab algn="l" pos="1266840"/>
                <a:tab algn="l" pos="1724040"/>
                <a:tab algn="l" pos="2181240"/>
                <a:tab algn="l" pos="2638440"/>
                <a:tab algn="l" pos="3095640"/>
                <a:tab algn="l" pos="3552840"/>
                <a:tab algn="l" pos="4010040"/>
                <a:tab algn="l" pos="4467240"/>
                <a:tab algn="l" pos="4924440"/>
                <a:tab algn="l" pos="5381640"/>
                <a:tab algn="l" pos="5838840"/>
                <a:tab algn="l" pos="6296040"/>
                <a:tab algn="l" pos="6753240"/>
                <a:tab algn="l" pos="7210440"/>
                <a:tab algn="l" pos="7667640"/>
                <a:tab algn="l" pos="8124840"/>
                <a:tab algn="l" pos="8582040"/>
                <a:tab algn="l" pos="9039240"/>
                <a:tab algn="l" pos="94964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393480" y="4186440"/>
            <a:ext cx="6043320" cy="42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8400" y="419040"/>
            <a:ext cx="81885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809360"/>
            <a:ext cx="79408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76240" y="3957120"/>
            <a:ext cx="79408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98400" y="419040"/>
            <a:ext cx="81885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76240" y="1809360"/>
            <a:ext cx="38750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5320" y="1809360"/>
            <a:ext cx="38750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76240" y="3957120"/>
            <a:ext cx="38750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5320" y="3957120"/>
            <a:ext cx="38750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8400" y="419040"/>
            <a:ext cx="81885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6240" y="1809360"/>
            <a:ext cx="2556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1120" y="1809360"/>
            <a:ext cx="2556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6000" y="1809360"/>
            <a:ext cx="2556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76240" y="3957120"/>
            <a:ext cx="2556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1120" y="3957120"/>
            <a:ext cx="2556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6000" y="3957120"/>
            <a:ext cx="2556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98400" y="419040"/>
            <a:ext cx="81885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76240" y="1809360"/>
            <a:ext cx="79408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600" spc="-1" strike="noStrike">
              <a:solidFill>
                <a:srgbClr val="ff9b0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8400" y="419040"/>
            <a:ext cx="81885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76240" y="1809360"/>
            <a:ext cx="79408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8400" y="419040"/>
            <a:ext cx="81885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76240" y="1809360"/>
            <a:ext cx="38750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45320" y="1809360"/>
            <a:ext cx="38750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8400" y="419040"/>
            <a:ext cx="81885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98400" y="419040"/>
            <a:ext cx="81885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600" spc="-1" strike="noStrike">
              <a:solidFill>
                <a:srgbClr val="ff9b0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8400" y="419040"/>
            <a:ext cx="81885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76240" y="1809360"/>
            <a:ext cx="38750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45320" y="1809360"/>
            <a:ext cx="38750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76240" y="3957120"/>
            <a:ext cx="38750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98400" y="419040"/>
            <a:ext cx="81885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76240" y="1809360"/>
            <a:ext cx="79408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600" spc="-1" strike="noStrike">
              <a:solidFill>
                <a:srgbClr val="ff9b03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8400" y="419040"/>
            <a:ext cx="81885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809360"/>
            <a:ext cx="38750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45320" y="1809360"/>
            <a:ext cx="38750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45320" y="3957120"/>
            <a:ext cx="38750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8400" y="419040"/>
            <a:ext cx="81885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76240" y="1809360"/>
            <a:ext cx="38750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5320" y="1809360"/>
            <a:ext cx="38750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76240" y="3957120"/>
            <a:ext cx="79408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8400" y="419040"/>
            <a:ext cx="81885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6240" y="1809360"/>
            <a:ext cx="79408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76240" y="3957120"/>
            <a:ext cx="79408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8400" y="419040"/>
            <a:ext cx="81885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76240" y="1809360"/>
            <a:ext cx="38750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45320" y="1809360"/>
            <a:ext cx="38750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76240" y="3957120"/>
            <a:ext cx="38750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45320" y="3957120"/>
            <a:ext cx="38750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8400" y="419040"/>
            <a:ext cx="81885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76240" y="1809360"/>
            <a:ext cx="2556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1120" y="1809360"/>
            <a:ext cx="2556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46000" y="1809360"/>
            <a:ext cx="2556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76240" y="3957120"/>
            <a:ext cx="2556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1120" y="3957120"/>
            <a:ext cx="2556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46000" y="3957120"/>
            <a:ext cx="2556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98400" y="419040"/>
            <a:ext cx="81885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76240" y="1809360"/>
            <a:ext cx="79408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98400" y="419040"/>
            <a:ext cx="81885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76240" y="1809360"/>
            <a:ext cx="38750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5320" y="1809360"/>
            <a:ext cx="38750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98400" y="419040"/>
            <a:ext cx="81885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98400" y="419040"/>
            <a:ext cx="81885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600" spc="-1" strike="noStrike">
              <a:solidFill>
                <a:srgbClr val="ff9b03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8400" y="419040"/>
            <a:ext cx="81885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6240" y="1809360"/>
            <a:ext cx="38750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5320" y="1809360"/>
            <a:ext cx="38750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76240" y="3957120"/>
            <a:ext cx="38750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98400" y="419040"/>
            <a:ext cx="81885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809360"/>
            <a:ext cx="38750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5320" y="1809360"/>
            <a:ext cx="38750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5320" y="3957120"/>
            <a:ext cx="38750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98400" y="419040"/>
            <a:ext cx="81885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809360"/>
            <a:ext cx="38750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5320" y="1809360"/>
            <a:ext cx="38750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6240" y="3957120"/>
            <a:ext cx="79408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8400" y="419040"/>
            <a:ext cx="81885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1657440"/>
            <a:ext cx="8115120" cy="12996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50000">
                <a:srgbClr val="000000"/>
              </a:gs>
              <a:gs pos="100000">
                <a:srgbClr val="fc01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76240" y="1809360"/>
            <a:ext cx="79408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77840" y="165240"/>
            <a:ext cx="1359000" cy="13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9920" y="361440"/>
            <a:ext cx="8111880" cy="11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62120" y="1657440"/>
            <a:ext cx="8115120" cy="12996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50000">
                <a:srgbClr val="000000"/>
              </a:gs>
              <a:gs pos="100000">
                <a:srgbClr val="fc01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00280" y="406440"/>
            <a:ext cx="8115120" cy="12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57160" y="1943280"/>
            <a:ext cx="8058240" cy="35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Arial Narrow"/>
              </a:rPr>
              <a:t>MCS 302</a:t>
            </a:r>
            <a:endParaRPr b="1" lang="en-US" sz="6600" spc="-1" strike="noStrike">
              <a:solidFill>
                <a:srgbClr val="ff9b03"/>
              </a:solidFill>
              <a:latin typeface="Arial Narrow"/>
            </a:endParaRPr>
          </a:p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600" spc="-1" strike="noStrike">
              <a:solidFill>
                <a:srgbClr val="ff9b03"/>
              </a:solidFill>
              <a:latin typeface="Arial Narrow"/>
            </a:endParaRPr>
          </a:p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600" spc="-1" strike="noStrike">
                <a:solidFill>
                  <a:srgbClr val="ff9b03"/>
                </a:solidFill>
                <a:latin typeface="Arial Narrow"/>
              </a:rPr>
              <a:t>Unit</a:t>
            </a:r>
            <a:endParaRPr b="1" lang="en-US" sz="6600" spc="-1" strike="noStrike">
              <a:solidFill>
                <a:srgbClr val="ff9b03"/>
              </a:solidFill>
              <a:latin typeface="Arial Narrow"/>
            </a:endParaRPr>
          </a:p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600" spc="-1" strike="noStrike">
                <a:solidFill>
                  <a:srgbClr val="ff9b03"/>
                </a:solidFill>
                <a:latin typeface="Arial Narrow"/>
              </a:rPr>
              <a:t>Finance</a:t>
            </a:r>
            <a:endParaRPr b="1" lang="en-US" sz="6600" spc="-1" strike="noStrike">
              <a:solidFill>
                <a:srgbClr val="ff9b03"/>
              </a:solidFill>
              <a:latin typeface="Arial Narrow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4160" y="266760"/>
            <a:ext cx="1250640" cy="1268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188800" y="5853240"/>
            <a:ext cx="45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Prepared by: George Crow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Reviewing Resources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 Narrow"/>
              </a:rPr>
              <a:t>Scoutmaster Handbook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 Narrow"/>
              </a:rPr>
              <a:t>Cub Scout Leader Book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 Narrow"/>
              </a:rPr>
              <a:t>Venturing Leader Manua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 Narrow"/>
              </a:rPr>
              <a:t>Best Methods for District Volunteers Serving Rural Communities 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and</a:t>
            </a:r>
            <a:r>
              <a:rPr b="1" i="1" lang="en-GB" sz="3200" spc="-1" strike="noStrike">
                <a:solidFill>
                  <a:srgbClr val="ffffff"/>
                </a:solidFill>
                <a:latin typeface="Arial Narrow"/>
              </a:rPr>
              <a:t> Best Methods for District Volunteers Serving Low-Income Urban Communiti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Who Pays for Scouting?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Youth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Uni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Chartered organization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Local counci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National Counci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340320" y="2666880"/>
          <a:ext cx="851040" cy="133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0320" y="2666880"/>
                    <a:ext cx="85104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4b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Unit Budget Plan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809360"/>
            <a:ext cx="794376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Purpose and objec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Review sample budget plans for a pack, troop and a crew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Discuss the commissioner’s role in helping units establish a budget plan that meets Scouting’s purposes (teaches thrift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Covers unit expenses including </a:t>
            </a:r>
            <a:r>
              <a:rPr b="1" i="1" lang="en-GB" sz="3200" spc="-1" strike="noStrike">
                <a:solidFill>
                  <a:srgbClr val="ffff00"/>
                </a:solidFill>
                <a:latin typeface="Arial Narrow"/>
              </a:rPr>
              <a:t>Boys’ Life</a:t>
            </a:r>
            <a:r>
              <a:rPr b="1" i="1" lang="en-GB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magazin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Accident insuranc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c8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Unit Money-Earning Projects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Application form: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88760" indent="-3362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Why approval is necessar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88760" indent="-3362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Ten guides to money-earning project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88760" indent="-3362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Wearing of uniform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88760" indent="-3362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Commercialism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6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6240" indent="-3362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Acceptable unit money-earning projects?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913360" y="3483000"/>
          <a:ext cx="1524240" cy="14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3360" y="3483000"/>
                    <a:ext cx="152424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Local Council Finances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SME / FOS fact shee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Need for unit SME / FO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Methods of communicating SME / FOS story to unit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United Way / other suppor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156360" y="3886200"/>
            <a:ext cx="2316240" cy="2490840"/>
            <a:chOff x="6156360" y="3886200"/>
            <a:chExt cx="2316240" cy="2490840"/>
          </a:xfrm>
        </p:grpSpPr>
        <p:grpSp>
          <p:nvGrpSpPr>
            <p:cNvPr id="106" name=""/>
            <p:cNvGrpSpPr/>
            <p:nvPr/>
          </p:nvGrpSpPr>
          <p:grpSpPr>
            <a:xfrm>
              <a:off x="6156360" y="3886200"/>
              <a:ext cx="2316240" cy="2490840"/>
              <a:chOff x="6156360" y="3886200"/>
              <a:chExt cx="2316240" cy="2490840"/>
            </a:xfrm>
          </p:grpSpPr>
          <p:sp>
            <p:nvSpPr>
              <p:cNvPr id="107" name=""/>
              <p:cNvSpPr/>
              <p:nvPr/>
            </p:nvSpPr>
            <p:spPr>
              <a:xfrm>
                <a:off x="6164280" y="4275000"/>
                <a:ext cx="2021040" cy="2043360"/>
              </a:xfrm>
              <a:custGeom>
                <a:avLst/>
                <a:gdLst/>
                <a:ahLst/>
                <a:rect l="l" t="t" r="r" b="b"/>
                <a:pathLst>
                  <a:path w="2571" h="2586">
                    <a:moveTo>
                      <a:pt x="319" y="111"/>
                    </a:moveTo>
                    <a:lnTo>
                      <a:pt x="1045" y="111"/>
                    </a:lnTo>
                    <a:lnTo>
                      <a:pt x="1238" y="7"/>
                    </a:lnTo>
                    <a:lnTo>
                      <a:pt x="1896" y="0"/>
                    </a:lnTo>
                    <a:lnTo>
                      <a:pt x="1971" y="142"/>
                    </a:lnTo>
                    <a:lnTo>
                      <a:pt x="2548" y="133"/>
                    </a:lnTo>
                    <a:lnTo>
                      <a:pt x="2571" y="713"/>
                    </a:lnTo>
                    <a:lnTo>
                      <a:pt x="2557" y="2298"/>
                    </a:lnTo>
                    <a:lnTo>
                      <a:pt x="2489" y="2565"/>
                    </a:lnTo>
                    <a:lnTo>
                      <a:pt x="2208" y="2586"/>
                    </a:lnTo>
                    <a:lnTo>
                      <a:pt x="163" y="2543"/>
                    </a:lnTo>
                    <a:lnTo>
                      <a:pt x="37" y="2461"/>
                    </a:lnTo>
                    <a:lnTo>
                      <a:pt x="0" y="2334"/>
                    </a:lnTo>
                    <a:lnTo>
                      <a:pt x="0" y="2275"/>
                    </a:lnTo>
                    <a:lnTo>
                      <a:pt x="193" y="2275"/>
                    </a:lnTo>
                    <a:lnTo>
                      <a:pt x="237" y="1933"/>
                    </a:lnTo>
                    <a:lnTo>
                      <a:pt x="274" y="1339"/>
                    </a:lnTo>
                    <a:lnTo>
                      <a:pt x="260" y="684"/>
                    </a:lnTo>
                    <a:lnTo>
                      <a:pt x="289" y="208"/>
                    </a:lnTo>
                    <a:lnTo>
                      <a:pt x="319" y="111"/>
                    </a:lnTo>
                    <a:lnTo>
                      <a:pt x="319" y="11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256520" y="4386240"/>
                <a:ext cx="174600" cy="133200"/>
              </a:xfrm>
              <a:custGeom>
                <a:avLst/>
                <a:gdLst/>
                <a:ahLst/>
                <a:rect l="l" t="t" r="r" b="b"/>
                <a:pathLst>
                  <a:path w="222" h="169">
                    <a:moveTo>
                      <a:pt x="0" y="0"/>
                    </a:moveTo>
                    <a:lnTo>
                      <a:pt x="2" y="11"/>
                    </a:lnTo>
                    <a:lnTo>
                      <a:pt x="3" y="24"/>
                    </a:lnTo>
                    <a:lnTo>
                      <a:pt x="5" y="39"/>
                    </a:lnTo>
                    <a:lnTo>
                      <a:pt x="7" y="48"/>
                    </a:lnTo>
                    <a:lnTo>
                      <a:pt x="9" y="56"/>
                    </a:lnTo>
                    <a:lnTo>
                      <a:pt x="12" y="65"/>
                    </a:lnTo>
                    <a:lnTo>
                      <a:pt x="14" y="73"/>
                    </a:lnTo>
                    <a:lnTo>
                      <a:pt x="19" y="81"/>
                    </a:lnTo>
                    <a:lnTo>
                      <a:pt x="23" y="90"/>
                    </a:lnTo>
                    <a:lnTo>
                      <a:pt x="28" y="97"/>
                    </a:lnTo>
                    <a:lnTo>
                      <a:pt x="34" y="103"/>
                    </a:lnTo>
                    <a:lnTo>
                      <a:pt x="45" y="115"/>
                    </a:lnTo>
                    <a:lnTo>
                      <a:pt x="57" y="127"/>
                    </a:lnTo>
                    <a:lnTo>
                      <a:pt x="68" y="138"/>
                    </a:lnTo>
                    <a:lnTo>
                      <a:pt x="78" y="148"/>
                    </a:lnTo>
                    <a:lnTo>
                      <a:pt x="87" y="156"/>
                    </a:lnTo>
                    <a:lnTo>
                      <a:pt x="96" y="162"/>
                    </a:lnTo>
                    <a:lnTo>
                      <a:pt x="108" y="169"/>
                    </a:lnTo>
                    <a:lnTo>
                      <a:pt x="175" y="163"/>
                    </a:lnTo>
                    <a:lnTo>
                      <a:pt x="222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169120" y="4694400"/>
                <a:ext cx="290520" cy="542880"/>
              </a:xfrm>
              <a:custGeom>
                <a:avLst/>
                <a:gdLst/>
                <a:ahLst/>
                <a:rect l="l" t="t" r="r" b="b"/>
                <a:pathLst>
                  <a:path w="369" h="688">
                    <a:moveTo>
                      <a:pt x="0" y="0"/>
                    </a:moveTo>
                    <a:lnTo>
                      <a:pt x="173" y="38"/>
                    </a:lnTo>
                    <a:lnTo>
                      <a:pt x="275" y="124"/>
                    </a:lnTo>
                    <a:lnTo>
                      <a:pt x="360" y="269"/>
                    </a:lnTo>
                    <a:lnTo>
                      <a:pt x="369" y="408"/>
                    </a:lnTo>
                    <a:lnTo>
                      <a:pt x="357" y="498"/>
                    </a:lnTo>
                    <a:lnTo>
                      <a:pt x="281" y="631"/>
                    </a:lnTo>
                    <a:lnTo>
                      <a:pt x="35" y="688"/>
                    </a:lnTo>
                    <a:lnTo>
                      <a:pt x="51" y="584"/>
                    </a:lnTo>
                    <a:lnTo>
                      <a:pt x="226" y="507"/>
                    </a:lnTo>
                    <a:lnTo>
                      <a:pt x="218" y="280"/>
                    </a:lnTo>
                    <a:lnTo>
                      <a:pt x="150" y="153"/>
                    </a:lnTo>
                    <a:lnTo>
                      <a:pt x="0" y="1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332400" y="5770440"/>
                <a:ext cx="1857600" cy="590760"/>
              </a:xfrm>
              <a:custGeom>
                <a:avLst/>
                <a:gdLst/>
                <a:ahLst/>
                <a:rect l="l" t="t" r="r" b="b"/>
                <a:pathLst>
                  <a:path w="2362" h="747">
                    <a:moveTo>
                      <a:pt x="0" y="374"/>
                    </a:moveTo>
                    <a:lnTo>
                      <a:pt x="0" y="237"/>
                    </a:lnTo>
                    <a:lnTo>
                      <a:pt x="52" y="245"/>
                    </a:lnTo>
                    <a:lnTo>
                      <a:pt x="106" y="255"/>
                    </a:lnTo>
                    <a:lnTo>
                      <a:pt x="174" y="265"/>
                    </a:lnTo>
                    <a:lnTo>
                      <a:pt x="245" y="276"/>
                    </a:lnTo>
                    <a:lnTo>
                      <a:pt x="318" y="286"/>
                    </a:lnTo>
                    <a:lnTo>
                      <a:pt x="384" y="293"/>
                    </a:lnTo>
                    <a:lnTo>
                      <a:pt x="436" y="298"/>
                    </a:lnTo>
                    <a:lnTo>
                      <a:pt x="837" y="293"/>
                    </a:lnTo>
                    <a:lnTo>
                      <a:pt x="1210" y="278"/>
                    </a:lnTo>
                    <a:lnTo>
                      <a:pt x="1267" y="272"/>
                    </a:lnTo>
                    <a:lnTo>
                      <a:pt x="1359" y="264"/>
                    </a:lnTo>
                    <a:lnTo>
                      <a:pt x="1476" y="254"/>
                    </a:lnTo>
                    <a:lnTo>
                      <a:pt x="1602" y="244"/>
                    </a:lnTo>
                    <a:lnTo>
                      <a:pt x="1725" y="234"/>
                    </a:lnTo>
                    <a:lnTo>
                      <a:pt x="1830" y="226"/>
                    </a:lnTo>
                    <a:lnTo>
                      <a:pt x="1930" y="217"/>
                    </a:lnTo>
                    <a:lnTo>
                      <a:pt x="1934" y="224"/>
                    </a:lnTo>
                    <a:lnTo>
                      <a:pt x="1939" y="231"/>
                    </a:lnTo>
                    <a:lnTo>
                      <a:pt x="1947" y="243"/>
                    </a:lnTo>
                    <a:lnTo>
                      <a:pt x="1951" y="248"/>
                    </a:lnTo>
                    <a:lnTo>
                      <a:pt x="1955" y="254"/>
                    </a:lnTo>
                    <a:lnTo>
                      <a:pt x="1961" y="261"/>
                    </a:lnTo>
                    <a:lnTo>
                      <a:pt x="1965" y="268"/>
                    </a:lnTo>
                    <a:lnTo>
                      <a:pt x="1970" y="275"/>
                    </a:lnTo>
                    <a:lnTo>
                      <a:pt x="1977" y="282"/>
                    </a:lnTo>
                    <a:lnTo>
                      <a:pt x="1983" y="289"/>
                    </a:lnTo>
                    <a:lnTo>
                      <a:pt x="1990" y="298"/>
                    </a:lnTo>
                    <a:lnTo>
                      <a:pt x="1997" y="305"/>
                    </a:lnTo>
                    <a:lnTo>
                      <a:pt x="2004" y="312"/>
                    </a:lnTo>
                    <a:lnTo>
                      <a:pt x="2011" y="319"/>
                    </a:lnTo>
                    <a:lnTo>
                      <a:pt x="2020" y="326"/>
                    </a:lnTo>
                    <a:lnTo>
                      <a:pt x="2028" y="333"/>
                    </a:lnTo>
                    <a:lnTo>
                      <a:pt x="2036" y="340"/>
                    </a:lnTo>
                    <a:lnTo>
                      <a:pt x="2045" y="345"/>
                    </a:lnTo>
                    <a:lnTo>
                      <a:pt x="2053" y="351"/>
                    </a:lnTo>
                    <a:lnTo>
                      <a:pt x="2070" y="361"/>
                    </a:lnTo>
                    <a:lnTo>
                      <a:pt x="2088" y="368"/>
                    </a:lnTo>
                    <a:lnTo>
                      <a:pt x="2107" y="372"/>
                    </a:lnTo>
                    <a:lnTo>
                      <a:pt x="2126" y="374"/>
                    </a:lnTo>
                    <a:lnTo>
                      <a:pt x="2163" y="367"/>
                    </a:lnTo>
                    <a:lnTo>
                      <a:pt x="2197" y="348"/>
                    </a:lnTo>
                    <a:lnTo>
                      <a:pt x="2213" y="336"/>
                    </a:lnTo>
                    <a:lnTo>
                      <a:pt x="2222" y="329"/>
                    </a:lnTo>
                    <a:lnTo>
                      <a:pt x="2229" y="320"/>
                    </a:lnTo>
                    <a:lnTo>
                      <a:pt x="2236" y="310"/>
                    </a:lnTo>
                    <a:lnTo>
                      <a:pt x="2243" y="300"/>
                    </a:lnTo>
                    <a:lnTo>
                      <a:pt x="2251" y="291"/>
                    </a:lnTo>
                    <a:lnTo>
                      <a:pt x="2258" y="279"/>
                    </a:lnTo>
                    <a:lnTo>
                      <a:pt x="2264" y="268"/>
                    </a:lnTo>
                    <a:lnTo>
                      <a:pt x="2271" y="255"/>
                    </a:lnTo>
                    <a:lnTo>
                      <a:pt x="2277" y="243"/>
                    </a:lnTo>
                    <a:lnTo>
                      <a:pt x="2281" y="236"/>
                    </a:lnTo>
                    <a:lnTo>
                      <a:pt x="2284" y="229"/>
                    </a:lnTo>
                    <a:lnTo>
                      <a:pt x="2286" y="220"/>
                    </a:lnTo>
                    <a:lnTo>
                      <a:pt x="2289" y="213"/>
                    </a:lnTo>
                    <a:lnTo>
                      <a:pt x="2292" y="206"/>
                    </a:lnTo>
                    <a:lnTo>
                      <a:pt x="2295" y="198"/>
                    </a:lnTo>
                    <a:lnTo>
                      <a:pt x="2298" y="189"/>
                    </a:lnTo>
                    <a:lnTo>
                      <a:pt x="2300" y="181"/>
                    </a:lnTo>
                    <a:lnTo>
                      <a:pt x="2302" y="172"/>
                    </a:lnTo>
                    <a:lnTo>
                      <a:pt x="2305" y="164"/>
                    </a:lnTo>
                    <a:lnTo>
                      <a:pt x="2308" y="155"/>
                    </a:lnTo>
                    <a:lnTo>
                      <a:pt x="2310" y="147"/>
                    </a:lnTo>
                    <a:lnTo>
                      <a:pt x="2313" y="137"/>
                    </a:lnTo>
                    <a:lnTo>
                      <a:pt x="2315" y="127"/>
                    </a:lnTo>
                    <a:lnTo>
                      <a:pt x="2317" y="119"/>
                    </a:lnTo>
                    <a:lnTo>
                      <a:pt x="2319" y="109"/>
                    </a:lnTo>
                    <a:lnTo>
                      <a:pt x="2322" y="99"/>
                    </a:lnTo>
                    <a:lnTo>
                      <a:pt x="2323" y="89"/>
                    </a:lnTo>
                    <a:lnTo>
                      <a:pt x="2327" y="68"/>
                    </a:lnTo>
                    <a:lnTo>
                      <a:pt x="2330" y="45"/>
                    </a:lnTo>
                    <a:lnTo>
                      <a:pt x="2334" y="23"/>
                    </a:lnTo>
                    <a:lnTo>
                      <a:pt x="2337" y="0"/>
                    </a:lnTo>
                    <a:lnTo>
                      <a:pt x="2362" y="434"/>
                    </a:lnTo>
                    <a:lnTo>
                      <a:pt x="2277" y="686"/>
                    </a:lnTo>
                    <a:lnTo>
                      <a:pt x="2105" y="747"/>
                    </a:lnTo>
                    <a:lnTo>
                      <a:pt x="1935" y="741"/>
                    </a:lnTo>
                    <a:lnTo>
                      <a:pt x="1850" y="343"/>
                    </a:lnTo>
                    <a:lnTo>
                      <a:pt x="1413" y="393"/>
                    </a:lnTo>
                    <a:lnTo>
                      <a:pt x="1025" y="428"/>
                    </a:lnTo>
                    <a:lnTo>
                      <a:pt x="604" y="419"/>
                    </a:lnTo>
                    <a:lnTo>
                      <a:pt x="276" y="409"/>
                    </a:lnTo>
                    <a:lnTo>
                      <a:pt x="0" y="374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178680" y="6184800"/>
                <a:ext cx="1780920" cy="168480"/>
              </a:xfrm>
              <a:custGeom>
                <a:avLst/>
                <a:gdLst/>
                <a:ahLst/>
                <a:rect l="l" t="t" r="r" b="b"/>
                <a:pathLst>
                  <a:path w="2266" h="213">
                    <a:moveTo>
                      <a:pt x="0" y="0"/>
                    </a:moveTo>
                    <a:lnTo>
                      <a:pt x="76" y="6"/>
                    </a:lnTo>
                    <a:lnTo>
                      <a:pt x="246" y="16"/>
                    </a:lnTo>
                    <a:lnTo>
                      <a:pt x="429" y="26"/>
                    </a:lnTo>
                    <a:lnTo>
                      <a:pt x="538" y="31"/>
                    </a:lnTo>
                    <a:lnTo>
                      <a:pt x="1010" y="26"/>
                    </a:lnTo>
                    <a:lnTo>
                      <a:pt x="1235" y="30"/>
                    </a:lnTo>
                    <a:lnTo>
                      <a:pt x="1378" y="34"/>
                    </a:lnTo>
                    <a:lnTo>
                      <a:pt x="1513" y="35"/>
                    </a:lnTo>
                    <a:lnTo>
                      <a:pt x="1846" y="21"/>
                    </a:lnTo>
                    <a:lnTo>
                      <a:pt x="1994" y="10"/>
                    </a:lnTo>
                    <a:lnTo>
                      <a:pt x="2055" y="6"/>
                    </a:lnTo>
                    <a:lnTo>
                      <a:pt x="2145" y="137"/>
                    </a:lnTo>
                    <a:lnTo>
                      <a:pt x="2266" y="213"/>
                    </a:lnTo>
                    <a:lnTo>
                      <a:pt x="2168" y="207"/>
                    </a:lnTo>
                    <a:lnTo>
                      <a:pt x="2020" y="197"/>
                    </a:lnTo>
                    <a:lnTo>
                      <a:pt x="1891" y="192"/>
                    </a:lnTo>
                    <a:lnTo>
                      <a:pt x="1668" y="186"/>
                    </a:lnTo>
                    <a:lnTo>
                      <a:pt x="1451" y="182"/>
                    </a:lnTo>
                    <a:lnTo>
                      <a:pt x="1342" y="182"/>
                    </a:lnTo>
                    <a:lnTo>
                      <a:pt x="1054" y="179"/>
                    </a:lnTo>
                    <a:lnTo>
                      <a:pt x="788" y="172"/>
                    </a:lnTo>
                    <a:lnTo>
                      <a:pt x="396" y="172"/>
                    </a:lnTo>
                    <a:lnTo>
                      <a:pt x="176" y="152"/>
                    </a:lnTo>
                    <a:lnTo>
                      <a:pt x="71" y="9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480000" y="4370400"/>
                <a:ext cx="642960" cy="422280"/>
              </a:xfrm>
              <a:custGeom>
                <a:avLst/>
                <a:gdLst/>
                <a:ahLst/>
                <a:rect l="l" t="t" r="r" b="b"/>
                <a:pathLst>
                  <a:path w="819" h="535">
                    <a:moveTo>
                      <a:pt x="45" y="15"/>
                    </a:moveTo>
                    <a:lnTo>
                      <a:pt x="43" y="29"/>
                    </a:lnTo>
                    <a:lnTo>
                      <a:pt x="41" y="63"/>
                    </a:lnTo>
                    <a:lnTo>
                      <a:pt x="36" y="146"/>
                    </a:lnTo>
                    <a:lnTo>
                      <a:pt x="36" y="162"/>
                    </a:lnTo>
                    <a:lnTo>
                      <a:pt x="34" y="177"/>
                    </a:lnTo>
                    <a:lnTo>
                      <a:pt x="31" y="193"/>
                    </a:lnTo>
                    <a:lnTo>
                      <a:pt x="29" y="200"/>
                    </a:lnTo>
                    <a:lnTo>
                      <a:pt x="27" y="205"/>
                    </a:lnTo>
                    <a:lnTo>
                      <a:pt x="17" y="256"/>
                    </a:lnTo>
                    <a:lnTo>
                      <a:pt x="15" y="271"/>
                    </a:lnTo>
                    <a:lnTo>
                      <a:pt x="11" y="293"/>
                    </a:lnTo>
                    <a:lnTo>
                      <a:pt x="8" y="304"/>
                    </a:lnTo>
                    <a:lnTo>
                      <a:pt x="7" y="315"/>
                    </a:lnTo>
                    <a:lnTo>
                      <a:pt x="3" y="339"/>
                    </a:lnTo>
                    <a:lnTo>
                      <a:pt x="0" y="362"/>
                    </a:lnTo>
                    <a:lnTo>
                      <a:pt x="1" y="380"/>
                    </a:lnTo>
                    <a:lnTo>
                      <a:pt x="7" y="394"/>
                    </a:lnTo>
                    <a:lnTo>
                      <a:pt x="12" y="398"/>
                    </a:lnTo>
                    <a:lnTo>
                      <a:pt x="19" y="401"/>
                    </a:lnTo>
                    <a:lnTo>
                      <a:pt x="48" y="395"/>
                    </a:lnTo>
                    <a:lnTo>
                      <a:pt x="71" y="381"/>
                    </a:lnTo>
                    <a:lnTo>
                      <a:pt x="83" y="373"/>
                    </a:lnTo>
                    <a:lnTo>
                      <a:pt x="94" y="364"/>
                    </a:lnTo>
                    <a:lnTo>
                      <a:pt x="107" y="360"/>
                    </a:lnTo>
                    <a:lnTo>
                      <a:pt x="119" y="357"/>
                    </a:lnTo>
                    <a:lnTo>
                      <a:pt x="168" y="366"/>
                    </a:lnTo>
                    <a:lnTo>
                      <a:pt x="195" y="380"/>
                    </a:lnTo>
                    <a:lnTo>
                      <a:pt x="201" y="391"/>
                    </a:lnTo>
                    <a:lnTo>
                      <a:pt x="203" y="400"/>
                    </a:lnTo>
                    <a:lnTo>
                      <a:pt x="206" y="409"/>
                    </a:lnTo>
                    <a:lnTo>
                      <a:pt x="209" y="422"/>
                    </a:lnTo>
                    <a:lnTo>
                      <a:pt x="212" y="429"/>
                    </a:lnTo>
                    <a:lnTo>
                      <a:pt x="213" y="438"/>
                    </a:lnTo>
                    <a:lnTo>
                      <a:pt x="215" y="445"/>
                    </a:lnTo>
                    <a:lnTo>
                      <a:pt x="218" y="454"/>
                    </a:lnTo>
                    <a:lnTo>
                      <a:pt x="220" y="463"/>
                    </a:lnTo>
                    <a:lnTo>
                      <a:pt x="223" y="474"/>
                    </a:lnTo>
                    <a:lnTo>
                      <a:pt x="226" y="484"/>
                    </a:lnTo>
                    <a:lnTo>
                      <a:pt x="230" y="492"/>
                    </a:lnTo>
                    <a:lnTo>
                      <a:pt x="234" y="501"/>
                    </a:lnTo>
                    <a:lnTo>
                      <a:pt x="239" y="508"/>
                    </a:lnTo>
                    <a:lnTo>
                      <a:pt x="244" y="515"/>
                    </a:lnTo>
                    <a:lnTo>
                      <a:pt x="250" y="521"/>
                    </a:lnTo>
                    <a:lnTo>
                      <a:pt x="262" y="529"/>
                    </a:lnTo>
                    <a:lnTo>
                      <a:pt x="275" y="533"/>
                    </a:lnTo>
                    <a:lnTo>
                      <a:pt x="288" y="535"/>
                    </a:lnTo>
                    <a:lnTo>
                      <a:pt x="312" y="523"/>
                    </a:lnTo>
                    <a:lnTo>
                      <a:pt x="320" y="509"/>
                    </a:lnTo>
                    <a:lnTo>
                      <a:pt x="326" y="491"/>
                    </a:lnTo>
                    <a:lnTo>
                      <a:pt x="330" y="445"/>
                    </a:lnTo>
                    <a:lnTo>
                      <a:pt x="331" y="404"/>
                    </a:lnTo>
                    <a:lnTo>
                      <a:pt x="333" y="397"/>
                    </a:lnTo>
                    <a:lnTo>
                      <a:pt x="336" y="391"/>
                    </a:lnTo>
                    <a:lnTo>
                      <a:pt x="341" y="385"/>
                    </a:lnTo>
                    <a:lnTo>
                      <a:pt x="359" y="380"/>
                    </a:lnTo>
                    <a:lnTo>
                      <a:pt x="380" y="369"/>
                    </a:lnTo>
                    <a:lnTo>
                      <a:pt x="396" y="360"/>
                    </a:lnTo>
                    <a:lnTo>
                      <a:pt x="404" y="355"/>
                    </a:lnTo>
                    <a:lnTo>
                      <a:pt x="407" y="359"/>
                    </a:lnTo>
                    <a:lnTo>
                      <a:pt x="418" y="369"/>
                    </a:lnTo>
                    <a:lnTo>
                      <a:pt x="425" y="376"/>
                    </a:lnTo>
                    <a:lnTo>
                      <a:pt x="432" y="383"/>
                    </a:lnTo>
                    <a:lnTo>
                      <a:pt x="441" y="390"/>
                    </a:lnTo>
                    <a:lnTo>
                      <a:pt x="451" y="398"/>
                    </a:lnTo>
                    <a:lnTo>
                      <a:pt x="459" y="407"/>
                    </a:lnTo>
                    <a:lnTo>
                      <a:pt x="468" y="414"/>
                    </a:lnTo>
                    <a:lnTo>
                      <a:pt x="476" y="422"/>
                    </a:lnTo>
                    <a:lnTo>
                      <a:pt x="484" y="428"/>
                    </a:lnTo>
                    <a:lnTo>
                      <a:pt x="497" y="439"/>
                    </a:lnTo>
                    <a:lnTo>
                      <a:pt x="504" y="443"/>
                    </a:lnTo>
                    <a:lnTo>
                      <a:pt x="550" y="440"/>
                    </a:lnTo>
                    <a:lnTo>
                      <a:pt x="579" y="432"/>
                    </a:lnTo>
                    <a:lnTo>
                      <a:pt x="588" y="426"/>
                    </a:lnTo>
                    <a:lnTo>
                      <a:pt x="593" y="418"/>
                    </a:lnTo>
                    <a:lnTo>
                      <a:pt x="593" y="407"/>
                    </a:lnTo>
                    <a:lnTo>
                      <a:pt x="590" y="391"/>
                    </a:lnTo>
                    <a:lnTo>
                      <a:pt x="587" y="374"/>
                    </a:lnTo>
                    <a:lnTo>
                      <a:pt x="584" y="356"/>
                    </a:lnTo>
                    <a:lnTo>
                      <a:pt x="580" y="321"/>
                    </a:lnTo>
                    <a:lnTo>
                      <a:pt x="580" y="309"/>
                    </a:lnTo>
                    <a:lnTo>
                      <a:pt x="580" y="305"/>
                    </a:lnTo>
                    <a:lnTo>
                      <a:pt x="583" y="302"/>
                    </a:lnTo>
                    <a:lnTo>
                      <a:pt x="593" y="297"/>
                    </a:lnTo>
                    <a:lnTo>
                      <a:pt x="614" y="295"/>
                    </a:lnTo>
                    <a:lnTo>
                      <a:pt x="685" y="300"/>
                    </a:lnTo>
                    <a:lnTo>
                      <a:pt x="732" y="300"/>
                    </a:lnTo>
                    <a:lnTo>
                      <a:pt x="768" y="294"/>
                    </a:lnTo>
                    <a:lnTo>
                      <a:pt x="789" y="280"/>
                    </a:lnTo>
                    <a:lnTo>
                      <a:pt x="792" y="270"/>
                    </a:lnTo>
                    <a:lnTo>
                      <a:pt x="788" y="259"/>
                    </a:lnTo>
                    <a:lnTo>
                      <a:pt x="785" y="253"/>
                    </a:lnTo>
                    <a:lnTo>
                      <a:pt x="779" y="249"/>
                    </a:lnTo>
                    <a:lnTo>
                      <a:pt x="770" y="240"/>
                    </a:lnTo>
                    <a:lnTo>
                      <a:pt x="758" y="233"/>
                    </a:lnTo>
                    <a:lnTo>
                      <a:pt x="749" y="228"/>
                    </a:lnTo>
                    <a:lnTo>
                      <a:pt x="739" y="218"/>
                    </a:lnTo>
                    <a:lnTo>
                      <a:pt x="743" y="214"/>
                    </a:lnTo>
                    <a:lnTo>
                      <a:pt x="753" y="207"/>
                    </a:lnTo>
                    <a:lnTo>
                      <a:pt x="767" y="198"/>
                    </a:lnTo>
                    <a:lnTo>
                      <a:pt x="781" y="193"/>
                    </a:lnTo>
                    <a:lnTo>
                      <a:pt x="802" y="178"/>
                    </a:lnTo>
                    <a:lnTo>
                      <a:pt x="816" y="164"/>
                    </a:lnTo>
                    <a:lnTo>
                      <a:pt x="819" y="156"/>
                    </a:lnTo>
                    <a:lnTo>
                      <a:pt x="819" y="146"/>
                    </a:lnTo>
                    <a:lnTo>
                      <a:pt x="816" y="140"/>
                    </a:lnTo>
                    <a:lnTo>
                      <a:pt x="813" y="136"/>
                    </a:lnTo>
                    <a:lnTo>
                      <a:pt x="803" y="128"/>
                    </a:lnTo>
                    <a:lnTo>
                      <a:pt x="789" y="121"/>
                    </a:lnTo>
                    <a:lnTo>
                      <a:pt x="774" y="112"/>
                    </a:lnTo>
                    <a:lnTo>
                      <a:pt x="758" y="104"/>
                    </a:lnTo>
                    <a:lnTo>
                      <a:pt x="746" y="95"/>
                    </a:lnTo>
                    <a:lnTo>
                      <a:pt x="736" y="84"/>
                    </a:lnTo>
                    <a:lnTo>
                      <a:pt x="730" y="70"/>
                    </a:lnTo>
                    <a:lnTo>
                      <a:pt x="727" y="19"/>
                    </a:lnTo>
                    <a:lnTo>
                      <a:pt x="727" y="0"/>
                    </a:lnTo>
                    <a:lnTo>
                      <a:pt x="45" y="15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737480" y="4995720"/>
                <a:ext cx="438120" cy="265320"/>
              </a:xfrm>
              <a:custGeom>
                <a:avLst/>
                <a:gdLst/>
                <a:ahLst/>
                <a:rect l="l" t="t" r="r" b="b"/>
                <a:pathLst>
                  <a:path w="556" h="335">
                    <a:moveTo>
                      <a:pt x="64" y="0"/>
                    </a:moveTo>
                    <a:lnTo>
                      <a:pt x="56" y="11"/>
                    </a:lnTo>
                    <a:lnTo>
                      <a:pt x="48" y="21"/>
                    </a:lnTo>
                    <a:lnTo>
                      <a:pt x="42" y="28"/>
                    </a:lnTo>
                    <a:lnTo>
                      <a:pt x="38" y="35"/>
                    </a:lnTo>
                    <a:lnTo>
                      <a:pt x="32" y="42"/>
                    </a:lnTo>
                    <a:lnTo>
                      <a:pt x="26" y="51"/>
                    </a:lnTo>
                    <a:lnTo>
                      <a:pt x="22" y="58"/>
                    </a:lnTo>
                    <a:lnTo>
                      <a:pt x="17" y="65"/>
                    </a:lnTo>
                    <a:lnTo>
                      <a:pt x="12" y="72"/>
                    </a:lnTo>
                    <a:lnTo>
                      <a:pt x="10" y="79"/>
                    </a:lnTo>
                    <a:lnTo>
                      <a:pt x="4" y="92"/>
                    </a:lnTo>
                    <a:lnTo>
                      <a:pt x="0" y="114"/>
                    </a:lnTo>
                    <a:lnTo>
                      <a:pt x="0" y="139"/>
                    </a:lnTo>
                    <a:lnTo>
                      <a:pt x="3" y="151"/>
                    </a:lnTo>
                    <a:lnTo>
                      <a:pt x="4" y="156"/>
                    </a:lnTo>
                    <a:lnTo>
                      <a:pt x="5" y="161"/>
                    </a:lnTo>
                    <a:lnTo>
                      <a:pt x="10" y="169"/>
                    </a:lnTo>
                    <a:lnTo>
                      <a:pt x="14" y="175"/>
                    </a:lnTo>
                    <a:lnTo>
                      <a:pt x="35" y="177"/>
                    </a:lnTo>
                    <a:lnTo>
                      <a:pt x="73" y="176"/>
                    </a:lnTo>
                    <a:lnTo>
                      <a:pt x="129" y="177"/>
                    </a:lnTo>
                    <a:lnTo>
                      <a:pt x="135" y="186"/>
                    </a:lnTo>
                    <a:lnTo>
                      <a:pt x="137" y="193"/>
                    </a:lnTo>
                    <a:lnTo>
                      <a:pt x="140" y="201"/>
                    </a:lnTo>
                    <a:lnTo>
                      <a:pt x="143" y="210"/>
                    </a:lnTo>
                    <a:lnTo>
                      <a:pt x="147" y="217"/>
                    </a:lnTo>
                    <a:lnTo>
                      <a:pt x="153" y="224"/>
                    </a:lnTo>
                    <a:lnTo>
                      <a:pt x="160" y="230"/>
                    </a:lnTo>
                    <a:lnTo>
                      <a:pt x="184" y="235"/>
                    </a:lnTo>
                    <a:lnTo>
                      <a:pt x="219" y="234"/>
                    </a:lnTo>
                    <a:lnTo>
                      <a:pt x="272" y="232"/>
                    </a:lnTo>
                    <a:lnTo>
                      <a:pt x="281" y="245"/>
                    </a:lnTo>
                    <a:lnTo>
                      <a:pt x="284" y="256"/>
                    </a:lnTo>
                    <a:lnTo>
                      <a:pt x="286" y="263"/>
                    </a:lnTo>
                    <a:lnTo>
                      <a:pt x="289" y="269"/>
                    </a:lnTo>
                    <a:lnTo>
                      <a:pt x="291" y="276"/>
                    </a:lnTo>
                    <a:lnTo>
                      <a:pt x="293" y="282"/>
                    </a:lnTo>
                    <a:lnTo>
                      <a:pt x="298" y="287"/>
                    </a:lnTo>
                    <a:lnTo>
                      <a:pt x="302" y="294"/>
                    </a:lnTo>
                    <a:lnTo>
                      <a:pt x="312" y="303"/>
                    </a:lnTo>
                    <a:lnTo>
                      <a:pt x="326" y="308"/>
                    </a:lnTo>
                    <a:lnTo>
                      <a:pt x="358" y="310"/>
                    </a:lnTo>
                    <a:lnTo>
                      <a:pt x="392" y="304"/>
                    </a:lnTo>
                    <a:lnTo>
                      <a:pt x="428" y="296"/>
                    </a:lnTo>
                    <a:lnTo>
                      <a:pt x="461" y="335"/>
                    </a:lnTo>
                    <a:lnTo>
                      <a:pt x="552" y="334"/>
                    </a:lnTo>
                    <a:lnTo>
                      <a:pt x="556" y="23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777080" y="4811760"/>
                <a:ext cx="588960" cy="352440"/>
              </a:xfrm>
              <a:custGeom>
                <a:avLst/>
                <a:gdLst/>
                <a:ahLst/>
                <a:rect l="l" t="t" r="r" b="b"/>
                <a:pathLst>
                  <a:path w="750" h="445">
                    <a:moveTo>
                      <a:pt x="628" y="0"/>
                    </a:moveTo>
                    <a:lnTo>
                      <a:pt x="454" y="0"/>
                    </a:lnTo>
                    <a:lnTo>
                      <a:pt x="260" y="60"/>
                    </a:lnTo>
                    <a:lnTo>
                      <a:pt x="145" y="126"/>
                    </a:lnTo>
                    <a:lnTo>
                      <a:pt x="21" y="231"/>
                    </a:lnTo>
                    <a:lnTo>
                      <a:pt x="0" y="322"/>
                    </a:lnTo>
                    <a:lnTo>
                      <a:pt x="97" y="308"/>
                    </a:lnTo>
                    <a:lnTo>
                      <a:pt x="218" y="222"/>
                    </a:lnTo>
                    <a:lnTo>
                      <a:pt x="183" y="311"/>
                    </a:lnTo>
                    <a:lnTo>
                      <a:pt x="191" y="346"/>
                    </a:lnTo>
                    <a:lnTo>
                      <a:pt x="289" y="343"/>
                    </a:lnTo>
                    <a:lnTo>
                      <a:pt x="319" y="384"/>
                    </a:lnTo>
                    <a:lnTo>
                      <a:pt x="399" y="384"/>
                    </a:lnTo>
                    <a:lnTo>
                      <a:pt x="421" y="442"/>
                    </a:lnTo>
                    <a:lnTo>
                      <a:pt x="563" y="445"/>
                    </a:lnTo>
                    <a:lnTo>
                      <a:pt x="714" y="355"/>
                    </a:lnTo>
                    <a:lnTo>
                      <a:pt x="750" y="146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81880" y="4273560"/>
                <a:ext cx="379440" cy="285840"/>
              </a:xfrm>
              <a:custGeom>
                <a:avLst/>
                <a:gdLst/>
                <a:ahLst/>
                <a:rect l="l" t="t" r="r" b="b"/>
                <a:pathLst>
                  <a:path w="483" h="361">
                    <a:moveTo>
                      <a:pt x="414" y="7"/>
                    </a:moveTo>
                    <a:lnTo>
                      <a:pt x="219" y="0"/>
                    </a:lnTo>
                    <a:lnTo>
                      <a:pt x="200" y="7"/>
                    </a:lnTo>
                    <a:lnTo>
                      <a:pt x="178" y="13"/>
                    </a:lnTo>
                    <a:lnTo>
                      <a:pt x="155" y="20"/>
                    </a:lnTo>
                    <a:lnTo>
                      <a:pt x="129" y="27"/>
                    </a:lnTo>
                    <a:lnTo>
                      <a:pt x="108" y="34"/>
                    </a:lnTo>
                    <a:lnTo>
                      <a:pt x="83" y="41"/>
                    </a:lnTo>
                    <a:lnTo>
                      <a:pt x="77" y="45"/>
                    </a:lnTo>
                    <a:lnTo>
                      <a:pt x="66" y="56"/>
                    </a:lnTo>
                    <a:lnTo>
                      <a:pt x="60" y="62"/>
                    </a:lnTo>
                    <a:lnTo>
                      <a:pt x="53" y="69"/>
                    </a:lnTo>
                    <a:lnTo>
                      <a:pt x="45" y="78"/>
                    </a:lnTo>
                    <a:lnTo>
                      <a:pt x="38" y="85"/>
                    </a:lnTo>
                    <a:lnTo>
                      <a:pt x="31" y="93"/>
                    </a:lnTo>
                    <a:lnTo>
                      <a:pt x="24" y="100"/>
                    </a:lnTo>
                    <a:lnTo>
                      <a:pt x="17" y="107"/>
                    </a:lnTo>
                    <a:lnTo>
                      <a:pt x="11" y="114"/>
                    </a:lnTo>
                    <a:lnTo>
                      <a:pt x="3" y="123"/>
                    </a:lnTo>
                    <a:lnTo>
                      <a:pt x="0" y="127"/>
                    </a:lnTo>
                    <a:lnTo>
                      <a:pt x="3" y="248"/>
                    </a:lnTo>
                    <a:lnTo>
                      <a:pt x="91" y="361"/>
                    </a:lnTo>
                    <a:lnTo>
                      <a:pt x="150" y="330"/>
                    </a:lnTo>
                    <a:lnTo>
                      <a:pt x="228" y="358"/>
                    </a:lnTo>
                    <a:lnTo>
                      <a:pt x="253" y="189"/>
                    </a:lnTo>
                    <a:lnTo>
                      <a:pt x="344" y="324"/>
                    </a:lnTo>
                    <a:lnTo>
                      <a:pt x="475" y="292"/>
                    </a:lnTo>
                    <a:lnTo>
                      <a:pt x="483" y="123"/>
                    </a:lnTo>
                    <a:lnTo>
                      <a:pt x="482" y="109"/>
                    </a:lnTo>
                    <a:lnTo>
                      <a:pt x="479" y="93"/>
                    </a:lnTo>
                    <a:lnTo>
                      <a:pt x="476" y="76"/>
                    </a:lnTo>
                    <a:lnTo>
                      <a:pt x="475" y="66"/>
                    </a:lnTo>
                    <a:lnTo>
                      <a:pt x="472" y="58"/>
                    </a:lnTo>
                    <a:lnTo>
                      <a:pt x="471" y="49"/>
                    </a:lnTo>
                    <a:lnTo>
                      <a:pt x="468" y="42"/>
                    </a:lnTo>
                    <a:lnTo>
                      <a:pt x="465" y="35"/>
                    </a:lnTo>
                    <a:lnTo>
                      <a:pt x="462" y="30"/>
                    </a:lnTo>
                    <a:lnTo>
                      <a:pt x="455" y="24"/>
                    </a:lnTo>
                    <a:lnTo>
                      <a:pt x="427" y="14"/>
                    </a:lnTo>
                    <a:lnTo>
                      <a:pt x="414" y="7"/>
                    </a:lnTo>
                    <a:lnTo>
                      <a:pt x="414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000920" y="3938760"/>
                <a:ext cx="739800" cy="517320"/>
              </a:xfrm>
              <a:custGeom>
                <a:avLst/>
                <a:gdLst/>
                <a:ahLst/>
                <a:rect l="l" t="t" r="r" b="b"/>
                <a:pathLst>
                  <a:path w="942" h="654">
                    <a:moveTo>
                      <a:pt x="7" y="540"/>
                    </a:moveTo>
                    <a:lnTo>
                      <a:pt x="0" y="424"/>
                    </a:lnTo>
                    <a:lnTo>
                      <a:pt x="52" y="389"/>
                    </a:lnTo>
                    <a:lnTo>
                      <a:pt x="125" y="20"/>
                    </a:lnTo>
                    <a:lnTo>
                      <a:pt x="161" y="2"/>
                    </a:lnTo>
                    <a:lnTo>
                      <a:pt x="194" y="90"/>
                    </a:lnTo>
                    <a:lnTo>
                      <a:pt x="325" y="0"/>
                    </a:lnTo>
                    <a:lnTo>
                      <a:pt x="367" y="78"/>
                    </a:lnTo>
                    <a:lnTo>
                      <a:pt x="374" y="71"/>
                    </a:lnTo>
                    <a:lnTo>
                      <a:pt x="381" y="64"/>
                    </a:lnTo>
                    <a:lnTo>
                      <a:pt x="391" y="55"/>
                    </a:lnTo>
                    <a:lnTo>
                      <a:pt x="402" y="47"/>
                    </a:lnTo>
                    <a:lnTo>
                      <a:pt x="413" y="38"/>
                    </a:lnTo>
                    <a:lnTo>
                      <a:pt x="426" y="33"/>
                    </a:lnTo>
                    <a:lnTo>
                      <a:pt x="437" y="30"/>
                    </a:lnTo>
                    <a:lnTo>
                      <a:pt x="475" y="27"/>
                    </a:lnTo>
                    <a:lnTo>
                      <a:pt x="485" y="31"/>
                    </a:lnTo>
                    <a:lnTo>
                      <a:pt x="488" y="48"/>
                    </a:lnTo>
                    <a:lnTo>
                      <a:pt x="484" y="96"/>
                    </a:lnTo>
                    <a:lnTo>
                      <a:pt x="482" y="121"/>
                    </a:lnTo>
                    <a:lnTo>
                      <a:pt x="495" y="116"/>
                    </a:lnTo>
                    <a:lnTo>
                      <a:pt x="508" y="110"/>
                    </a:lnTo>
                    <a:lnTo>
                      <a:pt x="523" y="105"/>
                    </a:lnTo>
                    <a:lnTo>
                      <a:pt x="540" y="99"/>
                    </a:lnTo>
                    <a:lnTo>
                      <a:pt x="558" y="93"/>
                    </a:lnTo>
                    <a:lnTo>
                      <a:pt x="590" y="88"/>
                    </a:lnTo>
                    <a:lnTo>
                      <a:pt x="614" y="95"/>
                    </a:lnTo>
                    <a:lnTo>
                      <a:pt x="628" y="112"/>
                    </a:lnTo>
                    <a:lnTo>
                      <a:pt x="637" y="127"/>
                    </a:lnTo>
                    <a:lnTo>
                      <a:pt x="638" y="134"/>
                    </a:lnTo>
                    <a:lnTo>
                      <a:pt x="655" y="130"/>
                    </a:lnTo>
                    <a:lnTo>
                      <a:pt x="692" y="121"/>
                    </a:lnTo>
                    <a:lnTo>
                      <a:pt x="732" y="116"/>
                    </a:lnTo>
                    <a:lnTo>
                      <a:pt x="762" y="116"/>
                    </a:lnTo>
                    <a:lnTo>
                      <a:pt x="781" y="126"/>
                    </a:lnTo>
                    <a:lnTo>
                      <a:pt x="794" y="134"/>
                    </a:lnTo>
                    <a:lnTo>
                      <a:pt x="805" y="141"/>
                    </a:lnTo>
                    <a:lnTo>
                      <a:pt x="815" y="148"/>
                    </a:lnTo>
                    <a:lnTo>
                      <a:pt x="824" y="155"/>
                    </a:lnTo>
                    <a:lnTo>
                      <a:pt x="832" y="161"/>
                    </a:lnTo>
                    <a:lnTo>
                      <a:pt x="846" y="158"/>
                    </a:lnTo>
                    <a:lnTo>
                      <a:pt x="878" y="150"/>
                    </a:lnTo>
                    <a:lnTo>
                      <a:pt x="912" y="143"/>
                    </a:lnTo>
                    <a:lnTo>
                      <a:pt x="935" y="141"/>
                    </a:lnTo>
                    <a:lnTo>
                      <a:pt x="939" y="145"/>
                    </a:lnTo>
                    <a:lnTo>
                      <a:pt x="942" y="151"/>
                    </a:lnTo>
                    <a:lnTo>
                      <a:pt x="940" y="169"/>
                    </a:lnTo>
                    <a:lnTo>
                      <a:pt x="939" y="179"/>
                    </a:lnTo>
                    <a:lnTo>
                      <a:pt x="937" y="186"/>
                    </a:lnTo>
                    <a:lnTo>
                      <a:pt x="935" y="195"/>
                    </a:lnTo>
                    <a:lnTo>
                      <a:pt x="905" y="400"/>
                    </a:lnTo>
                    <a:lnTo>
                      <a:pt x="921" y="407"/>
                    </a:lnTo>
                    <a:lnTo>
                      <a:pt x="932" y="416"/>
                    </a:lnTo>
                    <a:lnTo>
                      <a:pt x="940" y="431"/>
                    </a:lnTo>
                    <a:lnTo>
                      <a:pt x="942" y="450"/>
                    </a:lnTo>
                    <a:lnTo>
                      <a:pt x="940" y="464"/>
                    </a:lnTo>
                    <a:lnTo>
                      <a:pt x="937" y="472"/>
                    </a:lnTo>
                    <a:lnTo>
                      <a:pt x="936" y="478"/>
                    </a:lnTo>
                    <a:lnTo>
                      <a:pt x="933" y="485"/>
                    </a:lnTo>
                    <a:lnTo>
                      <a:pt x="930" y="492"/>
                    </a:lnTo>
                    <a:lnTo>
                      <a:pt x="926" y="500"/>
                    </a:lnTo>
                    <a:lnTo>
                      <a:pt x="922" y="511"/>
                    </a:lnTo>
                    <a:lnTo>
                      <a:pt x="919" y="519"/>
                    </a:lnTo>
                    <a:lnTo>
                      <a:pt x="918" y="526"/>
                    </a:lnTo>
                    <a:lnTo>
                      <a:pt x="915" y="531"/>
                    </a:lnTo>
                    <a:lnTo>
                      <a:pt x="912" y="538"/>
                    </a:lnTo>
                    <a:lnTo>
                      <a:pt x="909" y="545"/>
                    </a:lnTo>
                    <a:lnTo>
                      <a:pt x="908" y="551"/>
                    </a:lnTo>
                    <a:lnTo>
                      <a:pt x="904" y="562"/>
                    </a:lnTo>
                    <a:lnTo>
                      <a:pt x="899" y="572"/>
                    </a:lnTo>
                    <a:lnTo>
                      <a:pt x="495" y="568"/>
                    </a:lnTo>
                    <a:lnTo>
                      <a:pt x="481" y="654"/>
                    </a:lnTo>
                    <a:lnTo>
                      <a:pt x="325" y="565"/>
                    </a:lnTo>
                    <a:lnTo>
                      <a:pt x="7" y="540"/>
                    </a:lnTo>
                    <a:lnTo>
                      <a:pt x="7" y="54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078680" y="3886200"/>
                <a:ext cx="682560" cy="214200"/>
              </a:xfrm>
              <a:custGeom>
                <a:avLst/>
                <a:gdLst/>
                <a:ahLst/>
                <a:rect l="l" t="t" r="r" b="b"/>
                <a:pathLst>
                  <a:path w="868" h="271">
                    <a:moveTo>
                      <a:pt x="0" y="166"/>
                    </a:moveTo>
                    <a:lnTo>
                      <a:pt x="3" y="114"/>
                    </a:lnTo>
                    <a:lnTo>
                      <a:pt x="6" y="93"/>
                    </a:lnTo>
                    <a:lnTo>
                      <a:pt x="9" y="75"/>
                    </a:lnTo>
                    <a:lnTo>
                      <a:pt x="11" y="66"/>
                    </a:lnTo>
                    <a:lnTo>
                      <a:pt x="14" y="59"/>
                    </a:lnTo>
                    <a:lnTo>
                      <a:pt x="18" y="54"/>
                    </a:lnTo>
                    <a:lnTo>
                      <a:pt x="23" y="49"/>
                    </a:lnTo>
                    <a:lnTo>
                      <a:pt x="31" y="44"/>
                    </a:lnTo>
                    <a:lnTo>
                      <a:pt x="42" y="37"/>
                    </a:lnTo>
                    <a:lnTo>
                      <a:pt x="55" y="31"/>
                    </a:lnTo>
                    <a:lnTo>
                      <a:pt x="68" y="26"/>
                    </a:lnTo>
                    <a:lnTo>
                      <a:pt x="91" y="21"/>
                    </a:lnTo>
                    <a:lnTo>
                      <a:pt x="111" y="31"/>
                    </a:lnTo>
                    <a:lnTo>
                      <a:pt x="120" y="38"/>
                    </a:lnTo>
                    <a:lnTo>
                      <a:pt x="128" y="42"/>
                    </a:lnTo>
                    <a:lnTo>
                      <a:pt x="146" y="42"/>
                    </a:lnTo>
                    <a:lnTo>
                      <a:pt x="165" y="34"/>
                    </a:lnTo>
                    <a:lnTo>
                      <a:pt x="181" y="23"/>
                    </a:lnTo>
                    <a:lnTo>
                      <a:pt x="193" y="17"/>
                    </a:lnTo>
                    <a:lnTo>
                      <a:pt x="207" y="10"/>
                    </a:lnTo>
                    <a:lnTo>
                      <a:pt x="224" y="4"/>
                    </a:lnTo>
                    <a:lnTo>
                      <a:pt x="239" y="0"/>
                    </a:lnTo>
                    <a:lnTo>
                      <a:pt x="268" y="6"/>
                    </a:lnTo>
                    <a:lnTo>
                      <a:pt x="278" y="17"/>
                    </a:lnTo>
                    <a:lnTo>
                      <a:pt x="281" y="26"/>
                    </a:lnTo>
                    <a:lnTo>
                      <a:pt x="283" y="37"/>
                    </a:lnTo>
                    <a:lnTo>
                      <a:pt x="284" y="56"/>
                    </a:lnTo>
                    <a:lnTo>
                      <a:pt x="287" y="65"/>
                    </a:lnTo>
                    <a:lnTo>
                      <a:pt x="290" y="71"/>
                    </a:lnTo>
                    <a:lnTo>
                      <a:pt x="297" y="78"/>
                    </a:lnTo>
                    <a:lnTo>
                      <a:pt x="305" y="82"/>
                    </a:lnTo>
                    <a:lnTo>
                      <a:pt x="327" y="80"/>
                    </a:lnTo>
                    <a:lnTo>
                      <a:pt x="353" y="73"/>
                    </a:lnTo>
                    <a:lnTo>
                      <a:pt x="378" y="75"/>
                    </a:lnTo>
                    <a:lnTo>
                      <a:pt x="399" y="87"/>
                    </a:lnTo>
                    <a:lnTo>
                      <a:pt x="409" y="96"/>
                    </a:lnTo>
                    <a:lnTo>
                      <a:pt x="416" y="106"/>
                    </a:lnTo>
                    <a:lnTo>
                      <a:pt x="422" y="117"/>
                    </a:lnTo>
                    <a:lnTo>
                      <a:pt x="426" y="128"/>
                    </a:lnTo>
                    <a:lnTo>
                      <a:pt x="429" y="133"/>
                    </a:lnTo>
                    <a:lnTo>
                      <a:pt x="431" y="135"/>
                    </a:lnTo>
                    <a:lnTo>
                      <a:pt x="443" y="137"/>
                    </a:lnTo>
                    <a:lnTo>
                      <a:pt x="474" y="127"/>
                    </a:lnTo>
                    <a:lnTo>
                      <a:pt x="490" y="120"/>
                    </a:lnTo>
                    <a:lnTo>
                      <a:pt x="506" y="114"/>
                    </a:lnTo>
                    <a:lnTo>
                      <a:pt x="530" y="110"/>
                    </a:lnTo>
                    <a:lnTo>
                      <a:pt x="542" y="120"/>
                    </a:lnTo>
                    <a:lnTo>
                      <a:pt x="554" y="131"/>
                    </a:lnTo>
                    <a:lnTo>
                      <a:pt x="563" y="141"/>
                    </a:lnTo>
                    <a:lnTo>
                      <a:pt x="573" y="147"/>
                    </a:lnTo>
                    <a:lnTo>
                      <a:pt x="607" y="137"/>
                    </a:lnTo>
                    <a:lnTo>
                      <a:pt x="636" y="130"/>
                    </a:lnTo>
                    <a:lnTo>
                      <a:pt x="674" y="127"/>
                    </a:lnTo>
                    <a:lnTo>
                      <a:pt x="708" y="134"/>
                    </a:lnTo>
                    <a:lnTo>
                      <a:pt x="729" y="151"/>
                    </a:lnTo>
                    <a:lnTo>
                      <a:pt x="738" y="159"/>
                    </a:lnTo>
                    <a:lnTo>
                      <a:pt x="745" y="168"/>
                    </a:lnTo>
                    <a:lnTo>
                      <a:pt x="753" y="175"/>
                    </a:lnTo>
                    <a:lnTo>
                      <a:pt x="763" y="180"/>
                    </a:lnTo>
                    <a:lnTo>
                      <a:pt x="791" y="185"/>
                    </a:lnTo>
                    <a:lnTo>
                      <a:pt x="825" y="185"/>
                    </a:lnTo>
                    <a:lnTo>
                      <a:pt x="868" y="180"/>
                    </a:lnTo>
                    <a:lnTo>
                      <a:pt x="846" y="232"/>
                    </a:lnTo>
                    <a:lnTo>
                      <a:pt x="839" y="238"/>
                    </a:lnTo>
                    <a:lnTo>
                      <a:pt x="829" y="244"/>
                    </a:lnTo>
                    <a:lnTo>
                      <a:pt x="816" y="249"/>
                    </a:lnTo>
                    <a:lnTo>
                      <a:pt x="804" y="256"/>
                    </a:lnTo>
                    <a:lnTo>
                      <a:pt x="788" y="262"/>
                    </a:lnTo>
                    <a:lnTo>
                      <a:pt x="773" y="268"/>
                    </a:lnTo>
                    <a:lnTo>
                      <a:pt x="757" y="271"/>
                    </a:lnTo>
                    <a:lnTo>
                      <a:pt x="735" y="269"/>
                    </a:lnTo>
                    <a:lnTo>
                      <a:pt x="722" y="261"/>
                    </a:lnTo>
                    <a:lnTo>
                      <a:pt x="715" y="255"/>
                    </a:lnTo>
                    <a:lnTo>
                      <a:pt x="705" y="248"/>
                    </a:lnTo>
                    <a:lnTo>
                      <a:pt x="691" y="240"/>
                    </a:lnTo>
                    <a:lnTo>
                      <a:pt x="672" y="232"/>
                    </a:lnTo>
                    <a:lnTo>
                      <a:pt x="635" y="227"/>
                    </a:lnTo>
                    <a:lnTo>
                      <a:pt x="610" y="235"/>
                    </a:lnTo>
                    <a:lnTo>
                      <a:pt x="597" y="241"/>
                    </a:lnTo>
                    <a:lnTo>
                      <a:pt x="583" y="247"/>
                    </a:lnTo>
                    <a:lnTo>
                      <a:pt x="565" y="251"/>
                    </a:lnTo>
                    <a:lnTo>
                      <a:pt x="541" y="252"/>
                    </a:lnTo>
                    <a:lnTo>
                      <a:pt x="502" y="247"/>
                    </a:lnTo>
                    <a:lnTo>
                      <a:pt x="483" y="232"/>
                    </a:lnTo>
                    <a:lnTo>
                      <a:pt x="475" y="217"/>
                    </a:lnTo>
                    <a:lnTo>
                      <a:pt x="472" y="211"/>
                    </a:lnTo>
                    <a:lnTo>
                      <a:pt x="467" y="207"/>
                    </a:lnTo>
                    <a:lnTo>
                      <a:pt x="424" y="213"/>
                    </a:lnTo>
                    <a:lnTo>
                      <a:pt x="395" y="217"/>
                    </a:lnTo>
                    <a:lnTo>
                      <a:pt x="367" y="218"/>
                    </a:lnTo>
                    <a:lnTo>
                      <a:pt x="349" y="207"/>
                    </a:lnTo>
                    <a:lnTo>
                      <a:pt x="340" y="190"/>
                    </a:lnTo>
                    <a:lnTo>
                      <a:pt x="336" y="182"/>
                    </a:lnTo>
                    <a:lnTo>
                      <a:pt x="330" y="175"/>
                    </a:lnTo>
                    <a:lnTo>
                      <a:pt x="320" y="169"/>
                    </a:lnTo>
                    <a:lnTo>
                      <a:pt x="305" y="166"/>
                    </a:lnTo>
                    <a:lnTo>
                      <a:pt x="277" y="171"/>
                    </a:lnTo>
                    <a:lnTo>
                      <a:pt x="260" y="178"/>
                    </a:lnTo>
                    <a:lnTo>
                      <a:pt x="246" y="186"/>
                    </a:lnTo>
                    <a:lnTo>
                      <a:pt x="228" y="192"/>
                    </a:lnTo>
                    <a:lnTo>
                      <a:pt x="219" y="190"/>
                    </a:lnTo>
                    <a:lnTo>
                      <a:pt x="212" y="183"/>
                    </a:lnTo>
                    <a:lnTo>
                      <a:pt x="207" y="173"/>
                    </a:lnTo>
                    <a:lnTo>
                      <a:pt x="200" y="165"/>
                    </a:lnTo>
                    <a:lnTo>
                      <a:pt x="193" y="159"/>
                    </a:lnTo>
                    <a:lnTo>
                      <a:pt x="181" y="158"/>
                    </a:lnTo>
                    <a:lnTo>
                      <a:pt x="143" y="180"/>
                    </a:lnTo>
                    <a:lnTo>
                      <a:pt x="129" y="192"/>
                    </a:lnTo>
                    <a:lnTo>
                      <a:pt x="117" y="199"/>
                    </a:lnTo>
                    <a:lnTo>
                      <a:pt x="91" y="206"/>
                    </a:lnTo>
                    <a:lnTo>
                      <a:pt x="68" y="204"/>
                    </a:lnTo>
                    <a:lnTo>
                      <a:pt x="47" y="197"/>
                    </a:lnTo>
                    <a:lnTo>
                      <a:pt x="28" y="187"/>
                    </a:lnTo>
                    <a:lnTo>
                      <a:pt x="13" y="178"/>
                    </a:lnTo>
                    <a:lnTo>
                      <a:pt x="0" y="166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454880" y="4145040"/>
                <a:ext cx="196920" cy="101520"/>
              </a:xfrm>
              <a:custGeom>
                <a:avLst/>
                <a:gdLst/>
                <a:ahLst/>
                <a:rect l="l" t="t" r="r" b="b"/>
                <a:pathLst>
                  <a:path w="250" h="129">
                    <a:moveTo>
                      <a:pt x="0" y="51"/>
                    </a:moveTo>
                    <a:lnTo>
                      <a:pt x="98" y="0"/>
                    </a:lnTo>
                    <a:lnTo>
                      <a:pt x="111" y="3"/>
                    </a:lnTo>
                    <a:lnTo>
                      <a:pt x="136" y="10"/>
                    </a:lnTo>
                    <a:lnTo>
                      <a:pt x="160" y="17"/>
                    </a:lnTo>
                    <a:lnTo>
                      <a:pt x="174" y="21"/>
                    </a:lnTo>
                    <a:lnTo>
                      <a:pt x="229" y="55"/>
                    </a:lnTo>
                    <a:lnTo>
                      <a:pt x="250" y="94"/>
                    </a:lnTo>
                    <a:lnTo>
                      <a:pt x="217" y="121"/>
                    </a:lnTo>
                    <a:lnTo>
                      <a:pt x="139" y="129"/>
                    </a:lnTo>
                    <a:lnTo>
                      <a:pt x="36" y="98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86600" y="4138560"/>
                <a:ext cx="212760" cy="96840"/>
              </a:xfrm>
              <a:custGeom>
                <a:avLst/>
                <a:gdLst/>
                <a:ahLst/>
                <a:rect l="l" t="t" r="r" b="b"/>
                <a:pathLst>
                  <a:path w="271" h="122">
                    <a:moveTo>
                      <a:pt x="16" y="39"/>
                    </a:moveTo>
                    <a:lnTo>
                      <a:pt x="112" y="0"/>
                    </a:lnTo>
                    <a:lnTo>
                      <a:pt x="216" y="12"/>
                    </a:lnTo>
                    <a:lnTo>
                      <a:pt x="271" y="50"/>
                    </a:lnTo>
                    <a:lnTo>
                      <a:pt x="215" y="111"/>
                    </a:lnTo>
                    <a:lnTo>
                      <a:pt x="102" y="122"/>
                    </a:lnTo>
                    <a:lnTo>
                      <a:pt x="8" y="90"/>
                    </a:lnTo>
                    <a:lnTo>
                      <a:pt x="0" y="55"/>
                    </a:lnTo>
                    <a:lnTo>
                      <a:pt x="16" y="39"/>
                    </a:lnTo>
                    <a:lnTo>
                      <a:pt x="16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562800" y="4268880"/>
                <a:ext cx="422280" cy="317520"/>
              </a:xfrm>
              <a:custGeom>
                <a:avLst/>
                <a:gdLst/>
                <a:ahLst/>
                <a:rect l="l" t="t" r="r" b="b"/>
                <a:pathLst>
                  <a:path w="536" h="401">
                    <a:moveTo>
                      <a:pt x="486" y="26"/>
                    </a:moveTo>
                    <a:lnTo>
                      <a:pt x="491" y="35"/>
                    </a:lnTo>
                    <a:lnTo>
                      <a:pt x="498" y="43"/>
                    </a:lnTo>
                    <a:lnTo>
                      <a:pt x="505" y="54"/>
                    </a:lnTo>
                    <a:lnTo>
                      <a:pt x="514" y="67"/>
                    </a:lnTo>
                    <a:lnTo>
                      <a:pt x="517" y="74"/>
                    </a:lnTo>
                    <a:lnTo>
                      <a:pt x="521" y="80"/>
                    </a:lnTo>
                    <a:lnTo>
                      <a:pt x="527" y="92"/>
                    </a:lnTo>
                    <a:lnTo>
                      <a:pt x="531" y="104"/>
                    </a:lnTo>
                    <a:lnTo>
                      <a:pt x="534" y="126"/>
                    </a:lnTo>
                    <a:lnTo>
                      <a:pt x="535" y="152"/>
                    </a:lnTo>
                    <a:lnTo>
                      <a:pt x="536" y="201"/>
                    </a:lnTo>
                    <a:lnTo>
                      <a:pt x="535" y="243"/>
                    </a:lnTo>
                    <a:lnTo>
                      <a:pt x="532" y="266"/>
                    </a:lnTo>
                    <a:lnTo>
                      <a:pt x="531" y="271"/>
                    </a:lnTo>
                    <a:lnTo>
                      <a:pt x="529" y="277"/>
                    </a:lnTo>
                    <a:lnTo>
                      <a:pt x="527" y="284"/>
                    </a:lnTo>
                    <a:lnTo>
                      <a:pt x="525" y="290"/>
                    </a:lnTo>
                    <a:lnTo>
                      <a:pt x="518" y="301"/>
                    </a:lnTo>
                    <a:lnTo>
                      <a:pt x="510" y="312"/>
                    </a:lnTo>
                    <a:lnTo>
                      <a:pt x="500" y="321"/>
                    </a:lnTo>
                    <a:lnTo>
                      <a:pt x="490" y="329"/>
                    </a:lnTo>
                    <a:lnTo>
                      <a:pt x="479" y="335"/>
                    </a:lnTo>
                    <a:lnTo>
                      <a:pt x="469" y="339"/>
                    </a:lnTo>
                    <a:lnTo>
                      <a:pt x="451" y="343"/>
                    </a:lnTo>
                    <a:lnTo>
                      <a:pt x="427" y="339"/>
                    </a:lnTo>
                    <a:lnTo>
                      <a:pt x="417" y="333"/>
                    </a:lnTo>
                    <a:lnTo>
                      <a:pt x="410" y="342"/>
                    </a:lnTo>
                    <a:lnTo>
                      <a:pt x="403" y="349"/>
                    </a:lnTo>
                    <a:lnTo>
                      <a:pt x="394" y="357"/>
                    </a:lnTo>
                    <a:lnTo>
                      <a:pt x="380" y="361"/>
                    </a:lnTo>
                    <a:lnTo>
                      <a:pt x="361" y="357"/>
                    </a:lnTo>
                    <a:lnTo>
                      <a:pt x="341" y="346"/>
                    </a:lnTo>
                    <a:lnTo>
                      <a:pt x="327" y="330"/>
                    </a:lnTo>
                    <a:lnTo>
                      <a:pt x="321" y="322"/>
                    </a:lnTo>
                    <a:lnTo>
                      <a:pt x="316" y="309"/>
                    </a:lnTo>
                    <a:lnTo>
                      <a:pt x="313" y="302"/>
                    </a:lnTo>
                    <a:lnTo>
                      <a:pt x="309" y="295"/>
                    </a:lnTo>
                    <a:lnTo>
                      <a:pt x="303" y="281"/>
                    </a:lnTo>
                    <a:lnTo>
                      <a:pt x="300" y="274"/>
                    </a:lnTo>
                    <a:lnTo>
                      <a:pt x="298" y="267"/>
                    </a:lnTo>
                    <a:lnTo>
                      <a:pt x="295" y="260"/>
                    </a:lnTo>
                    <a:lnTo>
                      <a:pt x="292" y="253"/>
                    </a:lnTo>
                    <a:lnTo>
                      <a:pt x="288" y="242"/>
                    </a:lnTo>
                    <a:lnTo>
                      <a:pt x="286" y="233"/>
                    </a:lnTo>
                    <a:lnTo>
                      <a:pt x="286" y="239"/>
                    </a:lnTo>
                    <a:lnTo>
                      <a:pt x="289" y="271"/>
                    </a:lnTo>
                    <a:lnTo>
                      <a:pt x="293" y="309"/>
                    </a:lnTo>
                    <a:lnTo>
                      <a:pt x="295" y="333"/>
                    </a:lnTo>
                    <a:lnTo>
                      <a:pt x="295" y="347"/>
                    </a:lnTo>
                    <a:lnTo>
                      <a:pt x="291" y="361"/>
                    </a:lnTo>
                    <a:lnTo>
                      <a:pt x="286" y="368"/>
                    </a:lnTo>
                    <a:lnTo>
                      <a:pt x="281" y="374"/>
                    </a:lnTo>
                    <a:lnTo>
                      <a:pt x="272" y="380"/>
                    </a:lnTo>
                    <a:lnTo>
                      <a:pt x="261" y="384"/>
                    </a:lnTo>
                    <a:lnTo>
                      <a:pt x="237" y="387"/>
                    </a:lnTo>
                    <a:lnTo>
                      <a:pt x="220" y="383"/>
                    </a:lnTo>
                    <a:lnTo>
                      <a:pt x="206" y="375"/>
                    </a:lnTo>
                    <a:lnTo>
                      <a:pt x="175" y="343"/>
                    </a:lnTo>
                    <a:lnTo>
                      <a:pt x="177" y="359"/>
                    </a:lnTo>
                    <a:lnTo>
                      <a:pt x="175" y="373"/>
                    </a:lnTo>
                    <a:lnTo>
                      <a:pt x="170" y="384"/>
                    </a:lnTo>
                    <a:lnTo>
                      <a:pt x="156" y="392"/>
                    </a:lnTo>
                    <a:lnTo>
                      <a:pt x="137" y="397"/>
                    </a:lnTo>
                    <a:lnTo>
                      <a:pt x="114" y="401"/>
                    </a:lnTo>
                    <a:lnTo>
                      <a:pt x="104" y="395"/>
                    </a:lnTo>
                    <a:lnTo>
                      <a:pt x="94" y="390"/>
                    </a:lnTo>
                    <a:lnTo>
                      <a:pt x="81" y="381"/>
                    </a:lnTo>
                    <a:lnTo>
                      <a:pt x="69" y="371"/>
                    </a:lnTo>
                    <a:lnTo>
                      <a:pt x="56" y="360"/>
                    </a:lnTo>
                    <a:lnTo>
                      <a:pt x="45" y="349"/>
                    </a:lnTo>
                    <a:lnTo>
                      <a:pt x="36" y="337"/>
                    </a:lnTo>
                    <a:lnTo>
                      <a:pt x="33" y="330"/>
                    </a:lnTo>
                    <a:lnTo>
                      <a:pt x="29" y="323"/>
                    </a:lnTo>
                    <a:lnTo>
                      <a:pt x="26" y="315"/>
                    </a:lnTo>
                    <a:lnTo>
                      <a:pt x="24" y="308"/>
                    </a:lnTo>
                    <a:lnTo>
                      <a:pt x="21" y="299"/>
                    </a:lnTo>
                    <a:lnTo>
                      <a:pt x="18" y="290"/>
                    </a:lnTo>
                    <a:lnTo>
                      <a:pt x="14" y="281"/>
                    </a:lnTo>
                    <a:lnTo>
                      <a:pt x="11" y="271"/>
                    </a:lnTo>
                    <a:lnTo>
                      <a:pt x="10" y="261"/>
                    </a:lnTo>
                    <a:lnTo>
                      <a:pt x="7" y="253"/>
                    </a:lnTo>
                    <a:lnTo>
                      <a:pt x="5" y="243"/>
                    </a:lnTo>
                    <a:lnTo>
                      <a:pt x="3" y="235"/>
                    </a:lnTo>
                    <a:lnTo>
                      <a:pt x="0" y="204"/>
                    </a:lnTo>
                    <a:lnTo>
                      <a:pt x="1" y="171"/>
                    </a:lnTo>
                    <a:lnTo>
                      <a:pt x="3" y="153"/>
                    </a:lnTo>
                    <a:lnTo>
                      <a:pt x="7" y="132"/>
                    </a:lnTo>
                    <a:lnTo>
                      <a:pt x="10" y="122"/>
                    </a:lnTo>
                    <a:lnTo>
                      <a:pt x="12" y="112"/>
                    </a:lnTo>
                    <a:lnTo>
                      <a:pt x="17" y="104"/>
                    </a:lnTo>
                    <a:lnTo>
                      <a:pt x="21" y="94"/>
                    </a:lnTo>
                    <a:lnTo>
                      <a:pt x="26" y="85"/>
                    </a:lnTo>
                    <a:lnTo>
                      <a:pt x="32" y="77"/>
                    </a:lnTo>
                    <a:lnTo>
                      <a:pt x="41" y="69"/>
                    </a:lnTo>
                    <a:lnTo>
                      <a:pt x="48" y="61"/>
                    </a:lnTo>
                    <a:lnTo>
                      <a:pt x="56" y="56"/>
                    </a:lnTo>
                    <a:lnTo>
                      <a:pt x="66" y="49"/>
                    </a:lnTo>
                    <a:lnTo>
                      <a:pt x="76" y="43"/>
                    </a:lnTo>
                    <a:lnTo>
                      <a:pt x="85" y="38"/>
                    </a:lnTo>
                    <a:lnTo>
                      <a:pt x="107" y="28"/>
                    </a:lnTo>
                    <a:lnTo>
                      <a:pt x="129" y="19"/>
                    </a:lnTo>
                    <a:lnTo>
                      <a:pt x="153" y="12"/>
                    </a:lnTo>
                    <a:lnTo>
                      <a:pt x="175" y="7"/>
                    </a:lnTo>
                    <a:lnTo>
                      <a:pt x="222" y="1"/>
                    </a:lnTo>
                    <a:lnTo>
                      <a:pt x="361" y="0"/>
                    </a:lnTo>
                    <a:lnTo>
                      <a:pt x="423" y="4"/>
                    </a:lnTo>
                    <a:lnTo>
                      <a:pt x="451" y="9"/>
                    </a:lnTo>
                    <a:lnTo>
                      <a:pt x="462" y="16"/>
                    </a:lnTo>
                    <a:lnTo>
                      <a:pt x="456" y="21"/>
                    </a:lnTo>
                    <a:lnTo>
                      <a:pt x="446" y="22"/>
                    </a:lnTo>
                    <a:lnTo>
                      <a:pt x="409" y="18"/>
                    </a:lnTo>
                    <a:lnTo>
                      <a:pt x="313" y="19"/>
                    </a:lnTo>
                    <a:lnTo>
                      <a:pt x="225" y="28"/>
                    </a:lnTo>
                    <a:lnTo>
                      <a:pt x="199" y="33"/>
                    </a:lnTo>
                    <a:lnTo>
                      <a:pt x="180" y="40"/>
                    </a:lnTo>
                    <a:lnTo>
                      <a:pt x="158" y="47"/>
                    </a:lnTo>
                    <a:lnTo>
                      <a:pt x="136" y="57"/>
                    </a:lnTo>
                    <a:lnTo>
                      <a:pt x="116" y="67"/>
                    </a:lnTo>
                    <a:lnTo>
                      <a:pt x="97" y="78"/>
                    </a:lnTo>
                    <a:lnTo>
                      <a:pt x="81" y="90"/>
                    </a:lnTo>
                    <a:lnTo>
                      <a:pt x="70" y="104"/>
                    </a:lnTo>
                    <a:lnTo>
                      <a:pt x="64" y="112"/>
                    </a:lnTo>
                    <a:lnTo>
                      <a:pt x="59" y="122"/>
                    </a:lnTo>
                    <a:lnTo>
                      <a:pt x="55" y="132"/>
                    </a:lnTo>
                    <a:lnTo>
                      <a:pt x="50" y="143"/>
                    </a:lnTo>
                    <a:lnTo>
                      <a:pt x="46" y="154"/>
                    </a:lnTo>
                    <a:lnTo>
                      <a:pt x="43" y="166"/>
                    </a:lnTo>
                    <a:lnTo>
                      <a:pt x="41" y="191"/>
                    </a:lnTo>
                    <a:lnTo>
                      <a:pt x="41" y="215"/>
                    </a:lnTo>
                    <a:lnTo>
                      <a:pt x="42" y="228"/>
                    </a:lnTo>
                    <a:lnTo>
                      <a:pt x="43" y="235"/>
                    </a:lnTo>
                    <a:lnTo>
                      <a:pt x="45" y="240"/>
                    </a:lnTo>
                    <a:lnTo>
                      <a:pt x="48" y="253"/>
                    </a:lnTo>
                    <a:lnTo>
                      <a:pt x="50" y="259"/>
                    </a:lnTo>
                    <a:lnTo>
                      <a:pt x="53" y="264"/>
                    </a:lnTo>
                    <a:lnTo>
                      <a:pt x="59" y="276"/>
                    </a:lnTo>
                    <a:lnTo>
                      <a:pt x="64" y="285"/>
                    </a:lnTo>
                    <a:lnTo>
                      <a:pt x="70" y="295"/>
                    </a:lnTo>
                    <a:lnTo>
                      <a:pt x="76" y="304"/>
                    </a:lnTo>
                    <a:lnTo>
                      <a:pt x="81" y="311"/>
                    </a:lnTo>
                    <a:lnTo>
                      <a:pt x="85" y="318"/>
                    </a:lnTo>
                    <a:lnTo>
                      <a:pt x="91" y="323"/>
                    </a:lnTo>
                    <a:lnTo>
                      <a:pt x="95" y="329"/>
                    </a:lnTo>
                    <a:lnTo>
                      <a:pt x="104" y="337"/>
                    </a:lnTo>
                    <a:lnTo>
                      <a:pt x="112" y="342"/>
                    </a:lnTo>
                    <a:lnTo>
                      <a:pt x="125" y="343"/>
                    </a:lnTo>
                    <a:lnTo>
                      <a:pt x="142" y="339"/>
                    </a:lnTo>
                    <a:lnTo>
                      <a:pt x="147" y="335"/>
                    </a:lnTo>
                    <a:lnTo>
                      <a:pt x="149" y="323"/>
                    </a:lnTo>
                    <a:lnTo>
                      <a:pt x="147" y="315"/>
                    </a:lnTo>
                    <a:lnTo>
                      <a:pt x="146" y="302"/>
                    </a:lnTo>
                    <a:lnTo>
                      <a:pt x="143" y="290"/>
                    </a:lnTo>
                    <a:lnTo>
                      <a:pt x="140" y="283"/>
                    </a:lnTo>
                    <a:lnTo>
                      <a:pt x="139" y="274"/>
                    </a:lnTo>
                    <a:lnTo>
                      <a:pt x="137" y="267"/>
                    </a:lnTo>
                    <a:lnTo>
                      <a:pt x="136" y="260"/>
                    </a:lnTo>
                    <a:lnTo>
                      <a:pt x="135" y="253"/>
                    </a:lnTo>
                    <a:lnTo>
                      <a:pt x="133" y="246"/>
                    </a:lnTo>
                    <a:lnTo>
                      <a:pt x="130" y="222"/>
                    </a:lnTo>
                    <a:lnTo>
                      <a:pt x="129" y="183"/>
                    </a:lnTo>
                    <a:lnTo>
                      <a:pt x="130" y="176"/>
                    </a:lnTo>
                    <a:lnTo>
                      <a:pt x="133" y="170"/>
                    </a:lnTo>
                    <a:lnTo>
                      <a:pt x="147" y="169"/>
                    </a:lnTo>
                    <a:lnTo>
                      <a:pt x="156" y="173"/>
                    </a:lnTo>
                    <a:lnTo>
                      <a:pt x="161" y="181"/>
                    </a:lnTo>
                    <a:lnTo>
                      <a:pt x="166" y="192"/>
                    </a:lnTo>
                    <a:lnTo>
                      <a:pt x="170" y="207"/>
                    </a:lnTo>
                    <a:lnTo>
                      <a:pt x="175" y="240"/>
                    </a:lnTo>
                    <a:lnTo>
                      <a:pt x="178" y="259"/>
                    </a:lnTo>
                    <a:lnTo>
                      <a:pt x="181" y="268"/>
                    </a:lnTo>
                    <a:lnTo>
                      <a:pt x="182" y="277"/>
                    </a:lnTo>
                    <a:lnTo>
                      <a:pt x="185" y="285"/>
                    </a:lnTo>
                    <a:lnTo>
                      <a:pt x="188" y="294"/>
                    </a:lnTo>
                    <a:lnTo>
                      <a:pt x="191" y="301"/>
                    </a:lnTo>
                    <a:lnTo>
                      <a:pt x="195" y="308"/>
                    </a:lnTo>
                    <a:lnTo>
                      <a:pt x="202" y="318"/>
                    </a:lnTo>
                    <a:lnTo>
                      <a:pt x="209" y="326"/>
                    </a:lnTo>
                    <a:lnTo>
                      <a:pt x="216" y="332"/>
                    </a:lnTo>
                    <a:lnTo>
                      <a:pt x="225" y="335"/>
                    </a:lnTo>
                    <a:lnTo>
                      <a:pt x="241" y="335"/>
                    </a:lnTo>
                    <a:lnTo>
                      <a:pt x="253" y="328"/>
                    </a:lnTo>
                    <a:lnTo>
                      <a:pt x="255" y="322"/>
                    </a:lnTo>
                    <a:lnTo>
                      <a:pt x="255" y="315"/>
                    </a:lnTo>
                    <a:lnTo>
                      <a:pt x="255" y="298"/>
                    </a:lnTo>
                    <a:lnTo>
                      <a:pt x="253" y="280"/>
                    </a:lnTo>
                    <a:lnTo>
                      <a:pt x="253" y="207"/>
                    </a:lnTo>
                    <a:lnTo>
                      <a:pt x="254" y="187"/>
                    </a:lnTo>
                    <a:lnTo>
                      <a:pt x="255" y="177"/>
                    </a:lnTo>
                    <a:lnTo>
                      <a:pt x="258" y="166"/>
                    </a:lnTo>
                    <a:lnTo>
                      <a:pt x="261" y="156"/>
                    </a:lnTo>
                    <a:lnTo>
                      <a:pt x="264" y="149"/>
                    </a:lnTo>
                    <a:lnTo>
                      <a:pt x="267" y="142"/>
                    </a:lnTo>
                    <a:lnTo>
                      <a:pt x="281" y="149"/>
                    </a:lnTo>
                    <a:lnTo>
                      <a:pt x="293" y="160"/>
                    </a:lnTo>
                    <a:lnTo>
                      <a:pt x="300" y="169"/>
                    </a:lnTo>
                    <a:lnTo>
                      <a:pt x="306" y="177"/>
                    </a:lnTo>
                    <a:lnTo>
                      <a:pt x="312" y="188"/>
                    </a:lnTo>
                    <a:lnTo>
                      <a:pt x="314" y="195"/>
                    </a:lnTo>
                    <a:lnTo>
                      <a:pt x="317" y="202"/>
                    </a:lnTo>
                    <a:lnTo>
                      <a:pt x="320" y="209"/>
                    </a:lnTo>
                    <a:lnTo>
                      <a:pt x="323" y="216"/>
                    </a:lnTo>
                    <a:lnTo>
                      <a:pt x="324" y="225"/>
                    </a:lnTo>
                    <a:lnTo>
                      <a:pt x="327" y="233"/>
                    </a:lnTo>
                    <a:lnTo>
                      <a:pt x="333" y="249"/>
                    </a:lnTo>
                    <a:lnTo>
                      <a:pt x="335" y="256"/>
                    </a:lnTo>
                    <a:lnTo>
                      <a:pt x="338" y="263"/>
                    </a:lnTo>
                    <a:lnTo>
                      <a:pt x="341" y="270"/>
                    </a:lnTo>
                    <a:lnTo>
                      <a:pt x="344" y="276"/>
                    </a:lnTo>
                    <a:lnTo>
                      <a:pt x="348" y="287"/>
                    </a:lnTo>
                    <a:lnTo>
                      <a:pt x="354" y="295"/>
                    </a:lnTo>
                    <a:lnTo>
                      <a:pt x="359" y="302"/>
                    </a:lnTo>
                    <a:lnTo>
                      <a:pt x="365" y="309"/>
                    </a:lnTo>
                    <a:lnTo>
                      <a:pt x="371" y="314"/>
                    </a:lnTo>
                    <a:lnTo>
                      <a:pt x="382" y="316"/>
                    </a:lnTo>
                    <a:lnTo>
                      <a:pt x="394" y="311"/>
                    </a:lnTo>
                    <a:lnTo>
                      <a:pt x="399" y="302"/>
                    </a:lnTo>
                    <a:lnTo>
                      <a:pt x="402" y="292"/>
                    </a:lnTo>
                    <a:lnTo>
                      <a:pt x="403" y="267"/>
                    </a:lnTo>
                    <a:lnTo>
                      <a:pt x="402" y="253"/>
                    </a:lnTo>
                    <a:lnTo>
                      <a:pt x="400" y="239"/>
                    </a:lnTo>
                    <a:lnTo>
                      <a:pt x="397" y="219"/>
                    </a:lnTo>
                    <a:lnTo>
                      <a:pt x="394" y="209"/>
                    </a:lnTo>
                    <a:lnTo>
                      <a:pt x="393" y="204"/>
                    </a:lnTo>
                    <a:lnTo>
                      <a:pt x="392" y="197"/>
                    </a:lnTo>
                    <a:lnTo>
                      <a:pt x="390" y="190"/>
                    </a:lnTo>
                    <a:lnTo>
                      <a:pt x="387" y="183"/>
                    </a:lnTo>
                    <a:lnTo>
                      <a:pt x="385" y="169"/>
                    </a:lnTo>
                    <a:lnTo>
                      <a:pt x="380" y="145"/>
                    </a:lnTo>
                    <a:lnTo>
                      <a:pt x="380" y="136"/>
                    </a:lnTo>
                    <a:lnTo>
                      <a:pt x="385" y="132"/>
                    </a:lnTo>
                    <a:lnTo>
                      <a:pt x="397" y="136"/>
                    </a:lnTo>
                    <a:lnTo>
                      <a:pt x="409" y="147"/>
                    </a:lnTo>
                    <a:lnTo>
                      <a:pt x="414" y="156"/>
                    </a:lnTo>
                    <a:lnTo>
                      <a:pt x="418" y="166"/>
                    </a:lnTo>
                    <a:lnTo>
                      <a:pt x="423" y="177"/>
                    </a:lnTo>
                    <a:lnTo>
                      <a:pt x="425" y="188"/>
                    </a:lnTo>
                    <a:lnTo>
                      <a:pt x="430" y="215"/>
                    </a:lnTo>
                    <a:lnTo>
                      <a:pt x="431" y="246"/>
                    </a:lnTo>
                    <a:lnTo>
                      <a:pt x="432" y="274"/>
                    </a:lnTo>
                    <a:lnTo>
                      <a:pt x="434" y="285"/>
                    </a:lnTo>
                    <a:lnTo>
                      <a:pt x="437" y="292"/>
                    </a:lnTo>
                    <a:lnTo>
                      <a:pt x="446" y="299"/>
                    </a:lnTo>
                    <a:lnTo>
                      <a:pt x="459" y="299"/>
                    </a:lnTo>
                    <a:lnTo>
                      <a:pt x="472" y="291"/>
                    </a:lnTo>
                    <a:lnTo>
                      <a:pt x="479" y="277"/>
                    </a:lnTo>
                    <a:lnTo>
                      <a:pt x="482" y="270"/>
                    </a:lnTo>
                    <a:lnTo>
                      <a:pt x="484" y="260"/>
                    </a:lnTo>
                    <a:lnTo>
                      <a:pt x="489" y="252"/>
                    </a:lnTo>
                    <a:lnTo>
                      <a:pt x="491" y="240"/>
                    </a:lnTo>
                    <a:lnTo>
                      <a:pt x="494" y="229"/>
                    </a:lnTo>
                    <a:lnTo>
                      <a:pt x="497" y="218"/>
                    </a:lnTo>
                    <a:lnTo>
                      <a:pt x="500" y="190"/>
                    </a:lnTo>
                    <a:lnTo>
                      <a:pt x="498" y="123"/>
                    </a:lnTo>
                    <a:lnTo>
                      <a:pt x="496" y="107"/>
                    </a:lnTo>
                    <a:lnTo>
                      <a:pt x="494" y="98"/>
                    </a:lnTo>
                    <a:lnTo>
                      <a:pt x="491" y="90"/>
                    </a:lnTo>
                    <a:lnTo>
                      <a:pt x="490" y="81"/>
                    </a:lnTo>
                    <a:lnTo>
                      <a:pt x="486" y="74"/>
                    </a:lnTo>
                    <a:lnTo>
                      <a:pt x="483" y="67"/>
                    </a:lnTo>
                    <a:lnTo>
                      <a:pt x="479" y="60"/>
                    </a:lnTo>
                    <a:lnTo>
                      <a:pt x="472" y="47"/>
                    </a:lnTo>
                    <a:lnTo>
                      <a:pt x="469" y="39"/>
                    </a:lnTo>
                    <a:lnTo>
                      <a:pt x="470" y="33"/>
                    </a:lnTo>
                    <a:lnTo>
                      <a:pt x="473" y="29"/>
                    </a:lnTo>
                    <a:lnTo>
                      <a:pt x="486" y="26"/>
                    </a:lnTo>
                    <a:lnTo>
                      <a:pt x="486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961320" y="4130640"/>
                <a:ext cx="1242720" cy="690480"/>
              </a:xfrm>
              <a:custGeom>
                <a:avLst/>
                <a:gdLst/>
                <a:ahLst/>
                <a:rect l="l" t="t" r="r" b="b"/>
                <a:pathLst>
                  <a:path w="1580" h="875">
                    <a:moveTo>
                      <a:pt x="15" y="311"/>
                    </a:moveTo>
                    <a:lnTo>
                      <a:pt x="392" y="335"/>
                    </a:lnTo>
                    <a:lnTo>
                      <a:pt x="393" y="337"/>
                    </a:lnTo>
                    <a:lnTo>
                      <a:pt x="396" y="345"/>
                    </a:lnTo>
                    <a:lnTo>
                      <a:pt x="402" y="356"/>
                    </a:lnTo>
                    <a:lnTo>
                      <a:pt x="406" y="363"/>
                    </a:lnTo>
                    <a:lnTo>
                      <a:pt x="410" y="370"/>
                    </a:lnTo>
                    <a:lnTo>
                      <a:pt x="414" y="377"/>
                    </a:lnTo>
                    <a:lnTo>
                      <a:pt x="418" y="384"/>
                    </a:lnTo>
                    <a:lnTo>
                      <a:pt x="424" y="392"/>
                    </a:lnTo>
                    <a:lnTo>
                      <a:pt x="428" y="399"/>
                    </a:lnTo>
                    <a:lnTo>
                      <a:pt x="434" y="405"/>
                    </a:lnTo>
                    <a:lnTo>
                      <a:pt x="440" y="412"/>
                    </a:lnTo>
                    <a:lnTo>
                      <a:pt x="451" y="422"/>
                    </a:lnTo>
                    <a:lnTo>
                      <a:pt x="463" y="429"/>
                    </a:lnTo>
                    <a:lnTo>
                      <a:pt x="477" y="433"/>
                    </a:lnTo>
                    <a:lnTo>
                      <a:pt x="503" y="439"/>
                    </a:lnTo>
                    <a:lnTo>
                      <a:pt x="532" y="440"/>
                    </a:lnTo>
                    <a:lnTo>
                      <a:pt x="553" y="381"/>
                    </a:lnTo>
                    <a:lnTo>
                      <a:pt x="562" y="342"/>
                    </a:lnTo>
                    <a:lnTo>
                      <a:pt x="820" y="345"/>
                    </a:lnTo>
                    <a:lnTo>
                      <a:pt x="1093" y="347"/>
                    </a:lnTo>
                    <a:lnTo>
                      <a:pt x="1305" y="350"/>
                    </a:lnTo>
                    <a:lnTo>
                      <a:pt x="1503" y="353"/>
                    </a:lnTo>
                    <a:lnTo>
                      <a:pt x="1504" y="406"/>
                    </a:lnTo>
                    <a:lnTo>
                      <a:pt x="1509" y="528"/>
                    </a:lnTo>
                    <a:lnTo>
                      <a:pt x="1513" y="653"/>
                    </a:lnTo>
                    <a:lnTo>
                      <a:pt x="1514" y="725"/>
                    </a:lnTo>
                    <a:lnTo>
                      <a:pt x="1513" y="761"/>
                    </a:lnTo>
                    <a:lnTo>
                      <a:pt x="1510" y="812"/>
                    </a:lnTo>
                    <a:lnTo>
                      <a:pt x="1507" y="875"/>
                    </a:lnTo>
                    <a:lnTo>
                      <a:pt x="1568" y="864"/>
                    </a:lnTo>
                    <a:lnTo>
                      <a:pt x="1566" y="728"/>
                    </a:lnTo>
                    <a:lnTo>
                      <a:pt x="1568" y="625"/>
                    </a:lnTo>
                    <a:lnTo>
                      <a:pt x="1570" y="585"/>
                    </a:lnTo>
                    <a:lnTo>
                      <a:pt x="1572" y="570"/>
                    </a:lnTo>
                    <a:lnTo>
                      <a:pt x="1573" y="560"/>
                    </a:lnTo>
                    <a:lnTo>
                      <a:pt x="1579" y="501"/>
                    </a:lnTo>
                    <a:lnTo>
                      <a:pt x="1580" y="412"/>
                    </a:lnTo>
                    <a:lnTo>
                      <a:pt x="1577" y="298"/>
                    </a:lnTo>
                    <a:lnTo>
                      <a:pt x="1207" y="305"/>
                    </a:lnTo>
                    <a:lnTo>
                      <a:pt x="1018" y="309"/>
                    </a:lnTo>
                    <a:lnTo>
                      <a:pt x="857" y="311"/>
                    </a:lnTo>
                    <a:lnTo>
                      <a:pt x="566" y="299"/>
                    </a:lnTo>
                    <a:lnTo>
                      <a:pt x="567" y="161"/>
                    </a:lnTo>
                    <a:lnTo>
                      <a:pt x="565" y="97"/>
                    </a:lnTo>
                    <a:lnTo>
                      <a:pt x="563" y="23"/>
                    </a:lnTo>
                    <a:lnTo>
                      <a:pt x="560" y="14"/>
                    </a:lnTo>
                    <a:lnTo>
                      <a:pt x="556" y="8"/>
                    </a:lnTo>
                    <a:lnTo>
                      <a:pt x="553" y="4"/>
                    </a:lnTo>
                    <a:lnTo>
                      <a:pt x="545" y="0"/>
                    </a:lnTo>
                    <a:lnTo>
                      <a:pt x="539" y="2"/>
                    </a:lnTo>
                    <a:lnTo>
                      <a:pt x="541" y="63"/>
                    </a:lnTo>
                    <a:lnTo>
                      <a:pt x="542" y="114"/>
                    </a:lnTo>
                    <a:lnTo>
                      <a:pt x="535" y="281"/>
                    </a:lnTo>
                    <a:lnTo>
                      <a:pt x="520" y="378"/>
                    </a:lnTo>
                    <a:lnTo>
                      <a:pt x="490" y="374"/>
                    </a:lnTo>
                    <a:lnTo>
                      <a:pt x="452" y="360"/>
                    </a:lnTo>
                    <a:lnTo>
                      <a:pt x="447" y="353"/>
                    </a:lnTo>
                    <a:lnTo>
                      <a:pt x="438" y="346"/>
                    </a:lnTo>
                    <a:lnTo>
                      <a:pt x="428" y="336"/>
                    </a:lnTo>
                    <a:lnTo>
                      <a:pt x="417" y="326"/>
                    </a:lnTo>
                    <a:lnTo>
                      <a:pt x="407" y="318"/>
                    </a:lnTo>
                    <a:lnTo>
                      <a:pt x="399" y="311"/>
                    </a:lnTo>
                    <a:lnTo>
                      <a:pt x="390" y="304"/>
                    </a:lnTo>
                    <a:lnTo>
                      <a:pt x="309" y="305"/>
                    </a:lnTo>
                    <a:lnTo>
                      <a:pt x="164" y="299"/>
                    </a:lnTo>
                    <a:lnTo>
                      <a:pt x="102" y="292"/>
                    </a:lnTo>
                    <a:lnTo>
                      <a:pt x="50" y="288"/>
                    </a:lnTo>
                    <a:lnTo>
                      <a:pt x="0" y="284"/>
                    </a:lnTo>
                    <a:lnTo>
                      <a:pt x="15" y="311"/>
                    </a:lnTo>
                    <a:lnTo>
                      <a:pt x="15" y="3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307200" y="4354560"/>
                <a:ext cx="287280" cy="1730160"/>
              </a:xfrm>
              <a:custGeom>
                <a:avLst/>
                <a:gdLst/>
                <a:ahLst/>
                <a:rect l="l" t="t" r="r" b="b"/>
                <a:pathLst>
                  <a:path w="366" h="2190">
                    <a:moveTo>
                      <a:pt x="349" y="69"/>
                    </a:moveTo>
                    <a:lnTo>
                      <a:pt x="295" y="62"/>
                    </a:lnTo>
                    <a:lnTo>
                      <a:pt x="226" y="56"/>
                    </a:lnTo>
                    <a:lnTo>
                      <a:pt x="142" y="59"/>
                    </a:lnTo>
                    <a:lnTo>
                      <a:pt x="138" y="87"/>
                    </a:lnTo>
                    <a:lnTo>
                      <a:pt x="134" y="117"/>
                    </a:lnTo>
                    <a:lnTo>
                      <a:pt x="128" y="152"/>
                    </a:lnTo>
                    <a:lnTo>
                      <a:pt x="124" y="187"/>
                    </a:lnTo>
                    <a:lnTo>
                      <a:pt x="120" y="221"/>
                    </a:lnTo>
                    <a:lnTo>
                      <a:pt x="118" y="263"/>
                    </a:lnTo>
                    <a:lnTo>
                      <a:pt x="118" y="283"/>
                    </a:lnTo>
                    <a:lnTo>
                      <a:pt x="118" y="322"/>
                    </a:lnTo>
                    <a:lnTo>
                      <a:pt x="115" y="429"/>
                    </a:lnTo>
                    <a:lnTo>
                      <a:pt x="111" y="534"/>
                    </a:lnTo>
                    <a:lnTo>
                      <a:pt x="110" y="579"/>
                    </a:lnTo>
                    <a:lnTo>
                      <a:pt x="111" y="655"/>
                    </a:lnTo>
                    <a:lnTo>
                      <a:pt x="114" y="831"/>
                    </a:lnTo>
                    <a:lnTo>
                      <a:pt x="118" y="1179"/>
                    </a:lnTo>
                    <a:lnTo>
                      <a:pt x="117" y="1243"/>
                    </a:lnTo>
                    <a:lnTo>
                      <a:pt x="113" y="1333"/>
                    </a:lnTo>
                    <a:lnTo>
                      <a:pt x="110" y="1386"/>
                    </a:lnTo>
                    <a:lnTo>
                      <a:pt x="107" y="1440"/>
                    </a:lnTo>
                    <a:lnTo>
                      <a:pt x="104" y="1497"/>
                    </a:lnTo>
                    <a:lnTo>
                      <a:pt x="101" y="1553"/>
                    </a:lnTo>
                    <a:lnTo>
                      <a:pt x="99" y="1609"/>
                    </a:lnTo>
                    <a:lnTo>
                      <a:pt x="94" y="1663"/>
                    </a:lnTo>
                    <a:lnTo>
                      <a:pt x="92" y="1714"/>
                    </a:lnTo>
                    <a:lnTo>
                      <a:pt x="89" y="1760"/>
                    </a:lnTo>
                    <a:lnTo>
                      <a:pt x="85" y="1833"/>
                    </a:lnTo>
                    <a:lnTo>
                      <a:pt x="80" y="1876"/>
                    </a:lnTo>
                    <a:lnTo>
                      <a:pt x="79" y="1905"/>
                    </a:lnTo>
                    <a:lnTo>
                      <a:pt x="76" y="1949"/>
                    </a:lnTo>
                    <a:lnTo>
                      <a:pt x="72" y="2001"/>
                    </a:lnTo>
                    <a:lnTo>
                      <a:pt x="69" y="2054"/>
                    </a:lnTo>
                    <a:lnTo>
                      <a:pt x="65" y="2105"/>
                    </a:lnTo>
                    <a:lnTo>
                      <a:pt x="63" y="2149"/>
                    </a:lnTo>
                    <a:lnTo>
                      <a:pt x="61" y="2190"/>
                    </a:lnTo>
                    <a:lnTo>
                      <a:pt x="0" y="2170"/>
                    </a:lnTo>
                    <a:lnTo>
                      <a:pt x="65" y="1625"/>
                    </a:lnTo>
                    <a:lnTo>
                      <a:pt x="66" y="1539"/>
                    </a:lnTo>
                    <a:lnTo>
                      <a:pt x="68" y="1346"/>
                    </a:lnTo>
                    <a:lnTo>
                      <a:pt x="72" y="1150"/>
                    </a:lnTo>
                    <a:lnTo>
                      <a:pt x="73" y="1083"/>
                    </a:lnTo>
                    <a:lnTo>
                      <a:pt x="76" y="1052"/>
                    </a:lnTo>
                    <a:lnTo>
                      <a:pt x="78" y="943"/>
                    </a:lnTo>
                    <a:lnTo>
                      <a:pt x="75" y="728"/>
                    </a:lnTo>
                    <a:lnTo>
                      <a:pt x="72" y="515"/>
                    </a:lnTo>
                    <a:lnTo>
                      <a:pt x="71" y="420"/>
                    </a:lnTo>
                    <a:lnTo>
                      <a:pt x="92" y="0"/>
                    </a:lnTo>
                    <a:lnTo>
                      <a:pt x="366" y="21"/>
                    </a:lnTo>
                    <a:lnTo>
                      <a:pt x="349" y="69"/>
                    </a:lnTo>
                    <a:lnTo>
                      <a:pt x="349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156360" y="5148360"/>
                <a:ext cx="2066760" cy="1228680"/>
              </a:xfrm>
              <a:custGeom>
                <a:avLst/>
                <a:gdLst/>
                <a:ahLst/>
                <a:rect l="l" t="t" r="r" b="b"/>
                <a:pathLst>
                  <a:path w="2629" h="1555">
                    <a:moveTo>
                      <a:pt x="2554" y="24"/>
                    </a:moveTo>
                    <a:lnTo>
                      <a:pt x="2554" y="547"/>
                    </a:lnTo>
                    <a:lnTo>
                      <a:pt x="2552" y="778"/>
                    </a:lnTo>
                    <a:lnTo>
                      <a:pt x="2549" y="968"/>
                    </a:lnTo>
                    <a:lnTo>
                      <a:pt x="2548" y="1034"/>
                    </a:lnTo>
                    <a:lnTo>
                      <a:pt x="2545" y="1080"/>
                    </a:lnTo>
                    <a:lnTo>
                      <a:pt x="2542" y="1132"/>
                    </a:lnTo>
                    <a:lnTo>
                      <a:pt x="2540" y="1185"/>
                    </a:lnTo>
                    <a:lnTo>
                      <a:pt x="2535" y="1237"/>
                    </a:lnTo>
                    <a:lnTo>
                      <a:pt x="2533" y="1259"/>
                    </a:lnTo>
                    <a:lnTo>
                      <a:pt x="2530" y="1282"/>
                    </a:lnTo>
                    <a:lnTo>
                      <a:pt x="2527" y="1301"/>
                    </a:lnTo>
                    <a:lnTo>
                      <a:pt x="2524" y="1318"/>
                    </a:lnTo>
                    <a:lnTo>
                      <a:pt x="2518" y="1346"/>
                    </a:lnTo>
                    <a:lnTo>
                      <a:pt x="2516" y="1358"/>
                    </a:lnTo>
                    <a:lnTo>
                      <a:pt x="2513" y="1369"/>
                    </a:lnTo>
                    <a:lnTo>
                      <a:pt x="2511" y="1379"/>
                    </a:lnTo>
                    <a:lnTo>
                      <a:pt x="2509" y="1387"/>
                    </a:lnTo>
                    <a:lnTo>
                      <a:pt x="2504" y="1394"/>
                    </a:lnTo>
                    <a:lnTo>
                      <a:pt x="2502" y="1403"/>
                    </a:lnTo>
                    <a:lnTo>
                      <a:pt x="2497" y="1410"/>
                    </a:lnTo>
                    <a:lnTo>
                      <a:pt x="2493" y="1415"/>
                    </a:lnTo>
                    <a:lnTo>
                      <a:pt x="2489" y="1422"/>
                    </a:lnTo>
                    <a:lnTo>
                      <a:pt x="2483" y="1428"/>
                    </a:lnTo>
                    <a:lnTo>
                      <a:pt x="2476" y="1435"/>
                    </a:lnTo>
                    <a:lnTo>
                      <a:pt x="2469" y="1442"/>
                    </a:lnTo>
                    <a:lnTo>
                      <a:pt x="2461" y="1449"/>
                    </a:lnTo>
                    <a:lnTo>
                      <a:pt x="2451" y="1456"/>
                    </a:lnTo>
                    <a:lnTo>
                      <a:pt x="2441" y="1465"/>
                    </a:lnTo>
                    <a:lnTo>
                      <a:pt x="2433" y="1472"/>
                    </a:lnTo>
                    <a:lnTo>
                      <a:pt x="2424" y="1477"/>
                    </a:lnTo>
                    <a:lnTo>
                      <a:pt x="2416" y="1483"/>
                    </a:lnTo>
                    <a:lnTo>
                      <a:pt x="2400" y="1491"/>
                    </a:lnTo>
                    <a:lnTo>
                      <a:pt x="2384" y="1497"/>
                    </a:lnTo>
                    <a:lnTo>
                      <a:pt x="2347" y="1503"/>
                    </a:lnTo>
                    <a:lnTo>
                      <a:pt x="2295" y="1500"/>
                    </a:lnTo>
                    <a:lnTo>
                      <a:pt x="2264" y="1493"/>
                    </a:lnTo>
                    <a:lnTo>
                      <a:pt x="2235" y="1479"/>
                    </a:lnTo>
                    <a:lnTo>
                      <a:pt x="2221" y="1469"/>
                    </a:lnTo>
                    <a:lnTo>
                      <a:pt x="2207" y="1459"/>
                    </a:lnTo>
                    <a:lnTo>
                      <a:pt x="2193" y="1446"/>
                    </a:lnTo>
                    <a:lnTo>
                      <a:pt x="2187" y="1439"/>
                    </a:lnTo>
                    <a:lnTo>
                      <a:pt x="2180" y="1432"/>
                    </a:lnTo>
                    <a:lnTo>
                      <a:pt x="2174" y="1425"/>
                    </a:lnTo>
                    <a:lnTo>
                      <a:pt x="2169" y="1418"/>
                    </a:lnTo>
                    <a:lnTo>
                      <a:pt x="2157" y="1401"/>
                    </a:lnTo>
                    <a:lnTo>
                      <a:pt x="2152" y="1394"/>
                    </a:lnTo>
                    <a:lnTo>
                      <a:pt x="2148" y="1386"/>
                    </a:lnTo>
                    <a:lnTo>
                      <a:pt x="2143" y="1376"/>
                    </a:lnTo>
                    <a:lnTo>
                      <a:pt x="2139" y="1368"/>
                    </a:lnTo>
                    <a:lnTo>
                      <a:pt x="2135" y="1359"/>
                    </a:lnTo>
                    <a:lnTo>
                      <a:pt x="2131" y="1349"/>
                    </a:lnTo>
                    <a:lnTo>
                      <a:pt x="2128" y="1339"/>
                    </a:lnTo>
                    <a:lnTo>
                      <a:pt x="2125" y="1331"/>
                    </a:lnTo>
                    <a:lnTo>
                      <a:pt x="2117" y="1290"/>
                    </a:lnTo>
                    <a:lnTo>
                      <a:pt x="2113" y="1217"/>
                    </a:lnTo>
                    <a:lnTo>
                      <a:pt x="2113" y="1161"/>
                    </a:lnTo>
                    <a:lnTo>
                      <a:pt x="2117" y="1124"/>
                    </a:lnTo>
                    <a:lnTo>
                      <a:pt x="2118" y="1111"/>
                    </a:lnTo>
                    <a:lnTo>
                      <a:pt x="2068" y="1117"/>
                    </a:lnTo>
                    <a:lnTo>
                      <a:pt x="2013" y="1124"/>
                    </a:lnTo>
                    <a:lnTo>
                      <a:pt x="1945" y="1131"/>
                    </a:lnTo>
                    <a:lnTo>
                      <a:pt x="1871" y="1139"/>
                    </a:lnTo>
                    <a:lnTo>
                      <a:pt x="1795" y="1148"/>
                    </a:lnTo>
                    <a:lnTo>
                      <a:pt x="1723" y="1155"/>
                    </a:lnTo>
                    <a:lnTo>
                      <a:pt x="1662" y="1159"/>
                    </a:lnTo>
                    <a:lnTo>
                      <a:pt x="1527" y="1170"/>
                    </a:lnTo>
                    <a:lnTo>
                      <a:pt x="1448" y="1177"/>
                    </a:lnTo>
                    <a:lnTo>
                      <a:pt x="1368" y="1185"/>
                    </a:lnTo>
                    <a:lnTo>
                      <a:pt x="1291" y="1192"/>
                    </a:lnTo>
                    <a:lnTo>
                      <a:pt x="1221" y="1197"/>
                    </a:lnTo>
                    <a:lnTo>
                      <a:pt x="1122" y="1203"/>
                    </a:lnTo>
                    <a:lnTo>
                      <a:pt x="997" y="1199"/>
                    </a:lnTo>
                    <a:lnTo>
                      <a:pt x="803" y="1189"/>
                    </a:lnTo>
                    <a:lnTo>
                      <a:pt x="619" y="1180"/>
                    </a:lnTo>
                    <a:lnTo>
                      <a:pt x="524" y="1176"/>
                    </a:lnTo>
                    <a:lnTo>
                      <a:pt x="430" y="1170"/>
                    </a:lnTo>
                    <a:lnTo>
                      <a:pt x="253" y="1159"/>
                    </a:lnTo>
                    <a:lnTo>
                      <a:pt x="81" y="1148"/>
                    </a:lnTo>
                    <a:lnTo>
                      <a:pt x="5" y="1144"/>
                    </a:lnTo>
                    <a:lnTo>
                      <a:pt x="3" y="1159"/>
                    </a:lnTo>
                    <a:lnTo>
                      <a:pt x="0" y="1197"/>
                    </a:lnTo>
                    <a:lnTo>
                      <a:pt x="0" y="1246"/>
                    </a:lnTo>
                    <a:lnTo>
                      <a:pt x="4" y="1273"/>
                    </a:lnTo>
                    <a:lnTo>
                      <a:pt x="7" y="1286"/>
                    </a:lnTo>
                    <a:lnTo>
                      <a:pt x="8" y="1292"/>
                    </a:lnTo>
                    <a:lnTo>
                      <a:pt x="11" y="1297"/>
                    </a:lnTo>
                    <a:lnTo>
                      <a:pt x="12" y="1304"/>
                    </a:lnTo>
                    <a:lnTo>
                      <a:pt x="14" y="1310"/>
                    </a:lnTo>
                    <a:lnTo>
                      <a:pt x="17" y="1315"/>
                    </a:lnTo>
                    <a:lnTo>
                      <a:pt x="19" y="1323"/>
                    </a:lnTo>
                    <a:lnTo>
                      <a:pt x="25" y="1335"/>
                    </a:lnTo>
                    <a:lnTo>
                      <a:pt x="28" y="1341"/>
                    </a:lnTo>
                    <a:lnTo>
                      <a:pt x="31" y="1348"/>
                    </a:lnTo>
                    <a:lnTo>
                      <a:pt x="38" y="1361"/>
                    </a:lnTo>
                    <a:lnTo>
                      <a:pt x="42" y="1368"/>
                    </a:lnTo>
                    <a:lnTo>
                      <a:pt x="45" y="1373"/>
                    </a:lnTo>
                    <a:lnTo>
                      <a:pt x="49" y="1379"/>
                    </a:lnTo>
                    <a:lnTo>
                      <a:pt x="55" y="1386"/>
                    </a:lnTo>
                    <a:lnTo>
                      <a:pt x="63" y="1399"/>
                    </a:lnTo>
                    <a:lnTo>
                      <a:pt x="69" y="1404"/>
                    </a:lnTo>
                    <a:lnTo>
                      <a:pt x="74" y="1410"/>
                    </a:lnTo>
                    <a:lnTo>
                      <a:pt x="80" y="1415"/>
                    </a:lnTo>
                    <a:lnTo>
                      <a:pt x="86" y="1421"/>
                    </a:lnTo>
                    <a:lnTo>
                      <a:pt x="98" y="1432"/>
                    </a:lnTo>
                    <a:lnTo>
                      <a:pt x="112" y="1444"/>
                    </a:lnTo>
                    <a:lnTo>
                      <a:pt x="126" y="1453"/>
                    </a:lnTo>
                    <a:lnTo>
                      <a:pt x="143" y="1462"/>
                    </a:lnTo>
                    <a:lnTo>
                      <a:pt x="160" y="1470"/>
                    </a:lnTo>
                    <a:lnTo>
                      <a:pt x="180" y="1479"/>
                    </a:lnTo>
                    <a:lnTo>
                      <a:pt x="202" y="1484"/>
                    </a:lnTo>
                    <a:lnTo>
                      <a:pt x="226" y="1490"/>
                    </a:lnTo>
                    <a:lnTo>
                      <a:pt x="284" y="1497"/>
                    </a:lnTo>
                    <a:lnTo>
                      <a:pt x="411" y="1503"/>
                    </a:lnTo>
                    <a:lnTo>
                      <a:pt x="593" y="1500"/>
                    </a:lnTo>
                    <a:lnTo>
                      <a:pt x="694" y="1503"/>
                    </a:lnTo>
                    <a:lnTo>
                      <a:pt x="886" y="1510"/>
                    </a:lnTo>
                    <a:lnTo>
                      <a:pt x="1080" y="1518"/>
                    </a:lnTo>
                    <a:lnTo>
                      <a:pt x="1191" y="1521"/>
                    </a:lnTo>
                    <a:lnTo>
                      <a:pt x="1313" y="1518"/>
                    </a:lnTo>
                    <a:lnTo>
                      <a:pt x="1531" y="1510"/>
                    </a:lnTo>
                    <a:lnTo>
                      <a:pt x="1739" y="1503"/>
                    </a:lnTo>
                    <a:lnTo>
                      <a:pt x="1832" y="1500"/>
                    </a:lnTo>
                    <a:lnTo>
                      <a:pt x="2208" y="1537"/>
                    </a:lnTo>
                    <a:lnTo>
                      <a:pt x="2083" y="1444"/>
                    </a:lnTo>
                    <a:lnTo>
                      <a:pt x="2052" y="1439"/>
                    </a:lnTo>
                    <a:lnTo>
                      <a:pt x="1973" y="1432"/>
                    </a:lnTo>
                    <a:lnTo>
                      <a:pt x="1871" y="1427"/>
                    </a:lnTo>
                    <a:lnTo>
                      <a:pt x="1766" y="1422"/>
                    </a:lnTo>
                    <a:lnTo>
                      <a:pt x="1390" y="1432"/>
                    </a:lnTo>
                    <a:lnTo>
                      <a:pt x="1198" y="1439"/>
                    </a:lnTo>
                    <a:lnTo>
                      <a:pt x="1115" y="1444"/>
                    </a:lnTo>
                    <a:lnTo>
                      <a:pt x="874" y="1438"/>
                    </a:lnTo>
                    <a:lnTo>
                      <a:pt x="583" y="1437"/>
                    </a:lnTo>
                    <a:lnTo>
                      <a:pt x="236" y="1441"/>
                    </a:lnTo>
                    <a:lnTo>
                      <a:pt x="229" y="1438"/>
                    </a:lnTo>
                    <a:lnTo>
                      <a:pt x="211" y="1430"/>
                    </a:lnTo>
                    <a:lnTo>
                      <a:pt x="198" y="1424"/>
                    </a:lnTo>
                    <a:lnTo>
                      <a:pt x="184" y="1417"/>
                    </a:lnTo>
                    <a:lnTo>
                      <a:pt x="168" y="1408"/>
                    </a:lnTo>
                    <a:lnTo>
                      <a:pt x="153" y="1400"/>
                    </a:lnTo>
                    <a:lnTo>
                      <a:pt x="137" y="1390"/>
                    </a:lnTo>
                    <a:lnTo>
                      <a:pt x="121" y="1379"/>
                    </a:lnTo>
                    <a:lnTo>
                      <a:pt x="105" y="1368"/>
                    </a:lnTo>
                    <a:lnTo>
                      <a:pt x="91" y="1356"/>
                    </a:lnTo>
                    <a:lnTo>
                      <a:pt x="78" y="1344"/>
                    </a:lnTo>
                    <a:lnTo>
                      <a:pt x="69" y="1332"/>
                    </a:lnTo>
                    <a:lnTo>
                      <a:pt x="60" y="1320"/>
                    </a:lnTo>
                    <a:lnTo>
                      <a:pt x="56" y="1307"/>
                    </a:lnTo>
                    <a:lnTo>
                      <a:pt x="52" y="1294"/>
                    </a:lnTo>
                    <a:lnTo>
                      <a:pt x="49" y="1282"/>
                    </a:lnTo>
                    <a:lnTo>
                      <a:pt x="45" y="1258"/>
                    </a:lnTo>
                    <a:lnTo>
                      <a:pt x="39" y="1215"/>
                    </a:lnTo>
                    <a:lnTo>
                      <a:pt x="36" y="1176"/>
                    </a:lnTo>
                    <a:lnTo>
                      <a:pt x="329" y="1197"/>
                    </a:lnTo>
                    <a:lnTo>
                      <a:pt x="746" y="1207"/>
                    </a:lnTo>
                    <a:lnTo>
                      <a:pt x="813" y="1211"/>
                    </a:lnTo>
                    <a:lnTo>
                      <a:pt x="968" y="1218"/>
                    </a:lnTo>
                    <a:lnTo>
                      <a:pt x="1142" y="1224"/>
                    </a:lnTo>
                    <a:lnTo>
                      <a:pt x="1264" y="1223"/>
                    </a:lnTo>
                    <a:lnTo>
                      <a:pt x="1320" y="1218"/>
                    </a:lnTo>
                    <a:lnTo>
                      <a:pt x="1407" y="1210"/>
                    </a:lnTo>
                    <a:lnTo>
                      <a:pt x="1516" y="1200"/>
                    </a:lnTo>
                    <a:lnTo>
                      <a:pt x="1629" y="1190"/>
                    </a:lnTo>
                    <a:lnTo>
                      <a:pt x="1739" y="1180"/>
                    </a:lnTo>
                    <a:lnTo>
                      <a:pt x="1833" y="1173"/>
                    </a:lnTo>
                    <a:lnTo>
                      <a:pt x="1921" y="1165"/>
                    </a:lnTo>
                    <a:lnTo>
                      <a:pt x="2045" y="1152"/>
                    </a:lnTo>
                    <a:lnTo>
                      <a:pt x="2048" y="1228"/>
                    </a:lnTo>
                    <a:lnTo>
                      <a:pt x="2049" y="1262"/>
                    </a:lnTo>
                    <a:lnTo>
                      <a:pt x="2052" y="1279"/>
                    </a:lnTo>
                    <a:lnTo>
                      <a:pt x="2054" y="1297"/>
                    </a:lnTo>
                    <a:lnTo>
                      <a:pt x="2056" y="1315"/>
                    </a:lnTo>
                    <a:lnTo>
                      <a:pt x="2061" y="1332"/>
                    </a:lnTo>
                    <a:lnTo>
                      <a:pt x="2062" y="1339"/>
                    </a:lnTo>
                    <a:lnTo>
                      <a:pt x="2063" y="1348"/>
                    </a:lnTo>
                    <a:lnTo>
                      <a:pt x="2066" y="1356"/>
                    </a:lnTo>
                    <a:lnTo>
                      <a:pt x="2068" y="1363"/>
                    </a:lnTo>
                    <a:lnTo>
                      <a:pt x="2073" y="1377"/>
                    </a:lnTo>
                    <a:lnTo>
                      <a:pt x="2076" y="1383"/>
                    </a:lnTo>
                    <a:lnTo>
                      <a:pt x="2077" y="1390"/>
                    </a:lnTo>
                    <a:lnTo>
                      <a:pt x="2083" y="1400"/>
                    </a:lnTo>
                    <a:lnTo>
                      <a:pt x="2089" y="1410"/>
                    </a:lnTo>
                    <a:lnTo>
                      <a:pt x="2094" y="1418"/>
                    </a:lnTo>
                    <a:lnTo>
                      <a:pt x="2098" y="1425"/>
                    </a:lnTo>
                    <a:lnTo>
                      <a:pt x="2104" y="1432"/>
                    </a:lnTo>
                    <a:lnTo>
                      <a:pt x="2110" y="1438"/>
                    </a:lnTo>
                    <a:lnTo>
                      <a:pt x="2121" y="1448"/>
                    </a:lnTo>
                    <a:lnTo>
                      <a:pt x="2131" y="1456"/>
                    </a:lnTo>
                    <a:lnTo>
                      <a:pt x="2149" y="1470"/>
                    </a:lnTo>
                    <a:lnTo>
                      <a:pt x="2159" y="1480"/>
                    </a:lnTo>
                    <a:lnTo>
                      <a:pt x="2164" y="1486"/>
                    </a:lnTo>
                    <a:lnTo>
                      <a:pt x="2172" y="1491"/>
                    </a:lnTo>
                    <a:lnTo>
                      <a:pt x="2180" y="1499"/>
                    </a:lnTo>
                    <a:lnTo>
                      <a:pt x="2188" y="1504"/>
                    </a:lnTo>
                    <a:lnTo>
                      <a:pt x="2198" y="1511"/>
                    </a:lnTo>
                    <a:lnTo>
                      <a:pt x="2207" y="1518"/>
                    </a:lnTo>
                    <a:lnTo>
                      <a:pt x="2218" y="1524"/>
                    </a:lnTo>
                    <a:lnTo>
                      <a:pt x="2228" y="1529"/>
                    </a:lnTo>
                    <a:lnTo>
                      <a:pt x="2249" y="1541"/>
                    </a:lnTo>
                    <a:lnTo>
                      <a:pt x="2270" y="1549"/>
                    </a:lnTo>
                    <a:lnTo>
                      <a:pt x="2291" y="1553"/>
                    </a:lnTo>
                    <a:lnTo>
                      <a:pt x="2341" y="1555"/>
                    </a:lnTo>
                    <a:lnTo>
                      <a:pt x="2400" y="1551"/>
                    </a:lnTo>
                    <a:lnTo>
                      <a:pt x="2459" y="1537"/>
                    </a:lnTo>
                    <a:lnTo>
                      <a:pt x="2485" y="1522"/>
                    </a:lnTo>
                    <a:lnTo>
                      <a:pt x="2496" y="1514"/>
                    </a:lnTo>
                    <a:lnTo>
                      <a:pt x="2506" y="1504"/>
                    </a:lnTo>
                    <a:lnTo>
                      <a:pt x="2516" y="1493"/>
                    </a:lnTo>
                    <a:lnTo>
                      <a:pt x="2524" y="1482"/>
                    </a:lnTo>
                    <a:lnTo>
                      <a:pt x="2533" y="1470"/>
                    </a:lnTo>
                    <a:lnTo>
                      <a:pt x="2541" y="1458"/>
                    </a:lnTo>
                    <a:lnTo>
                      <a:pt x="2548" y="1445"/>
                    </a:lnTo>
                    <a:lnTo>
                      <a:pt x="2555" y="1432"/>
                    </a:lnTo>
                    <a:lnTo>
                      <a:pt x="2561" y="1421"/>
                    </a:lnTo>
                    <a:lnTo>
                      <a:pt x="2566" y="1410"/>
                    </a:lnTo>
                    <a:lnTo>
                      <a:pt x="2572" y="1399"/>
                    </a:lnTo>
                    <a:lnTo>
                      <a:pt x="2576" y="1389"/>
                    </a:lnTo>
                    <a:lnTo>
                      <a:pt x="2579" y="1379"/>
                    </a:lnTo>
                    <a:lnTo>
                      <a:pt x="2583" y="1372"/>
                    </a:lnTo>
                    <a:lnTo>
                      <a:pt x="2586" y="1361"/>
                    </a:lnTo>
                    <a:lnTo>
                      <a:pt x="2589" y="1356"/>
                    </a:lnTo>
                    <a:lnTo>
                      <a:pt x="2590" y="1349"/>
                    </a:lnTo>
                    <a:lnTo>
                      <a:pt x="2593" y="1339"/>
                    </a:lnTo>
                    <a:lnTo>
                      <a:pt x="2594" y="1330"/>
                    </a:lnTo>
                    <a:lnTo>
                      <a:pt x="2597" y="1317"/>
                    </a:lnTo>
                    <a:lnTo>
                      <a:pt x="2600" y="1303"/>
                    </a:lnTo>
                    <a:lnTo>
                      <a:pt x="2604" y="1276"/>
                    </a:lnTo>
                    <a:lnTo>
                      <a:pt x="2607" y="1155"/>
                    </a:lnTo>
                    <a:lnTo>
                      <a:pt x="2610" y="1061"/>
                    </a:lnTo>
                    <a:lnTo>
                      <a:pt x="2607" y="965"/>
                    </a:lnTo>
                    <a:lnTo>
                      <a:pt x="2607" y="862"/>
                    </a:lnTo>
                    <a:lnTo>
                      <a:pt x="2611" y="723"/>
                    </a:lnTo>
                    <a:lnTo>
                      <a:pt x="2614" y="585"/>
                    </a:lnTo>
                    <a:lnTo>
                      <a:pt x="2618" y="427"/>
                    </a:lnTo>
                    <a:lnTo>
                      <a:pt x="2622" y="269"/>
                    </a:lnTo>
                    <a:lnTo>
                      <a:pt x="2625" y="133"/>
                    </a:lnTo>
                    <a:lnTo>
                      <a:pt x="2629" y="0"/>
                    </a:lnTo>
                    <a:lnTo>
                      <a:pt x="2554" y="24"/>
                    </a:lnTo>
                    <a:lnTo>
                      <a:pt x="255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764480" y="4795920"/>
                <a:ext cx="615960" cy="398520"/>
              </a:xfrm>
              <a:custGeom>
                <a:avLst/>
                <a:gdLst/>
                <a:ahLst/>
                <a:rect l="l" t="t" r="r" b="b"/>
                <a:pathLst>
                  <a:path w="783" h="505">
                    <a:moveTo>
                      <a:pt x="615" y="38"/>
                    </a:moveTo>
                    <a:lnTo>
                      <a:pt x="532" y="43"/>
                    </a:lnTo>
                    <a:lnTo>
                      <a:pt x="434" y="52"/>
                    </a:lnTo>
                    <a:lnTo>
                      <a:pt x="402" y="60"/>
                    </a:lnTo>
                    <a:lnTo>
                      <a:pt x="377" y="66"/>
                    </a:lnTo>
                    <a:lnTo>
                      <a:pt x="348" y="73"/>
                    </a:lnTo>
                    <a:lnTo>
                      <a:pt x="318" y="83"/>
                    </a:lnTo>
                    <a:lnTo>
                      <a:pt x="288" y="92"/>
                    </a:lnTo>
                    <a:lnTo>
                      <a:pt x="260" y="105"/>
                    </a:lnTo>
                    <a:lnTo>
                      <a:pt x="237" y="118"/>
                    </a:lnTo>
                    <a:lnTo>
                      <a:pt x="226" y="126"/>
                    </a:lnTo>
                    <a:lnTo>
                      <a:pt x="214" y="135"/>
                    </a:lnTo>
                    <a:lnTo>
                      <a:pt x="201" y="143"/>
                    </a:lnTo>
                    <a:lnTo>
                      <a:pt x="187" y="153"/>
                    </a:lnTo>
                    <a:lnTo>
                      <a:pt x="173" y="163"/>
                    </a:lnTo>
                    <a:lnTo>
                      <a:pt x="157" y="173"/>
                    </a:lnTo>
                    <a:lnTo>
                      <a:pt x="143" y="183"/>
                    </a:lnTo>
                    <a:lnTo>
                      <a:pt x="129" y="192"/>
                    </a:lnTo>
                    <a:lnTo>
                      <a:pt x="117" y="202"/>
                    </a:lnTo>
                    <a:lnTo>
                      <a:pt x="104" y="212"/>
                    </a:lnTo>
                    <a:lnTo>
                      <a:pt x="91" y="222"/>
                    </a:lnTo>
                    <a:lnTo>
                      <a:pt x="82" y="229"/>
                    </a:lnTo>
                    <a:lnTo>
                      <a:pt x="72" y="238"/>
                    </a:lnTo>
                    <a:lnTo>
                      <a:pt x="65" y="243"/>
                    </a:lnTo>
                    <a:lnTo>
                      <a:pt x="56" y="253"/>
                    </a:lnTo>
                    <a:lnTo>
                      <a:pt x="52" y="260"/>
                    </a:lnTo>
                    <a:lnTo>
                      <a:pt x="46" y="270"/>
                    </a:lnTo>
                    <a:lnTo>
                      <a:pt x="42" y="281"/>
                    </a:lnTo>
                    <a:lnTo>
                      <a:pt x="38" y="294"/>
                    </a:lnTo>
                    <a:lnTo>
                      <a:pt x="34" y="314"/>
                    </a:lnTo>
                    <a:lnTo>
                      <a:pt x="37" y="325"/>
                    </a:lnTo>
                    <a:lnTo>
                      <a:pt x="56" y="321"/>
                    </a:lnTo>
                    <a:lnTo>
                      <a:pt x="72" y="314"/>
                    </a:lnTo>
                    <a:lnTo>
                      <a:pt x="90" y="305"/>
                    </a:lnTo>
                    <a:lnTo>
                      <a:pt x="108" y="294"/>
                    </a:lnTo>
                    <a:lnTo>
                      <a:pt x="125" y="284"/>
                    </a:lnTo>
                    <a:lnTo>
                      <a:pt x="141" y="274"/>
                    </a:lnTo>
                    <a:lnTo>
                      <a:pt x="152" y="266"/>
                    </a:lnTo>
                    <a:lnTo>
                      <a:pt x="166" y="256"/>
                    </a:lnTo>
                    <a:lnTo>
                      <a:pt x="176" y="249"/>
                    </a:lnTo>
                    <a:lnTo>
                      <a:pt x="187" y="240"/>
                    </a:lnTo>
                    <a:lnTo>
                      <a:pt x="200" y="232"/>
                    </a:lnTo>
                    <a:lnTo>
                      <a:pt x="215" y="223"/>
                    </a:lnTo>
                    <a:lnTo>
                      <a:pt x="229" y="215"/>
                    </a:lnTo>
                    <a:lnTo>
                      <a:pt x="245" y="205"/>
                    </a:lnTo>
                    <a:lnTo>
                      <a:pt x="259" y="197"/>
                    </a:lnTo>
                    <a:lnTo>
                      <a:pt x="274" y="188"/>
                    </a:lnTo>
                    <a:lnTo>
                      <a:pt x="288" y="180"/>
                    </a:lnTo>
                    <a:lnTo>
                      <a:pt x="302" y="173"/>
                    </a:lnTo>
                    <a:lnTo>
                      <a:pt x="325" y="163"/>
                    </a:lnTo>
                    <a:lnTo>
                      <a:pt x="340" y="159"/>
                    </a:lnTo>
                    <a:lnTo>
                      <a:pt x="347" y="160"/>
                    </a:lnTo>
                    <a:lnTo>
                      <a:pt x="348" y="166"/>
                    </a:lnTo>
                    <a:lnTo>
                      <a:pt x="344" y="174"/>
                    </a:lnTo>
                    <a:lnTo>
                      <a:pt x="336" y="183"/>
                    </a:lnTo>
                    <a:lnTo>
                      <a:pt x="326" y="192"/>
                    </a:lnTo>
                    <a:lnTo>
                      <a:pt x="313" y="202"/>
                    </a:lnTo>
                    <a:lnTo>
                      <a:pt x="302" y="211"/>
                    </a:lnTo>
                    <a:lnTo>
                      <a:pt x="292" y="218"/>
                    </a:lnTo>
                    <a:lnTo>
                      <a:pt x="277" y="230"/>
                    </a:lnTo>
                    <a:lnTo>
                      <a:pt x="263" y="245"/>
                    </a:lnTo>
                    <a:lnTo>
                      <a:pt x="257" y="252"/>
                    </a:lnTo>
                    <a:lnTo>
                      <a:pt x="252" y="260"/>
                    </a:lnTo>
                    <a:lnTo>
                      <a:pt x="247" y="270"/>
                    </a:lnTo>
                    <a:lnTo>
                      <a:pt x="242" y="278"/>
                    </a:lnTo>
                    <a:lnTo>
                      <a:pt x="237" y="288"/>
                    </a:lnTo>
                    <a:lnTo>
                      <a:pt x="232" y="299"/>
                    </a:lnTo>
                    <a:lnTo>
                      <a:pt x="228" y="309"/>
                    </a:lnTo>
                    <a:lnTo>
                      <a:pt x="223" y="321"/>
                    </a:lnTo>
                    <a:lnTo>
                      <a:pt x="221" y="329"/>
                    </a:lnTo>
                    <a:lnTo>
                      <a:pt x="219" y="339"/>
                    </a:lnTo>
                    <a:lnTo>
                      <a:pt x="223" y="353"/>
                    </a:lnTo>
                    <a:lnTo>
                      <a:pt x="230" y="356"/>
                    </a:lnTo>
                    <a:lnTo>
                      <a:pt x="239" y="359"/>
                    </a:lnTo>
                    <a:lnTo>
                      <a:pt x="261" y="356"/>
                    </a:lnTo>
                    <a:lnTo>
                      <a:pt x="289" y="349"/>
                    </a:lnTo>
                    <a:lnTo>
                      <a:pt x="333" y="283"/>
                    </a:lnTo>
                    <a:lnTo>
                      <a:pt x="385" y="246"/>
                    </a:lnTo>
                    <a:lnTo>
                      <a:pt x="402" y="257"/>
                    </a:lnTo>
                    <a:lnTo>
                      <a:pt x="398" y="260"/>
                    </a:lnTo>
                    <a:lnTo>
                      <a:pt x="386" y="270"/>
                    </a:lnTo>
                    <a:lnTo>
                      <a:pt x="379" y="276"/>
                    </a:lnTo>
                    <a:lnTo>
                      <a:pt x="371" y="283"/>
                    </a:lnTo>
                    <a:lnTo>
                      <a:pt x="364" y="291"/>
                    </a:lnTo>
                    <a:lnTo>
                      <a:pt x="357" y="299"/>
                    </a:lnTo>
                    <a:lnTo>
                      <a:pt x="350" y="307"/>
                    </a:lnTo>
                    <a:lnTo>
                      <a:pt x="344" y="316"/>
                    </a:lnTo>
                    <a:lnTo>
                      <a:pt x="339" y="326"/>
                    </a:lnTo>
                    <a:lnTo>
                      <a:pt x="334" y="336"/>
                    </a:lnTo>
                    <a:lnTo>
                      <a:pt x="329" y="357"/>
                    </a:lnTo>
                    <a:lnTo>
                      <a:pt x="330" y="378"/>
                    </a:lnTo>
                    <a:lnTo>
                      <a:pt x="334" y="384"/>
                    </a:lnTo>
                    <a:lnTo>
                      <a:pt x="341" y="385"/>
                    </a:lnTo>
                    <a:lnTo>
                      <a:pt x="362" y="385"/>
                    </a:lnTo>
                    <a:lnTo>
                      <a:pt x="391" y="378"/>
                    </a:lnTo>
                    <a:lnTo>
                      <a:pt x="471" y="281"/>
                    </a:lnTo>
                    <a:lnTo>
                      <a:pt x="488" y="294"/>
                    </a:lnTo>
                    <a:lnTo>
                      <a:pt x="485" y="301"/>
                    </a:lnTo>
                    <a:lnTo>
                      <a:pt x="479" y="308"/>
                    </a:lnTo>
                    <a:lnTo>
                      <a:pt x="472" y="318"/>
                    </a:lnTo>
                    <a:lnTo>
                      <a:pt x="464" y="329"/>
                    </a:lnTo>
                    <a:lnTo>
                      <a:pt x="457" y="339"/>
                    </a:lnTo>
                    <a:lnTo>
                      <a:pt x="450" y="350"/>
                    </a:lnTo>
                    <a:lnTo>
                      <a:pt x="444" y="359"/>
                    </a:lnTo>
                    <a:lnTo>
                      <a:pt x="440" y="367"/>
                    </a:lnTo>
                    <a:lnTo>
                      <a:pt x="438" y="376"/>
                    </a:lnTo>
                    <a:lnTo>
                      <a:pt x="434" y="387"/>
                    </a:lnTo>
                    <a:lnTo>
                      <a:pt x="430" y="415"/>
                    </a:lnTo>
                    <a:lnTo>
                      <a:pt x="431" y="429"/>
                    </a:lnTo>
                    <a:lnTo>
                      <a:pt x="433" y="435"/>
                    </a:lnTo>
                    <a:lnTo>
                      <a:pt x="436" y="440"/>
                    </a:lnTo>
                    <a:lnTo>
                      <a:pt x="440" y="446"/>
                    </a:lnTo>
                    <a:lnTo>
                      <a:pt x="444" y="450"/>
                    </a:lnTo>
                    <a:lnTo>
                      <a:pt x="458" y="456"/>
                    </a:lnTo>
                    <a:lnTo>
                      <a:pt x="492" y="459"/>
                    </a:lnTo>
                    <a:lnTo>
                      <a:pt x="521" y="457"/>
                    </a:lnTo>
                    <a:lnTo>
                      <a:pt x="542" y="447"/>
                    </a:lnTo>
                    <a:lnTo>
                      <a:pt x="549" y="437"/>
                    </a:lnTo>
                    <a:lnTo>
                      <a:pt x="554" y="425"/>
                    </a:lnTo>
                    <a:lnTo>
                      <a:pt x="551" y="415"/>
                    </a:lnTo>
                    <a:lnTo>
                      <a:pt x="539" y="411"/>
                    </a:lnTo>
                    <a:lnTo>
                      <a:pt x="521" y="406"/>
                    </a:lnTo>
                    <a:lnTo>
                      <a:pt x="520" y="391"/>
                    </a:lnTo>
                    <a:lnTo>
                      <a:pt x="523" y="383"/>
                    </a:lnTo>
                    <a:lnTo>
                      <a:pt x="559" y="378"/>
                    </a:lnTo>
                    <a:lnTo>
                      <a:pt x="634" y="371"/>
                    </a:lnTo>
                    <a:lnTo>
                      <a:pt x="666" y="364"/>
                    </a:lnTo>
                    <a:lnTo>
                      <a:pt x="691" y="354"/>
                    </a:lnTo>
                    <a:lnTo>
                      <a:pt x="705" y="346"/>
                    </a:lnTo>
                    <a:lnTo>
                      <a:pt x="711" y="342"/>
                    </a:lnTo>
                    <a:lnTo>
                      <a:pt x="712" y="337"/>
                    </a:lnTo>
                    <a:lnTo>
                      <a:pt x="715" y="326"/>
                    </a:lnTo>
                    <a:lnTo>
                      <a:pt x="721" y="287"/>
                    </a:lnTo>
                    <a:lnTo>
                      <a:pt x="725" y="238"/>
                    </a:lnTo>
                    <a:lnTo>
                      <a:pt x="724" y="214"/>
                    </a:lnTo>
                    <a:lnTo>
                      <a:pt x="721" y="191"/>
                    </a:lnTo>
                    <a:lnTo>
                      <a:pt x="716" y="181"/>
                    </a:lnTo>
                    <a:lnTo>
                      <a:pt x="714" y="170"/>
                    </a:lnTo>
                    <a:lnTo>
                      <a:pt x="711" y="160"/>
                    </a:lnTo>
                    <a:lnTo>
                      <a:pt x="708" y="149"/>
                    </a:lnTo>
                    <a:lnTo>
                      <a:pt x="705" y="139"/>
                    </a:lnTo>
                    <a:lnTo>
                      <a:pt x="702" y="129"/>
                    </a:lnTo>
                    <a:lnTo>
                      <a:pt x="700" y="119"/>
                    </a:lnTo>
                    <a:lnTo>
                      <a:pt x="697" y="109"/>
                    </a:lnTo>
                    <a:lnTo>
                      <a:pt x="694" y="100"/>
                    </a:lnTo>
                    <a:lnTo>
                      <a:pt x="690" y="92"/>
                    </a:lnTo>
                    <a:lnTo>
                      <a:pt x="687" y="84"/>
                    </a:lnTo>
                    <a:lnTo>
                      <a:pt x="686" y="77"/>
                    </a:lnTo>
                    <a:lnTo>
                      <a:pt x="680" y="66"/>
                    </a:lnTo>
                    <a:lnTo>
                      <a:pt x="676" y="59"/>
                    </a:lnTo>
                    <a:lnTo>
                      <a:pt x="670" y="52"/>
                    </a:lnTo>
                    <a:lnTo>
                      <a:pt x="663" y="43"/>
                    </a:lnTo>
                    <a:lnTo>
                      <a:pt x="655" y="35"/>
                    </a:lnTo>
                    <a:lnTo>
                      <a:pt x="648" y="25"/>
                    </a:lnTo>
                    <a:lnTo>
                      <a:pt x="639" y="8"/>
                    </a:lnTo>
                    <a:lnTo>
                      <a:pt x="641" y="2"/>
                    </a:lnTo>
                    <a:lnTo>
                      <a:pt x="648" y="0"/>
                    </a:lnTo>
                    <a:lnTo>
                      <a:pt x="667" y="4"/>
                    </a:lnTo>
                    <a:lnTo>
                      <a:pt x="683" y="14"/>
                    </a:lnTo>
                    <a:lnTo>
                      <a:pt x="690" y="21"/>
                    </a:lnTo>
                    <a:lnTo>
                      <a:pt x="697" y="29"/>
                    </a:lnTo>
                    <a:lnTo>
                      <a:pt x="704" y="38"/>
                    </a:lnTo>
                    <a:lnTo>
                      <a:pt x="711" y="47"/>
                    </a:lnTo>
                    <a:lnTo>
                      <a:pt x="719" y="56"/>
                    </a:lnTo>
                    <a:lnTo>
                      <a:pt x="728" y="67"/>
                    </a:lnTo>
                    <a:lnTo>
                      <a:pt x="736" y="77"/>
                    </a:lnTo>
                    <a:lnTo>
                      <a:pt x="746" y="88"/>
                    </a:lnTo>
                    <a:lnTo>
                      <a:pt x="753" y="101"/>
                    </a:lnTo>
                    <a:lnTo>
                      <a:pt x="760" y="114"/>
                    </a:lnTo>
                    <a:lnTo>
                      <a:pt x="766" y="126"/>
                    </a:lnTo>
                    <a:lnTo>
                      <a:pt x="768" y="139"/>
                    </a:lnTo>
                    <a:lnTo>
                      <a:pt x="773" y="166"/>
                    </a:lnTo>
                    <a:lnTo>
                      <a:pt x="777" y="195"/>
                    </a:lnTo>
                    <a:lnTo>
                      <a:pt x="783" y="252"/>
                    </a:lnTo>
                    <a:lnTo>
                      <a:pt x="783" y="333"/>
                    </a:lnTo>
                    <a:lnTo>
                      <a:pt x="781" y="349"/>
                    </a:lnTo>
                    <a:lnTo>
                      <a:pt x="780" y="356"/>
                    </a:lnTo>
                    <a:lnTo>
                      <a:pt x="777" y="364"/>
                    </a:lnTo>
                    <a:lnTo>
                      <a:pt x="774" y="373"/>
                    </a:lnTo>
                    <a:lnTo>
                      <a:pt x="771" y="381"/>
                    </a:lnTo>
                    <a:lnTo>
                      <a:pt x="767" y="390"/>
                    </a:lnTo>
                    <a:lnTo>
                      <a:pt x="761" y="399"/>
                    </a:lnTo>
                    <a:lnTo>
                      <a:pt x="756" y="408"/>
                    </a:lnTo>
                    <a:lnTo>
                      <a:pt x="747" y="419"/>
                    </a:lnTo>
                    <a:lnTo>
                      <a:pt x="743" y="425"/>
                    </a:lnTo>
                    <a:lnTo>
                      <a:pt x="738" y="430"/>
                    </a:lnTo>
                    <a:lnTo>
                      <a:pt x="732" y="437"/>
                    </a:lnTo>
                    <a:lnTo>
                      <a:pt x="725" y="443"/>
                    </a:lnTo>
                    <a:lnTo>
                      <a:pt x="719" y="449"/>
                    </a:lnTo>
                    <a:lnTo>
                      <a:pt x="712" y="456"/>
                    </a:lnTo>
                    <a:lnTo>
                      <a:pt x="700" y="466"/>
                    </a:lnTo>
                    <a:lnTo>
                      <a:pt x="687" y="474"/>
                    </a:lnTo>
                    <a:lnTo>
                      <a:pt x="674" y="480"/>
                    </a:lnTo>
                    <a:lnTo>
                      <a:pt x="641" y="488"/>
                    </a:lnTo>
                    <a:lnTo>
                      <a:pt x="596" y="497"/>
                    </a:lnTo>
                    <a:lnTo>
                      <a:pt x="555" y="502"/>
                    </a:lnTo>
                    <a:lnTo>
                      <a:pt x="538" y="505"/>
                    </a:lnTo>
                    <a:lnTo>
                      <a:pt x="537" y="466"/>
                    </a:lnTo>
                    <a:lnTo>
                      <a:pt x="534" y="468"/>
                    </a:lnTo>
                    <a:lnTo>
                      <a:pt x="527" y="474"/>
                    </a:lnTo>
                    <a:lnTo>
                      <a:pt x="516" y="480"/>
                    </a:lnTo>
                    <a:lnTo>
                      <a:pt x="500" y="484"/>
                    </a:lnTo>
                    <a:lnTo>
                      <a:pt x="452" y="483"/>
                    </a:lnTo>
                    <a:lnTo>
                      <a:pt x="417" y="475"/>
                    </a:lnTo>
                    <a:lnTo>
                      <a:pt x="412" y="463"/>
                    </a:lnTo>
                    <a:lnTo>
                      <a:pt x="410" y="442"/>
                    </a:lnTo>
                    <a:lnTo>
                      <a:pt x="410" y="423"/>
                    </a:lnTo>
                    <a:lnTo>
                      <a:pt x="410" y="416"/>
                    </a:lnTo>
                    <a:lnTo>
                      <a:pt x="399" y="421"/>
                    </a:lnTo>
                    <a:lnTo>
                      <a:pt x="385" y="425"/>
                    </a:lnTo>
                    <a:lnTo>
                      <a:pt x="365" y="428"/>
                    </a:lnTo>
                    <a:lnTo>
                      <a:pt x="323" y="423"/>
                    </a:lnTo>
                    <a:lnTo>
                      <a:pt x="302" y="418"/>
                    </a:lnTo>
                    <a:lnTo>
                      <a:pt x="298" y="390"/>
                    </a:lnTo>
                    <a:lnTo>
                      <a:pt x="246" y="392"/>
                    </a:lnTo>
                    <a:lnTo>
                      <a:pt x="226" y="390"/>
                    </a:lnTo>
                    <a:lnTo>
                      <a:pt x="208" y="383"/>
                    </a:lnTo>
                    <a:lnTo>
                      <a:pt x="194" y="373"/>
                    </a:lnTo>
                    <a:lnTo>
                      <a:pt x="186" y="368"/>
                    </a:lnTo>
                    <a:lnTo>
                      <a:pt x="183" y="360"/>
                    </a:lnTo>
                    <a:lnTo>
                      <a:pt x="183" y="346"/>
                    </a:lnTo>
                    <a:lnTo>
                      <a:pt x="184" y="333"/>
                    </a:lnTo>
                    <a:lnTo>
                      <a:pt x="186" y="326"/>
                    </a:lnTo>
                    <a:lnTo>
                      <a:pt x="204" y="285"/>
                    </a:lnTo>
                    <a:lnTo>
                      <a:pt x="198" y="290"/>
                    </a:lnTo>
                    <a:lnTo>
                      <a:pt x="184" y="299"/>
                    </a:lnTo>
                    <a:lnTo>
                      <a:pt x="176" y="305"/>
                    </a:lnTo>
                    <a:lnTo>
                      <a:pt x="167" y="311"/>
                    </a:lnTo>
                    <a:lnTo>
                      <a:pt x="152" y="321"/>
                    </a:lnTo>
                    <a:lnTo>
                      <a:pt x="136" y="330"/>
                    </a:lnTo>
                    <a:lnTo>
                      <a:pt x="118" y="340"/>
                    </a:lnTo>
                    <a:lnTo>
                      <a:pt x="98" y="350"/>
                    </a:lnTo>
                    <a:lnTo>
                      <a:pt x="83" y="356"/>
                    </a:lnTo>
                    <a:lnTo>
                      <a:pt x="41" y="359"/>
                    </a:lnTo>
                    <a:lnTo>
                      <a:pt x="20" y="356"/>
                    </a:lnTo>
                    <a:lnTo>
                      <a:pt x="6" y="346"/>
                    </a:lnTo>
                    <a:lnTo>
                      <a:pt x="1" y="339"/>
                    </a:lnTo>
                    <a:lnTo>
                      <a:pt x="0" y="329"/>
                    </a:lnTo>
                    <a:lnTo>
                      <a:pt x="0" y="316"/>
                    </a:lnTo>
                    <a:lnTo>
                      <a:pt x="3" y="304"/>
                    </a:lnTo>
                    <a:lnTo>
                      <a:pt x="4" y="297"/>
                    </a:lnTo>
                    <a:lnTo>
                      <a:pt x="6" y="288"/>
                    </a:lnTo>
                    <a:lnTo>
                      <a:pt x="11" y="274"/>
                    </a:lnTo>
                    <a:lnTo>
                      <a:pt x="16" y="267"/>
                    </a:lnTo>
                    <a:lnTo>
                      <a:pt x="20" y="260"/>
                    </a:lnTo>
                    <a:lnTo>
                      <a:pt x="24" y="252"/>
                    </a:lnTo>
                    <a:lnTo>
                      <a:pt x="30" y="246"/>
                    </a:lnTo>
                    <a:lnTo>
                      <a:pt x="37" y="238"/>
                    </a:lnTo>
                    <a:lnTo>
                      <a:pt x="45" y="229"/>
                    </a:lnTo>
                    <a:lnTo>
                      <a:pt x="55" y="219"/>
                    </a:lnTo>
                    <a:lnTo>
                      <a:pt x="66" y="209"/>
                    </a:lnTo>
                    <a:lnTo>
                      <a:pt x="79" y="198"/>
                    </a:lnTo>
                    <a:lnTo>
                      <a:pt x="93" y="187"/>
                    </a:lnTo>
                    <a:lnTo>
                      <a:pt x="105" y="174"/>
                    </a:lnTo>
                    <a:lnTo>
                      <a:pt x="119" y="163"/>
                    </a:lnTo>
                    <a:lnTo>
                      <a:pt x="135" y="152"/>
                    </a:lnTo>
                    <a:lnTo>
                      <a:pt x="148" y="140"/>
                    </a:lnTo>
                    <a:lnTo>
                      <a:pt x="162" y="131"/>
                    </a:lnTo>
                    <a:lnTo>
                      <a:pt x="174" y="121"/>
                    </a:lnTo>
                    <a:lnTo>
                      <a:pt x="186" y="112"/>
                    </a:lnTo>
                    <a:lnTo>
                      <a:pt x="195" y="105"/>
                    </a:lnTo>
                    <a:lnTo>
                      <a:pt x="209" y="97"/>
                    </a:lnTo>
                    <a:lnTo>
                      <a:pt x="223" y="90"/>
                    </a:lnTo>
                    <a:lnTo>
                      <a:pt x="245" y="80"/>
                    </a:lnTo>
                    <a:lnTo>
                      <a:pt x="271" y="69"/>
                    </a:lnTo>
                    <a:lnTo>
                      <a:pt x="285" y="62"/>
                    </a:lnTo>
                    <a:lnTo>
                      <a:pt x="301" y="56"/>
                    </a:lnTo>
                    <a:lnTo>
                      <a:pt x="316" y="50"/>
                    </a:lnTo>
                    <a:lnTo>
                      <a:pt x="332" y="43"/>
                    </a:lnTo>
                    <a:lnTo>
                      <a:pt x="365" y="33"/>
                    </a:lnTo>
                    <a:lnTo>
                      <a:pt x="396" y="23"/>
                    </a:lnTo>
                    <a:lnTo>
                      <a:pt x="426" y="19"/>
                    </a:lnTo>
                    <a:lnTo>
                      <a:pt x="480" y="14"/>
                    </a:lnTo>
                    <a:lnTo>
                      <a:pt x="530" y="11"/>
                    </a:lnTo>
                    <a:lnTo>
                      <a:pt x="596" y="11"/>
                    </a:lnTo>
                    <a:lnTo>
                      <a:pt x="610" y="16"/>
                    </a:lnTo>
                    <a:lnTo>
                      <a:pt x="615" y="25"/>
                    </a:lnTo>
                    <a:lnTo>
                      <a:pt x="617" y="33"/>
                    </a:lnTo>
                    <a:lnTo>
                      <a:pt x="615" y="38"/>
                    </a:lnTo>
                    <a:lnTo>
                      <a:pt x="615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167680" y="4692600"/>
                <a:ext cx="304920" cy="561960"/>
              </a:xfrm>
              <a:custGeom>
                <a:avLst/>
                <a:gdLst/>
                <a:ahLst/>
                <a:rect l="l" t="t" r="r" b="b"/>
                <a:pathLst>
                  <a:path w="388" h="712">
                    <a:moveTo>
                      <a:pt x="2" y="16"/>
                    </a:moveTo>
                    <a:lnTo>
                      <a:pt x="20" y="19"/>
                    </a:lnTo>
                    <a:lnTo>
                      <a:pt x="65" y="26"/>
                    </a:lnTo>
                    <a:lnTo>
                      <a:pt x="117" y="37"/>
                    </a:lnTo>
                    <a:lnTo>
                      <a:pt x="162" y="51"/>
                    </a:lnTo>
                    <a:lnTo>
                      <a:pt x="177" y="58"/>
                    </a:lnTo>
                    <a:lnTo>
                      <a:pt x="193" y="67"/>
                    </a:lnTo>
                    <a:lnTo>
                      <a:pt x="205" y="76"/>
                    </a:lnTo>
                    <a:lnTo>
                      <a:pt x="218" y="86"/>
                    </a:lnTo>
                    <a:lnTo>
                      <a:pt x="229" y="96"/>
                    </a:lnTo>
                    <a:lnTo>
                      <a:pt x="240" y="106"/>
                    </a:lnTo>
                    <a:lnTo>
                      <a:pt x="250" y="117"/>
                    </a:lnTo>
                    <a:lnTo>
                      <a:pt x="259" y="127"/>
                    </a:lnTo>
                    <a:lnTo>
                      <a:pt x="269" y="141"/>
                    </a:lnTo>
                    <a:lnTo>
                      <a:pt x="273" y="150"/>
                    </a:lnTo>
                    <a:lnTo>
                      <a:pt x="278" y="160"/>
                    </a:lnTo>
                    <a:lnTo>
                      <a:pt x="283" y="169"/>
                    </a:lnTo>
                    <a:lnTo>
                      <a:pt x="288" y="181"/>
                    </a:lnTo>
                    <a:lnTo>
                      <a:pt x="292" y="192"/>
                    </a:lnTo>
                    <a:lnTo>
                      <a:pt x="297" y="203"/>
                    </a:lnTo>
                    <a:lnTo>
                      <a:pt x="301" y="216"/>
                    </a:lnTo>
                    <a:lnTo>
                      <a:pt x="305" y="227"/>
                    </a:lnTo>
                    <a:lnTo>
                      <a:pt x="309" y="238"/>
                    </a:lnTo>
                    <a:lnTo>
                      <a:pt x="312" y="250"/>
                    </a:lnTo>
                    <a:lnTo>
                      <a:pt x="315" y="260"/>
                    </a:lnTo>
                    <a:lnTo>
                      <a:pt x="318" y="269"/>
                    </a:lnTo>
                    <a:lnTo>
                      <a:pt x="320" y="278"/>
                    </a:lnTo>
                    <a:lnTo>
                      <a:pt x="322" y="285"/>
                    </a:lnTo>
                    <a:lnTo>
                      <a:pt x="323" y="292"/>
                    </a:lnTo>
                    <a:lnTo>
                      <a:pt x="325" y="299"/>
                    </a:lnTo>
                    <a:lnTo>
                      <a:pt x="326" y="306"/>
                    </a:lnTo>
                    <a:lnTo>
                      <a:pt x="329" y="313"/>
                    </a:lnTo>
                    <a:lnTo>
                      <a:pt x="335" y="347"/>
                    </a:lnTo>
                    <a:lnTo>
                      <a:pt x="339" y="386"/>
                    </a:lnTo>
                    <a:lnTo>
                      <a:pt x="340" y="438"/>
                    </a:lnTo>
                    <a:lnTo>
                      <a:pt x="339" y="454"/>
                    </a:lnTo>
                    <a:lnTo>
                      <a:pt x="336" y="468"/>
                    </a:lnTo>
                    <a:lnTo>
                      <a:pt x="333" y="475"/>
                    </a:lnTo>
                    <a:lnTo>
                      <a:pt x="332" y="482"/>
                    </a:lnTo>
                    <a:lnTo>
                      <a:pt x="329" y="489"/>
                    </a:lnTo>
                    <a:lnTo>
                      <a:pt x="326" y="496"/>
                    </a:lnTo>
                    <a:lnTo>
                      <a:pt x="323" y="502"/>
                    </a:lnTo>
                    <a:lnTo>
                      <a:pt x="320" y="509"/>
                    </a:lnTo>
                    <a:lnTo>
                      <a:pt x="313" y="521"/>
                    </a:lnTo>
                    <a:lnTo>
                      <a:pt x="309" y="527"/>
                    </a:lnTo>
                    <a:lnTo>
                      <a:pt x="306" y="534"/>
                    </a:lnTo>
                    <a:lnTo>
                      <a:pt x="298" y="545"/>
                    </a:lnTo>
                    <a:lnTo>
                      <a:pt x="290" y="555"/>
                    </a:lnTo>
                    <a:lnTo>
                      <a:pt x="283" y="565"/>
                    </a:lnTo>
                    <a:lnTo>
                      <a:pt x="274" y="575"/>
                    </a:lnTo>
                    <a:lnTo>
                      <a:pt x="267" y="583"/>
                    </a:lnTo>
                    <a:lnTo>
                      <a:pt x="254" y="596"/>
                    </a:lnTo>
                    <a:lnTo>
                      <a:pt x="246" y="606"/>
                    </a:lnTo>
                    <a:lnTo>
                      <a:pt x="235" y="613"/>
                    </a:lnTo>
                    <a:lnTo>
                      <a:pt x="219" y="620"/>
                    </a:lnTo>
                    <a:lnTo>
                      <a:pt x="201" y="627"/>
                    </a:lnTo>
                    <a:lnTo>
                      <a:pt x="179" y="634"/>
                    </a:lnTo>
                    <a:lnTo>
                      <a:pt x="156" y="641"/>
                    </a:lnTo>
                    <a:lnTo>
                      <a:pt x="135" y="647"/>
                    </a:lnTo>
                    <a:lnTo>
                      <a:pt x="100" y="652"/>
                    </a:lnTo>
                    <a:lnTo>
                      <a:pt x="45" y="654"/>
                    </a:lnTo>
                    <a:lnTo>
                      <a:pt x="51" y="712"/>
                    </a:lnTo>
                    <a:lnTo>
                      <a:pt x="111" y="710"/>
                    </a:lnTo>
                    <a:lnTo>
                      <a:pt x="166" y="702"/>
                    </a:lnTo>
                    <a:lnTo>
                      <a:pt x="222" y="682"/>
                    </a:lnTo>
                    <a:lnTo>
                      <a:pt x="233" y="675"/>
                    </a:lnTo>
                    <a:lnTo>
                      <a:pt x="245" y="668"/>
                    </a:lnTo>
                    <a:lnTo>
                      <a:pt x="266" y="658"/>
                    </a:lnTo>
                    <a:lnTo>
                      <a:pt x="284" y="647"/>
                    </a:lnTo>
                    <a:lnTo>
                      <a:pt x="299" y="635"/>
                    </a:lnTo>
                    <a:lnTo>
                      <a:pt x="313" y="621"/>
                    </a:lnTo>
                    <a:lnTo>
                      <a:pt x="320" y="614"/>
                    </a:lnTo>
                    <a:lnTo>
                      <a:pt x="326" y="606"/>
                    </a:lnTo>
                    <a:lnTo>
                      <a:pt x="333" y="596"/>
                    </a:lnTo>
                    <a:lnTo>
                      <a:pt x="339" y="585"/>
                    </a:lnTo>
                    <a:lnTo>
                      <a:pt x="346" y="572"/>
                    </a:lnTo>
                    <a:lnTo>
                      <a:pt x="353" y="558"/>
                    </a:lnTo>
                    <a:lnTo>
                      <a:pt x="356" y="550"/>
                    </a:lnTo>
                    <a:lnTo>
                      <a:pt x="358" y="543"/>
                    </a:lnTo>
                    <a:lnTo>
                      <a:pt x="361" y="535"/>
                    </a:lnTo>
                    <a:lnTo>
                      <a:pt x="364" y="527"/>
                    </a:lnTo>
                    <a:lnTo>
                      <a:pt x="367" y="520"/>
                    </a:lnTo>
                    <a:lnTo>
                      <a:pt x="368" y="513"/>
                    </a:lnTo>
                    <a:lnTo>
                      <a:pt x="371" y="506"/>
                    </a:lnTo>
                    <a:lnTo>
                      <a:pt x="372" y="499"/>
                    </a:lnTo>
                    <a:lnTo>
                      <a:pt x="375" y="492"/>
                    </a:lnTo>
                    <a:lnTo>
                      <a:pt x="377" y="485"/>
                    </a:lnTo>
                    <a:lnTo>
                      <a:pt x="378" y="478"/>
                    </a:lnTo>
                    <a:lnTo>
                      <a:pt x="379" y="471"/>
                    </a:lnTo>
                    <a:lnTo>
                      <a:pt x="384" y="447"/>
                    </a:lnTo>
                    <a:lnTo>
                      <a:pt x="388" y="407"/>
                    </a:lnTo>
                    <a:lnTo>
                      <a:pt x="388" y="389"/>
                    </a:lnTo>
                    <a:lnTo>
                      <a:pt x="382" y="331"/>
                    </a:lnTo>
                    <a:lnTo>
                      <a:pt x="379" y="319"/>
                    </a:lnTo>
                    <a:lnTo>
                      <a:pt x="378" y="312"/>
                    </a:lnTo>
                    <a:lnTo>
                      <a:pt x="375" y="305"/>
                    </a:lnTo>
                    <a:lnTo>
                      <a:pt x="371" y="289"/>
                    </a:lnTo>
                    <a:lnTo>
                      <a:pt x="368" y="281"/>
                    </a:lnTo>
                    <a:lnTo>
                      <a:pt x="365" y="272"/>
                    </a:lnTo>
                    <a:lnTo>
                      <a:pt x="363" y="262"/>
                    </a:lnTo>
                    <a:lnTo>
                      <a:pt x="358" y="254"/>
                    </a:lnTo>
                    <a:lnTo>
                      <a:pt x="356" y="244"/>
                    </a:lnTo>
                    <a:lnTo>
                      <a:pt x="351" y="234"/>
                    </a:lnTo>
                    <a:lnTo>
                      <a:pt x="346" y="224"/>
                    </a:lnTo>
                    <a:lnTo>
                      <a:pt x="342" y="214"/>
                    </a:lnTo>
                    <a:lnTo>
                      <a:pt x="336" y="203"/>
                    </a:lnTo>
                    <a:lnTo>
                      <a:pt x="330" y="192"/>
                    </a:lnTo>
                    <a:lnTo>
                      <a:pt x="323" y="181"/>
                    </a:lnTo>
                    <a:lnTo>
                      <a:pt x="318" y="171"/>
                    </a:lnTo>
                    <a:lnTo>
                      <a:pt x="311" y="161"/>
                    </a:lnTo>
                    <a:lnTo>
                      <a:pt x="305" y="151"/>
                    </a:lnTo>
                    <a:lnTo>
                      <a:pt x="298" y="141"/>
                    </a:lnTo>
                    <a:lnTo>
                      <a:pt x="291" y="133"/>
                    </a:lnTo>
                    <a:lnTo>
                      <a:pt x="285" y="124"/>
                    </a:lnTo>
                    <a:lnTo>
                      <a:pt x="278" y="117"/>
                    </a:lnTo>
                    <a:lnTo>
                      <a:pt x="271" y="109"/>
                    </a:lnTo>
                    <a:lnTo>
                      <a:pt x="266" y="102"/>
                    </a:lnTo>
                    <a:lnTo>
                      <a:pt x="259" y="95"/>
                    </a:lnTo>
                    <a:lnTo>
                      <a:pt x="253" y="89"/>
                    </a:lnTo>
                    <a:lnTo>
                      <a:pt x="246" y="83"/>
                    </a:lnTo>
                    <a:lnTo>
                      <a:pt x="239" y="78"/>
                    </a:lnTo>
                    <a:lnTo>
                      <a:pt x="226" y="67"/>
                    </a:lnTo>
                    <a:lnTo>
                      <a:pt x="215" y="58"/>
                    </a:lnTo>
                    <a:lnTo>
                      <a:pt x="202" y="50"/>
                    </a:lnTo>
                    <a:lnTo>
                      <a:pt x="191" y="44"/>
                    </a:lnTo>
                    <a:lnTo>
                      <a:pt x="180" y="38"/>
                    </a:lnTo>
                    <a:lnTo>
                      <a:pt x="160" y="29"/>
                    </a:lnTo>
                    <a:lnTo>
                      <a:pt x="145" y="23"/>
                    </a:lnTo>
                    <a:lnTo>
                      <a:pt x="113" y="15"/>
                    </a:lnTo>
                    <a:lnTo>
                      <a:pt x="75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505560" y="4532400"/>
                <a:ext cx="79560" cy="117360"/>
              </a:xfrm>
              <a:custGeom>
                <a:avLst/>
                <a:gdLst/>
                <a:ahLst/>
                <a:rect l="l" t="t" r="r" b="b"/>
                <a:pathLst>
                  <a:path w="101" h="149">
                    <a:moveTo>
                      <a:pt x="97" y="28"/>
                    </a:moveTo>
                    <a:lnTo>
                      <a:pt x="92" y="34"/>
                    </a:lnTo>
                    <a:lnTo>
                      <a:pt x="87" y="39"/>
                    </a:lnTo>
                    <a:lnTo>
                      <a:pt x="81" y="46"/>
                    </a:lnTo>
                    <a:lnTo>
                      <a:pt x="74" y="53"/>
                    </a:lnTo>
                    <a:lnTo>
                      <a:pt x="69" y="60"/>
                    </a:lnTo>
                    <a:lnTo>
                      <a:pt x="62" y="69"/>
                    </a:lnTo>
                    <a:lnTo>
                      <a:pt x="56" y="77"/>
                    </a:lnTo>
                    <a:lnTo>
                      <a:pt x="52" y="86"/>
                    </a:lnTo>
                    <a:lnTo>
                      <a:pt x="47" y="96"/>
                    </a:lnTo>
                    <a:lnTo>
                      <a:pt x="42" y="105"/>
                    </a:lnTo>
                    <a:lnTo>
                      <a:pt x="39" y="112"/>
                    </a:lnTo>
                    <a:lnTo>
                      <a:pt x="35" y="118"/>
                    </a:lnTo>
                    <a:lnTo>
                      <a:pt x="28" y="129"/>
                    </a:lnTo>
                    <a:lnTo>
                      <a:pt x="21" y="138"/>
                    </a:lnTo>
                    <a:lnTo>
                      <a:pt x="14" y="146"/>
                    </a:lnTo>
                    <a:lnTo>
                      <a:pt x="4" y="149"/>
                    </a:lnTo>
                    <a:lnTo>
                      <a:pt x="0" y="136"/>
                    </a:lnTo>
                    <a:lnTo>
                      <a:pt x="1" y="127"/>
                    </a:lnTo>
                    <a:lnTo>
                      <a:pt x="3" y="121"/>
                    </a:lnTo>
                    <a:lnTo>
                      <a:pt x="5" y="114"/>
                    </a:lnTo>
                    <a:lnTo>
                      <a:pt x="7" y="108"/>
                    </a:lnTo>
                    <a:lnTo>
                      <a:pt x="10" y="101"/>
                    </a:lnTo>
                    <a:lnTo>
                      <a:pt x="12" y="94"/>
                    </a:lnTo>
                    <a:lnTo>
                      <a:pt x="17" y="87"/>
                    </a:lnTo>
                    <a:lnTo>
                      <a:pt x="24" y="72"/>
                    </a:lnTo>
                    <a:lnTo>
                      <a:pt x="29" y="65"/>
                    </a:lnTo>
                    <a:lnTo>
                      <a:pt x="33" y="58"/>
                    </a:lnTo>
                    <a:lnTo>
                      <a:pt x="39" y="49"/>
                    </a:lnTo>
                    <a:lnTo>
                      <a:pt x="43" y="43"/>
                    </a:lnTo>
                    <a:lnTo>
                      <a:pt x="49" y="36"/>
                    </a:lnTo>
                    <a:lnTo>
                      <a:pt x="55" y="31"/>
                    </a:lnTo>
                    <a:lnTo>
                      <a:pt x="66" y="21"/>
                    </a:lnTo>
                    <a:lnTo>
                      <a:pt x="76" y="14"/>
                    </a:lnTo>
                    <a:lnTo>
                      <a:pt x="92" y="3"/>
                    </a:lnTo>
                    <a:lnTo>
                      <a:pt x="99" y="0"/>
                    </a:lnTo>
                    <a:lnTo>
                      <a:pt x="101" y="10"/>
                    </a:lnTo>
                    <a:lnTo>
                      <a:pt x="99" y="20"/>
                    </a:lnTo>
                    <a:lnTo>
                      <a:pt x="98" y="24"/>
                    </a:lnTo>
                    <a:lnTo>
                      <a:pt x="97" y="28"/>
                    </a:lnTo>
                    <a:lnTo>
                      <a:pt x="9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69000" y="4602240"/>
                <a:ext cx="42840" cy="149040"/>
              </a:xfrm>
              <a:custGeom>
                <a:avLst/>
                <a:gdLst/>
                <a:ahLst/>
                <a:rect l="l" t="t" r="r" b="b"/>
                <a:pathLst>
                  <a:path w="54" h="189">
                    <a:moveTo>
                      <a:pt x="54" y="20"/>
                    </a:moveTo>
                    <a:lnTo>
                      <a:pt x="52" y="69"/>
                    </a:lnTo>
                    <a:lnTo>
                      <a:pt x="50" y="135"/>
                    </a:lnTo>
                    <a:lnTo>
                      <a:pt x="50" y="170"/>
                    </a:lnTo>
                    <a:lnTo>
                      <a:pt x="49" y="189"/>
                    </a:lnTo>
                    <a:lnTo>
                      <a:pt x="25" y="179"/>
                    </a:lnTo>
                    <a:lnTo>
                      <a:pt x="21" y="172"/>
                    </a:lnTo>
                    <a:lnTo>
                      <a:pt x="16" y="165"/>
                    </a:lnTo>
                    <a:lnTo>
                      <a:pt x="12" y="155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0" y="100"/>
                    </a:lnTo>
                    <a:lnTo>
                      <a:pt x="2" y="72"/>
                    </a:lnTo>
                    <a:lnTo>
                      <a:pt x="7" y="48"/>
                    </a:lnTo>
                    <a:lnTo>
                      <a:pt x="8" y="42"/>
                    </a:lnTo>
                    <a:lnTo>
                      <a:pt x="9" y="37"/>
                    </a:lnTo>
                    <a:lnTo>
                      <a:pt x="14" y="27"/>
                    </a:lnTo>
                    <a:lnTo>
                      <a:pt x="18" y="17"/>
                    </a:lnTo>
                    <a:lnTo>
                      <a:pt x="22" y="8"/>
                    </a:lnTo>
                    <a:lnTo>
                      <a:pt x="28" y="3"/>
                    </a:lnTo>
                    <a:lnTo>
                      <a:pt x="33" y="0"/>
                    </a:lnTo>
                    <a:lnTo>
                      <a:pt x="43" y="6"/>
                    </a:lnTo>
                    <a:lnTo>
                      <a:pt x="52" y="14"/>
                    </a:lnTo>
                    <a:lnTo>
                      <a:pt x="54" y="20"/>
                    </a:lnTo>
                    <a:lnTo>
                      <a:pt x="5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808680" y="4573440"/>
                <a:ext cx="100080" cy="120960"/>
              </a:xfrm>
              <a:custGeom>
                <a:avLst/>
                <a:gdLst/>
                <a:ahLst/>
                <a:rect l="l" t="t" r="r" b="b"/>
                <a:pathLst>
                  <a:path w="127" h="152">
                    <a:moveTo>
                      <a:pt x="30" y="0"/>
                    </a:moveTo>
                    <a:lnTo>
                      <a:pt x="33" y="6"/>
                    </a:lnTo>
                    <a:lnTo>
                      <a:pt x="38" y="12"/>
                    </a:lnTo>
                    <a:lnTo>
                      <a:pt x="44" y="20"/>
                    </a:lnTo>
                    <a:lnTo>
                      <a:pt x="51" y="30"/>
                    </a:lnTo>
                    <a:lnTo>
                      <a:pt x="58" y="41"/>
                    </a:lnTo>
                    <a:lnTo>
                      <a:pt x="66" y="52"/>
                    </a:lnTo>
                    <a:lnTo>
                      <a:pt x="75" y="65"/>
                    </a:lnTo>
                    <a:lnTo>
                      <a:pt x="79" y="71"/>
                    </a:lnTo>
                    <a:lnTo>
                      <a:pt x="83" y="78"/>
                    </a:lnTo>
                    <a:lnTo>
                      <a:pt x="93" y="88"/>
                    </a:lnTo>
                    <a:lnTo>
                      <a:pt x="102" y="98"/>
                    </a:lnTo>
                    <a:lnTo>
                      <a:pt x="110" y="106"/>
                    </a:lnTo>
                    <a:lnTo>
                      <a:pt x="123" y="120"/>
                    </a:lnTo>
                    <a:lnTo>
                      <a:pt x="125" y="127"/>
                    </a:lnTo>
                    <a:lnTo>
                      <a:pt x="127" y="133"/>
                    </a:lnTo>
                    <a:lnTo>
                      <a:pt x="125" y="140"/>
                    </a:lnTo>
                    <a:lnTo>
                      <a:pt x="124" y="144"/>
                    </a:lnTo>
                    <a:lnTo>
                      <a:pt x="118" y="150"/>
                    </a:lnTo>
                    <a:lnTo>
                      <a:pt x="102" y="152"/>
                    </a:lnTo>
                    <a:lnTo>
                      <a:pt x="89" y="145"/>
                    </a:lnTo>
                    <a:lnTo>
                      <a:pt x="79" y="138"/>
                    </a:lnTo>
                    <a:lnTo>
                      <a:pt x="69" y="130"/>
                    </a:lnTo>
                    <a:lnTo>
                      <a:pt x="61" y="123"/>
                    </a:lnTo>
                    <a:lnTo>
                      <a:pt x="52" y="114"/>
                    </a:lnTo>
                    <a:lnTo>
                      <a:pt x="41" y="105"/>
                    </a:lnTo>
                    <a:lnTo>
                      <a:pt x="31" y="95"/>
                    </a:lnTo>
                    <a:lnTo>
                      <a:pt x="26" y="86"/>
                    </a:lnTo>
                    <a:lnTo>
                      <a:pt x="19" y="78"/>
                    </a:lnTo>
                    <a:lnTo>
                      <a:pt x="12" y="68"/>
                    </a:lnTo>
                    <a:lnTo>
                      <a:pt x="6" y="57"/>
                    </a:lnTo>
                    <a:lnTo>
                      <a:pt x="2" y="47"/>
                    </a:lnTo>
                    <a:lnTo>
                      <a:pt x="0" y="37"/>
                    </a:lnTo>
                    <a:lnTo>
                      <a:pt x="2" y="29"/>
                    </a:lnTo>
                    <a:lnTo>
                      <a:pt x="6" y="21"/>
                    </a:lnTo>
                    <a:lnTo>
                      <a:pt x="10" y="14"/>
                    </a:lnTo>
                    <a:lnTo>
                      <a:pt x="14" y="10"/>
                    </a:lnTo>
                    <a:lnTo>
                      <a:pt x="24" y="3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954840" y="4533840"/>
                <a:ext cx="108000" cy="54000"/>
              </a:xfrm>
              <a:custGeom>
                <a:avLst/>
                <a:gdLst/>
                <a:ahLst/>
                <a:rect l="l" t="t" r="r" b="b"/>
                <a:pathLst>
                  <a:path w="136" h="69">
                    <a:moveTo>
                      <a:pt x="14" y="0"/>
                    </a:moveTo>
                    <a:lnTo>
                      <a:pt x="24" y="7"/>
                    </a:lnTo>
                    <a:lnTo>
                      <a:pt x="31" y="14"/>
                    </a:lnTo>
                    <a:lnTo>
                      <a:pt x="39" y="21"/>
                    </a:lnTo>
                    <a:lnTo>
                      <a:pt x="48" y="28"/>
                    </a:lnTo>
                    <a:lnTo>
                      <a:pt x="56" y="34"/>
                    </a:lnTo>
                    <a:lnTo>
                      <a:pt x="66" y="39"/>
                    </a:lnTo>
                    <a:lnTo>
                      <a:pt x="74" y="42"/>
                    </a:lnTo>
                    <a:lnTo>
                      <a:pt x="114" y="52"/>
                    </a:lnTo>
                    <a:lnTo>
                      <a:pt x="135" y="58"/>
                    </a:lnTo>
                    <a:lnTo>
                      <a:pt x="136" y="62"/>
                    </a:lnTo>
                    <a:lnTo>
                      <a:pt x="136" y="66"/>
                    </a:lnTo>
                    <a:lnTo>
                      <a:pt x="129" y="69"/>
                    </a:lnTo>
                    <a:lnTo>
                      <a:pt x="95" y="66"/>
                    </a:lnTo>
                    <a:lnTo>
                      <a:pt x="53" y="56"/>
                    </a:lnTo>
                    <a:lnTo>
                      <a:pt x="36" y="47"/>
                    </a:lnTo>
                    <a:lnTo>
                      <a:pt x="27" y="39"/>
                    </a:lnTo>
                    <a:lnTo>
                      <a:pt x="20" y="31"/>
                    </a:lnTo>
                    <a:lnTo>
                      <a:pt x="11" y="24"/>
                    </a:lnTo>
                    <a:lnTo>
                      <a:pt x="5" y="17"/>
                    </a:lnTo>
                    <a:lnTo>
                      <a:pt x="0" y="11"/>
                    </a:lnTo>
                    <a:lnTo>
                      <a:pt x="3" y="6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972480" y="4452840"/>
                <a:ext cx="102960" cy="34920"/>
              </a:xfrm>
              <a:custGeom>
                <a:avLst/>
                <a:gdLst/>
                <a:ahLst/>
                <a:rect l="l" t="t" r="r" b="b"/>
                <a:pathLst>
                  <a:path w="131" h="44">
                    <a:moveTo>
                      <a:pt x="0" y="0"/>
                    </a:moveTo>
                    <a:lnTo>
                      <a:pt x="66" y="10"/>
                    </a:lnTo>
                    <a:lnTo>
                      <a:pt x="117" y="27"/>
                    </a:lnTo>
                    <a:lnTo>
                      <a:pt x="128" y="33"/>
                    </a:lnTo>
                    <a:lnTo>
                      <a:pt x="131" y="40"/>
                    </a:lnTo>
                    <a:lnTo>
                      <a:pt x="126" y="44"/>
                    </a:lnTo>
                    <a:lnTo>
                      <a:pt x="115" y="44"/>
                    </a:lnTo>
                    <a:lnTo>
                      <a:pt x="66" y="35"/>
                    </a:lnTo>
                    <a:lnTo>
                      <a:pt x="31" y="28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081920" y="4129200"/>
                <a:ext cx="223920" cy="120600"/>
              </a:xfrm>
              <a:custGeom>
                <a:avLst/>
                <a:gdLst/>
                <a:ahLst/>
                <a:rect l="l" t="t" r="r" b="b"/>
                <a:pathLst>
                  <a:path w="285" h="152">
                    <a:moveTo>
                      <a:pt x="4" y="59"/>
                    </a:moveTo>
                    <a:lnTo>
                      <a:pt x="13" y="51"/>
                    </a:lnTo>
                    <a:lnTo>
                      <a:pt x="22" y="44"/>
                    </a:lnTo>
                    <a:lnTo>
                      <a:pt x="35" y="34"/>
                    </a:lnTo>
                    <a:lnTo>
                      <a:pt x="52" y="24"/>
                    </a:lnTo>
                    <a:lnTo>
                      <a:pt x="72" y="16"/>
                    </a:lnTo>
                    <a:lnTo>
                      <a:pt x="95" y="7"/>
                    </a:lnTo>
                    <a:lnTo>
                      <a:pt x="121" y="3"/>
                    </a:lnTo>
                    <a:lnTo>
                      <a:pt x="167" y="0"/>
                    </a:lnTo>
                    <a:lnTo>
                      <a:pt x="201" y="6"/>
                    </a:lnTo>
                    <a:lnTo>
                      <a:pt x="225" y="13"/>
                    </a:lnTo>
                    <a:lnTo>
                      <a:pt x="244" y="21"/>
                    </a:lnTo>
                    <a:lnTo>
                      <a:pt x="261" y="31"/>
                    </a:lnTo>
                    <a:lnTo>
                      <a:pt x="277" y="45"/>
                    </a:lnTo>
                    <a:lnTo>
                      <a:pt x="285" y="62"/>
                    </a:lnTo>
                    <a:lnTo>
                      <a:pt x="285" y="71"/>
                    </a:lnTo>
                    <a:lnTo>
                      <a:pt x="285" y="75"/>
                    </a:lnTo>
                    <a:lnTo>
                      <a:pt x="284" y="80"/>
                    </a:lnTo>
                    <a:lnTo>
                      <a:pt x="278" y="89"/>
                    </a:lnTo>
                    <a:lnTo>
                      <a:pt x="272" y="97"/>
                    </a:lnTo>
                    <a:lnTo>
                      <a:pt x="267" y="106"/>
                    </a:lnTo>
                    <a:lnTo>
                      <a:pt x="260" y="114"/>
                    </a:lnTo>
                    <a:lnTo>
                      <a:pt x="251" y="121"/>
                    </a:lnTo>
                    <a:lnTo>
                      <a:pt x="243" y="127"/>
                    </a:lnTo>
                    <a:lnTo>
                      <a:pt x="228" y="135"/>
                    </a:lnTo>
                    <a:lnTo>
                      <a:pt x="202" y="142"/>
                    </a:lnTo>
                    <a:lnTo>
                      <a:pt x="162" y="149"/>
                    </a:lnTo>
                    <a:lnTo>
                      <a:pt x="119" y="152"/>
                    </a:lnTo>
                    <a:lnTo>
                      <a:pt x="87" y="149"/>
                    </a:lnTo>
                    <a:lnTo>
                      <a:pt x="65" y="141"/>
                    </a:lnTo>
                    <a:lnTo>
                      <a:pt x="42" y="131"/>
                    </a:lnTo>
                    <a:lnTo>
                      <a:pt x="24" y="118"/>
                    </a:lnTo>
                    <a:lnTo>
                      <a:pt x="11" y="106"/>
                    </a:lnTo>
                    <a:lnTo>
                      <a:pt x="6" y="93"/>
                    </a:lnTo>
                    <a:lnTo>
                      <a:pt x="1" y="83"/>
                    </a:lnTo>
                    <a:lnTo>
                      <a:pt x="0" y="75"/>
                    </a:lnTo>
                    <a:lnTo>
                      <a:pt x="13" y="80"/>
                    </a:lnTo>
                    <a:lnTo>
                      <a:pt x="25" y="87"/>
                    </a:lnTo>
                    <a:lnTo>
                      <a:pt x="39" y="94"/>
                    </a:lnTo>
                    <a:lnTo>
                      <a:pt x="56" y="103"/>
                    </a:lnTo>
                    <a:lnTo>
                      <a:pt x="72" y="109"/>
                    </a:lnTo>
                    <a:lnTo>
                      <a:pt x="94" y="116"/>
                    </a:lnTo>
                    <a:lnTo>
                      <a:pt x="97" y="99"/>
                    </a:lnTo>
                    <a:lnTo>
                      <a:pt x="100" y="89"/>
                    </a:lnTo>
                    <a:lnTo>
                      <a:pt x="103" y="83"/>
                    </a:lnTo>
                    <a:lnTo>
                      <a:pt x="105" y="80"/>
                    </a:lnTo>
                    <a:lnTo>
                      <a:pt x="119" y="75"/>
                    </a:lnTo>
                    <a:lnTo>
                      <a:pt x="135" y="73"/>
                    </a:lnTo>
                    <a:lnTo>
                      <a:pt x="149" y="76"/>
                    </a:lnTo>
                    <a:lnTo>
                      <a:pt x="157" y="83"/>
                    </a:lnTo>
                    <a:lnTo>
                      <a:pt x="162" y="102"/>
                    </a:lnTo>
                    <a:lnTo>
                      <a:pt x="162" y="109"/>
                    </a:lnTo>
                    <a:lnTo>
                      <a:pt x="206" y="104"/>
                    </a:lnTo>
                    <a:lnTo>
                      <a:pt x="230" y="93"/>
                    </a:lnTo>
                    <a:lnTo>
                      <a:pt x="244" y="79"/>
                    </a:lnTo>
                    <a:lnTo>
                      <a:pt x="251" y="65"/>
                    </a:lnTo>
                    <a:lnTo>
                      <a:pt x="253" y="59"/>
                    </a:lnTo>
                    <a:lnTo>
                      <a:pt x="244" y="54"/>
                    </a:lnTo>
                    <a:lnTo>
                      <a:pt x="236" y="48"/>
                    </a:lnTo>
                    <a:lnTo>
                      <a:pt x="225" y="42"/>
                    </a:lnTo>
                    <a:lnTo>
                      <a:pt x="212" y="35"/>
                    </a:lnTo>
                    <a:lnTo>
                      <a:pt x="198" y="30"/>
                    </a:lnTo>
                    <a:lnTo>
                      <a:pt x="173" y="24"/>
                    </a:lnTo>
                    <a:lnTo>
                      <a:pt x="121" y="27"/>
                    </a:lnTo>
                    <a:lnTo>
                      <a:pt x="77" y="37"/>
                    </a:lnTo>
                    <a:lnTo>
                      <a:pt x="52" y="49"/>
                    </a:lnTo>
                    <a:lnTo>
                      <a:pt x="42" y="58"/>
                    </a:lnTo>
                    <a:lnTo>
                      <a:pt x="29" y="63"/>
                    </a:lnTo>
                    <a:lnTo>
                      <a:pt x="11" y="63"/>
                    </a:lnTo>
                    <a:lnTo>
                      <a:pt x="4" y="59"/>
                    </a:lnTo>
                    <a:lnTo>
                      <a:pt x="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445520" y="4137120"/>
                <a:ext cx="207720" cy="120600"/>
              </a:xfrm>
              <a:custGeom>
                <a:avLst/>
                <a:gdLst/>
                <a:ahLst/>
                <a:rect l="l" t="t" r="r" b="b"/>
                <a:pathLst>
                  <a:path w="265" h="152">
                    <a:moveTo>
                      <a:pt x="9" y="44"/>
                    </a:moveTo>
                    <a:lnTo>
                      <a:pt x="16" y="38"/>
                    </a:lnTo>
                    <a:lnTo>
                      <a:pt x="26" y="33"/>
                    </a:lnTo>
                    <a:lnTo>
                      <a:pt x="37" y="27"/>
                    </a:lnTo>
                    <a:lnTo>
                      <a:pt x="49" y="20"/>
                    </a:lnTo>
                    <a:lnTo>
                      <a:pt x="61" y="13"/>
                    </a:lnTo>
                    <a:lnTo>
                      <a:pt x="84" y="6"/>
                    </a:lnTo>
                    <a:lnTo>
                      <a:pt x="133" y="0"/>
                    </a:lnTo>
                    <a:lnTo>
                      <a:pt x="188" y="13"/>
                    </a:lnTo>
                    <a:lnTo>
                      <a:pt x="209" y="23"/>
                    </a:lnTo>
                    <a:lnTo>
                      <a:pt x="224" y="31"/>
                    </a:lnTo>
                    <a:lnTo>
                      <a:pt x="245" y="51"/>
                    </a:lnTo>
                    <a:lnTo>
                      <a:pt x="254" y="65"/>
                    </a:lnTo>
                    <a:lnTo>
                      <a:pt x="257" y="74"/>
                    </a:lnTo>
                    <a:lnTo>
                      <a:pt x="259" y="81"/>
                    </a:lnTo>
                    <a:lnTo>
                      <a:pt x="264" y="92"/>
                    </a:lnTo>
                    <a:lnTo>
                      <a:pt x="265" y="96"/>
                    </a:lnTo>
                    <a:lnTo>
                      <a:pt x="264" y="103"/>
                    </a:lnTo>
                    <a:lnTo>
                      <a:pt x="259" y="106"/>
                    </a:lnTo>
                    <a:lnTo>
                      <a:pt x="252" y="106"/>
                    </a:lnTo>
                    <a:lnTo>
                      <a:pt x="245" y="98"/>
                    </a:lnTo>
                    <a:lnTo>
                      <a:pt x="241" y="91"/>
                    </a:lnTo>
                    <a:lnTo>
                      <a:pt x="237" y="81"/>
                    </a:lnTo>
                    <a:lnTo>
                      <a:pt x="233" y="71"/>
                    </a:lnTo>
                    <a:lnTo>
                      <a:pt x="226" y="61"/>
                    </a:lnTo>
                    <a:lnTo>
                      <a:pt x="216" y="51"/>
                    </a:lnTo>
                    <a:lnTo>
                      <a:pt x="203" y="43"/>
                    </a:lnTo>
                    <a:lnTo>
                      <a:pt x="191" y="37"/>
                    </a:lnTo>
                    <a:lnTo>
                      <a:pt x="178" y="31"/>
                    </a:lnTo>
                    <a:lnTo>
                      <a:pt x="155" y="26"/>
                    </a:lnTo>
                    <a:lnTo>
                      <a:pt x="111" y="22"/>
                    </a:lnTo>
                    <a:lnTo>
                      <a:pt x="84" y="29"/>
                    </a:lnTo>
                    <a:lnTo>
                      <a:pt x="71" y="36"/>
                    </a:lnTo>
                    <a:lnTo>
                      <a:pt x="59" y="44"/>
                    </a:lnTo>
                    <a:lnTo>
                      <a:pt x="47" y="52"/>
                    </a:lnTo>
                    <a:lnTo>
                      <a:pt x="37" y="60"/>
                    </a:lnTo>
                    <a:lnTo>
                      <a:pt x="30" y="67"/>
                    </a:lnTo>
                    <a:lnTo>
                      <a:pt x="37" y="71"/>
                    </a:lnTo>
                    <a:lnTo>
                      <a:pt x="53" y="82"/>
                    </a:lnTo>
                    <a:lnTo>
                      <a:pt x="61" y="88"/>
                    </a:lnTo>
                    <a:lnTo>
                      <a:pt x="71" y="93"/>
                    </a:lnTo>
                    <a:lnTo>
                      <a:pt x="84" y="100"/>
                    </a:lnTo>
                    <a:lnTo>
                      <a:pt x="85" y="93"/>
                    </a:lnTo>
                    <a:lnTo>
                      <a:pt x="89" y="83"/>
                    </a:lnTo>
                    <a:lnTo>
                      <a:pt x="92" y="79"/>
                    </a:lnTo>
                    <a:lnTo>
                      <a:pt x="96" y="74"/>
                    </a:lnTo>
                    <a:lnTo>
                      <a:pt x="109" y="69"/>
                    </a:lnTo>
                    <a:lnTo>
                      <a:pt x="143" y="72"/>
                    </a:lnTo>
                    <a:lnTo>
                      <a:pt x="154" y="78"/>
                    </a:lnTo>
                    <a:lnTo>
                      <a:pt x="161" y="88"/>
                    </a:lnTo>
                    <a:lnTo>
                      <a:pt x="162" y="107"/>
                    </a:lnTo>
                    <a:lnTo>
                      <a:pt x="161" y="116"/>
                    </a:lnTo>
                    <a:lnTo>
                      <a:pt x="236" y="109"/>
                    </a:lnTo>
                    <a:lnTo>
                      <a:pt x="237" y="117"/>
                    </a:lnTo>
                    <a:lnTo>
                      <a:pt x="237" y="124"/>
                    </a:lnTo>
                    <a:lnTo>
                      <a:pt x="236" y="129"/>
                    </a:lnTo>
                    <a:lnTo>
                      <a:pt x="233" y="131"/>
                    </a:lnTo>
                    <a:lnTo>
                      <a:pt x="220" y="138"/>
                    </a:lnTo>
                    <a:lnTo>
                      <a:pt x="203" y="145"/>
                    </a:lnTo>
                    <a:lnTo>
                      <a:pt x="172" y="152"/>
                    </a:lnTo>
                    <a:lnTo>
                      <a:pt x="122" y="148"/>
                    </a:lnTo>
                    <a:lnTo>
                      <a:pt x="59" y="131"/>
                    </a:lnTo>
                    <a:lnTo>
                      <a:pt x="39" y="121"/>
                    </a:lnTo>
                    <a:lnTo>
                      <a:pt x="22" y="110"/>
                    </a:lnTo>
                    <a:lnTo>
                      <a:pt x="9" y="99"/>
                    </a:lnTo>
                    <a:lnTo>
                      <a:pt x="1" y="89"/>
                    </a:lnTo>
                    <a:lnTo>
                      <a:pt x="0" y="76"/>
                    </a:lnTo>
                    <a:lnTo>
                      <a:pt x="2" y="61"/>
                    </a:lnTo>
                    <a:lnTo>
                      <a:pt x="5" y="54"/>
                    </a:lnTo>
                    <a:lnTo>
                      <a:pt x="7" y="48"/>
                    </a:lnTo>
                    <a:lnTo>
                      <a:pt x="9" y="44"/>
                    </a:lnTo>
                    <a:lnTo>
                      <a:pt x="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986520" y="3917880"/>
                <a:ext cx="355680" cy="432000"/>
              </a:xfrm>
              <a:custGeom>
                <a:avLst/>
                <a:gdLst/>
                <a:ahLst/>
                <a:rect l="l" t="t" r="r" b="b"/>
                <a:pathLst>
                  <a:path w="452" h="546">
                    <a:moveTo>
                      <a:pt x="51" y="408"/>
                    </a:moveTo>
                    <a:lnTo>
                      <a:pt x="54" y="394"/>
                    </a:lnTo>
                    <a:lnTo>
                      <a:pt x="56" y="377"/>
                    </a:lnTo>
                    <a:lnTo>
                      <a:pt x="61" y="355"/>
                    </a:lnTo>
                    <a:lnTo>
                      <a:pt x="65" y="328"/>
                    </a:lnTo>
                    <a:lnTo>
                      <a:pt x="70" y="299"/>
                    </a:lnTo>
                    <a:lnTo>
                      <a:pt x="76" y="268"/>
                    </a:lnTo>
                    <a:lnTo>
                      <a:pt x="82" y="235"/>
                    </a:lnTo>
                    <a:lnTo>
                      <a:pt x="87" y="201"/>
                    </a:lnTo>
                    <a:lnTo>
                      <a:pt x="94" y="169"/>
                    </a:lnTo>
                    <a:lnTo>
                      <a:pt x="100" y="138"/>
                    </a:lnTo>
                    <a:lnTo>
                      <a:pt x="106" y="110"/>
                    </a:lnTo>
                    <a:lnTo>
                      <a:pt x="107" y="103"/>
                    </a:lnTo>
                    <a:lnTo>
                      <a:pt x="108" y="97"/>
                    </a:lnTo>
                    <a:lnTo>
                      <a:pt x="110" y="86"/>
                    </a:lnTo>
                    <a:lnTo>
                      <a:pt x="113" y="75"/>
                    </a:lnTo>
                    <a:lnTo>
                      <a:pt x="115" y="66"/>
                    </a:lnTo>
                    <a:lnTo>
                      <a:pt x="118" y="51"/>
                    </a:lnTo>
                    <a:lnTo>
                      <a:pt x="121" y="44"/>
                    </a:lnTo>
                    <a:lnTo>
                      <a:pt x="127" y="35"/>
                    </a:lnTo>
                    <a:lnTo>
                      <a:pt x="134" y="27"/>
                    </a:lnTo>
                    <a:lnTo>
                      <a:pt x="142" y="21"/>
                    </a:lnTo>
                    <a:lnTo>
                      <a:pt x="150" y="15"/>
                    </a:lnTo>
                    <a:lnTo>
                      <a:pt x="169" y="8"/>
                    </a:lnTo>
                    <a:lnTo>
                      <a:pt x="187" y="13"/>
                    </a:lnTo>
                    <a:lnTo>
                      <a:pt x="194" y="20"/>
                    </a:lnTo>
                    <a:lnTo>
                      <a:pt x="200" y="31"/>
                    </a:lnTo>
                    <a:lnTo>
                      <a:pt x="204" y="44"/>
                    </a:lnTo>
                    <a:lnTo>
                      <a:pt x="207" y="58"/>
                    </a:lnTo>
                    <a:lnTo>
                      <a:pt x="208" y="65"/>
                    </a:lnTo>
                    <a:lnTo>
                      <a:pt x="211" y="70"/>
                    </a:lnTo>
                    <a:lnTo>
                      <a:pt x="214" y="82"/>
                    </a:lnTo>
                    <a:lnTo>
                      <a:pt x="219" y="89"/>
                    </a:lnTo>
                    <a:lnTo>
                      <a:pt x="226" y="92"/>
                    </a:lnTo>
                    <a:lnTo>
                      <a:pt x="252" y="75"/>
                    </a:lnTo>
                    <a:lnTo>
                      <a:pt x="260" y="66"/>
                    </a:lnTo>
                    <a:lnTo>
                      <a:pt x="268" y="58"/>
                    </a:lnTo>
                    <a:lnTo>
                      <a:pt x="277" y="49"/>
                    </a:lnTo>
                    <a:lnTo>
                      <a:pt x="285" y="39"/>
                    </a:lnTo>
                    <a:lnTo>
                      <a:pt x="295" y="31"/>
                    </a:lnTo>
                    <a:lnTo>
                      <a:pt x="304" y="23"/>
                    </a:lnTo>
                    <a:lnTo>
                      <a:pt x="312" y="15"/>
                    </a:lnTo>
                    <a:lnTo>
                      <a:pt x="322" y="8"/>
                    </a:lnTo>
                    <a:lnTo>
                      <a:pt x="337" y="0"/>
                    </a:lnTo>
                    <a:lnTo>
                      <a:pt x="350" y="0"/>
                    </a:lnTo>
                    <a:lnTo>
                      <a:pt x="358" y="7"/>
                    </a:lnTo>
                    <a:lnTo>
                      <a:pt x="363" y="17"/>
                    </a:lnTo>
                    <a:lnTo>
                      <a:pt x="365" y="41"/>
                    </a:lnTo>
                    <a:lnTo>
                      <a:pt x="367" y="63"/>
                    </a:lnTo>
                    <a:lnTo>
                      <a:pt x="370" y="68"/>
                    </a:lnTo>
                    <a:lnTo>
                      <a:pt x="372" y="70"/>
                    </a:lnTo>
                    <a:lnTo>
                      <a:pt x="381" y="75"/>
                    </a:lnTo>
                    <a:lnTo>
                      <a:pt x="406" y="73"/>
                    </a:lnTo>
                    <a:lnTo>
                      <a:pt x="430" y="65"/>
                    </a:lnTo>
                    <a:lnTo>
                      <a:pt x="447" y="55"/>
                    </a:lnTo>
                    <a:lnTo>
                      <a:pt x="452" y="51"/>
                    </a:lnTo>
                    <a:lnTo>
                      <a:pt x="452" y="63"/>
                    </a:lnTo>
                    <a:lnTo>
                      <a:pt x="450" y="75"/>
                    </a:lnTo>
                    <a:lnTo>
                      <a:pt x="448" y="80"/>
                    </a:lnTo>
                    <a:lnTo>
                      <a:pt x="445" y="86"/>
                    </a:lnTo>
                    <a:lnTo>
                      <a:pt x="441" y="92"/>
                    </a:lnTo>
                    <a:lnTo>
                      <a:pt x="436" y="99"/>
                    </a:lnTo>
                    <a:lnTo>
                      <a:pt x="429" y="106"/>
                    </a:lnTo>
                    <a:lnTo>
                      <a:pt x="420" y="111"/>
                    </a:lnTo>
                    <a:lnTo>
                      <a:pt x="410" y="117"/>
                    </a:lnTo>
                    <a:lnTo>
                      <a:pt x="399" y="120"/>
                    </a:lnTo>
                    <a:lnTo>
                      <a:pt x="372" y="118"/>
                    </a:lnTo>
                    <a:lnTo>
                      <a:pt x="361" y="114"/>
                    </a:lnTo>
                    <a:lnTo>
                      <a:pt x="353" y="106"/>
                    </a:lnTo>
                    <a:lnTo>
                      <a:pt x="349" y="96"/>
                    </a:lnTo>
                    <a:lnTo>
                      <a:pt x="346" y="84"/>
                    </a:lnTo>
                    <a:lnTo>
                      <a:pt x="344" y="75"/>
                    </a:lnTo>
                    <a:lnTo>
                      <a:pt x="343" y="69"/>
                    </a:lnTo>
                    <a:lnTo>
                      <a:pt x="342" y="65"/>
                    </a:lnTo>
                    <a:lnTo>
                      <a:pt x="336" y="58"/>
                    </a:lnTo>
                    <a:lnTo>
                      <a:pt x="326" y="54"/>
                    </a:lnTo>
                    <a:lnTo>
                      <a:pt x="315" y="55"/>
                    </a:lnTo>
                    <a:lnTo>
                      <a:pt x="302" y="65"/>
                    </a:lnTo>
                    <a:lnTo>
                      <a:pt x="295" y="70"/>
                    </a:lnTo>
                    <a:lnTo>
                      <a:pt x="288" y="79"/>
                    </a:lnTo>
                    <a:lnTo>
                      <a:pt x="281" y="86"/>
                    </a:lnTo>
                    <a:lnTo>
                      <a:pt x="274" y="94"/>
                    </a:lnTo>
                    <a:lnTo>
                      <a:pt x="267" y="103"/>
                    </a:lnTo>
                    <a:lnTo>
                      <a:pt x="260" y="111"/>
                    </a:lnTo>
                    <a:lnTo>
                      <a:pt x="253" y="118"/>
                    </a:lnTo>
                    <a:lnTo>
                      <a:pt x="246" y="125"/>
                    </a:lnTo>
                    <a:lnTo>
                      <a:pt x="239" y="132"/>
                    </a:lnTo>
                    <a:lnTo>
                      <a:pt x="232" y="137"/>
                    </a:lnTo>
                    <a:lnTo>
                      <a:pt x="219" y="141"/>
                    </a:lnTo>
                    <a:lnTo>
                      <a:pt x="208" y="138"/>
                    </a:lnTo>
                    <a:lnTo>
                      <a:pt x="198" y="130"/>
                    </a:lnTo>
                    <a:lnTo>
                      <a:pt x="190" y="115"/>
                    </a:lnTo>
                    <a:lnTo>
                      <a:pt x="186" y="108"/>
                    </a:lnTo>
                    <a:lnTo>
                      <a:pt x="181" y="100"/>
                    </a:lnTo>
                    <a:lnTo>
                      <a:pt x="179" y="93"/>
                    </a:lnTo>
                    <a:lnTo>
                      <a:pt x="176" y="86"/>
                    </a:lnTo>
                    <a:lnTo>
                      <a:pt x="172" y="79"/>
                    </a:lnTo>
                    <a:lnTo>
                      <a:pt x="169" y="73"/>
                    </a:lnTo>
                    <a:lnTo>
                      <a:pt x="165" y="65"/>
                    </a:lnTo>
                    <a:lnTo>
                      <a:pt x="159" y="63"/>
                    </a:lnTo>
                    <a:lnTo>
                      <a:pt x="153" y="73"/>
                    </a:lnTo>
                    <a:lnTo>
                      <a:pt x="150" y="82"/>
                    </a:lnTo>
                    <a:lnTo>
                      <a:pt x="146" y="92"/>
                    </a:lnTo>
                    <a:lnTo>
                      <a:pt x="143" y="104"/>
                    </a:lnTo>
                    <a:lnTo>
                      <a:pt x="141" y="111"/>
                    </a:lnTo>
                    <a:lnTo>
                      <a:pt x="139" y="118"/>
                    </a:lnTo>
                    <a:lnTo>
                      <a:pt x="138" y="125"/>
                    </a:lnTo>
                    <a:lnTo>
                      <a:pt x="135" y="134"/>
                    </a:lnTo>
                    <a:lnTo>
                      <a:pt x="134" y="141"/>
                    </a:lnTo>
                    <a:lnTo>
                      <a:pt x="132" y="148"/>
                    </a:lnTo>
                    <a:lnTo>
                      <a:pt x="129" y="156"/>
                    </a:lnTo>
                    <a:lnTo>
                      <a:pt x="128" y="163"/>
                    </a:lnTo>
                    <a:lnTo>
                      <a:pt x="127" y="170"/>
                    </a:lnTo>
                    <a:lnTo>
                      <a:pt x="125" y="177"/>
                    </a:lnTo>
                    <a:lnTo>
                      <a:pt x="124" y="184"/>
                    </a:lnTo>
                    <a:lnTo>
                      <a:pt x="122" y="191"/>
                    </a:lnTo>
                    <a:lnTo>
                      <a:pt x="120" y="203"/>
                    </a:lnTo>
                    <a:lnTo>
                      <a:pt x="117" y="213"/>
                    </a:lnTo>
                    <a:lnTo>
                      <a:pt x="115" y="221"/>
                    </a:lnTo>
                    <a:lnTo>
                      <a:pt x="114" y="227"/>
                    </a:lnTo>
                    <a:lnTo>
                      <a:pt x="111" y="255"/>
                    </a:lnTo>
                    <a:lnTo>
                      <a:pt x="108" y="284"/>
                    </a:lnTo>
                    <a:lnTo>
                      <a:pt x="106" y="301"/>
                    </a:lnTo>
                    <a:lnTo>
                      <a:pt x="104" y="320"/>
                    </a:lnTo>
                    <a:lnTo>
                      <a:pt x="101" y="337"/>
                    </a:lnTo>
                    <a:lnTo>
                      <a:pt x="99" y="355"/>
                    </a:lnTo>
                    <a:lnTo>
                      <a:pt x="97" y="372"/>
                    </a:lnTo>
                    <a:lnTo>
                      <a:pt x="94" y="387"/>
                    </a:lnTo>
                    <a:lnTo>
                      <a:pt x="91" y="394"/>
                    </a:lnTo>
                    <a:lnTo>
                      <a:pt x="90" y="401"/>
                    </a:lnTo>
                    <a:lnTo>
                      <a:pt x="89" y="408"/>
                    </a:lnTo>
                    <a:lnTo>
                      <a:pt x="87" y="414"/>
                    </a:lnTo>
                    <a:lnTo>
                      <a:pt x="84" y="422"/>
                    </a:lnTo>
                    <a:lnTo>
                      <a:pt x="82" y="429"/>
                    </a:lnTo>
                    <a:lnTo>
                      <a:pt x="75" y="436"/>
                    </a:lnTo>
                    <a:lnTo>
                      <a:pt x="69" y="441"/>
                    </a:lnTo>
                    <a:lnTo>
                      <a:pt x="58" y="445"/>
                    </a:lnTo>
                    <a:lnTo>
                      <a:pt x="38" y="458"/>
                    </a:lnTo>
                    <a:lnTo>
                      <a:pt x="35" y="467"/>
                    </a:lnTo>
                    <a:lnTo>
                      <a:pt x="32" y="480"/>
                    </a:lnTo>
                    <a:lnTo>
                      <a:pt x="31" y="510"/>
                    </a:lnTo>
                    <a:lnTo>
                      <a:pt x="34" y="546"/>
                    </a:lnTo>
                    <a:lnTo>
                      <a:pt x="10" y="534"/>
                    </a:lnTo>
                    <a:lnTo>
                      <a:pt x="9" y="527"/>
                    </a:lnTo>
                    <a:lnTo>
                      <a:pt x="7" y="518"/>
                    </a:lnTo>
                    <a:lnTo>
                      <a:pt x="4" y="503"/>
                    </a:lnTo>
                    <a:lnTo>
                      <a:pt x="0" y="469"/>
                    </a:lnTo>
                    <a:lnTo>
                      <a:pt x="2" y="458"/>
                    </a:lnTo>
                    <a:lnTo>
                      <a:pt x="3" y="449"/>
                    </a:lnTo>
                    <a:lnTo>
                      <a:pt x="6" y="441"/>
                    </a:lnTo>
                    <a:lnTo>
                      <a:pt x="9" y="435"/>
                    </a:lnTo>
                    <a:lnTo>
                      <a:pt x="13" y="429"/>
                    </a:lnTo>
                    <a:lnTo>
                      <a:pt x="17" y="424"/>
                    </a:lnTo>
                    <a:lnTo>
                      <a:pt x="25" y="417"/>
                    </a:lnTo>
                    <a:lnTo>
                      <a:pt x="51" y="408"/>
                    </a:lnTo>
                    <a:lnTo>
                      <a:pt x="51" y="4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353360" y="3968640"/>
                <a:ext cx="361800" cy="111240"/>
              </a:xfrm>
              <a:custGeom>
                <a:avLst/>
                <a:gdLst/>
                <a:ahLst/>
                <a:rect l="l" t="t" r="r" b="b"/>
                <a:pathLst>
                  <a:path w="461" h="140">
                    <a:moveTo>
                      <a:pt x="43" y="0"/>
                    </a:moveTo>
                    <a:lnTo>
                      <a:pt x="41" y="34"/>
                    </a:lnTo>
                    <a:lnTo>
                      <a:pt x="42" y="59"/>
                    </a:lnTo>
                    <a:lnTo>
                      <a:pt x="43" y="64"/>
                    </a:lnTo>
                    <a:lnTo>
                      <a:pt x="43" y="68"/>
                    </a:lnTo>
                    <a:lnTo>
                      <a:pt x="48" y="71"/>
                    </a:lnTo>
                    <a:lnTo>
                      <a:pt x="69" y="65"/>
                    </a:lnTo>
                    <a:lnTo>
                      <a:pt x="83" y="57"/>
                    </a:lnTo>
                    <a:lnTo>
                      <a:pt x="98" y="48"/>
                    </a:lnTo>
                    <a:lnTo>
                      <a:pt x="114" y="38"/>
                    </a:lnTo>
                    <a:lnTo>
                      <a:pt x="131" y="30"/>
                    </a:lnTo>
                    <a:lnTo>
                      <a:pt x="147" y="24"/>
                    </a:lnTo>
                    <a:lnTo>
                      <a:pt x="164" y="21"/>
                    </a:lnTo>
                    <a:lnTo>
                      <a:pt x="181" y="24"/>
                    </a:lnTo>
                    <a:lnTo>
                      <a:pt x="188" y="31"/>
                    </a:lnTo>
                    <a:lnTo>
                      <a:pt x="191" y="51"/>
                    </a:lnTo>
                    <a:lnTo>
                      <a:pt x="192" y="62"/>
                    </a:lnTo>
                    <a:lnTo>
                      <a:pt x="194" y="68"/>
                    </a:lnTo>
                    <a:lnTo>
                      <a:pt x="197" y="74"/>
                    </a:lnTo>
                    <a:lnTo>
                      <a:pt x="199" y="78"/>
                    </a:lnTo>
                    <a:lnTo>
                      <a:pt x="205" y="82"/>
                    </a:lnTo>
                    <a:lnTo>
                      <a:pt x="223" y="83"/>
                    </a:lnTo>
                    <a:lnTo>
                      <a:pt x="246" y="76"/>
                    </a:lnTo>
                    <a:lnTo>
                      <a:pt x="265" y="67"/>
                    </a:lnTo>
                    <a:lnTo>
                      <a:pt x="277" y="62"/>
                    </a:lnTo>
                    <a:lnTo>
                      <a:pt x="289" y="58"/>
                    </a:lnTo>
                    <a:lnTo>
                      <a:pt x="322" y="61"/>
                    </a:lnTo>
                    <a:lnTo>
                      <a:pt x="353" y="72"/>
                    </a:lnTo>
                    <a:lnTo>
                      <a:pt x="368" y="86"/>
                    </a:lnTo>
                    <a:lnTo>
                      <a:pt x="376" y="100"/>
                    </a:lnTo>
                    <a:lnTo>
                      <a:pt x="379" y="105"/>
                    </a:lnTo>
                    <a:lnTo>
                      <a:pt x="382" y="109"/>
                    </a:lnTo>
                    <a:lnTo>
                      <a:pt x="426" y="110"/>
                    </a:lnTo>
                    <a:lnTo>
                      <a:pt x="461" y="106"/>
                    </a:lnTo>
                    <a:lnTo>
                      <a:pt x="452" y="110"/>
                    </a:lnTo>
                    <a:lnTo>
                      <a:pt x="435" y="120"/>
                    </a:lnTo>
                    <a:lnTo>
                      <a:pt x="417" y="130"/>
                    </a:lnTo>
                    <a:lnTo>
                      <a:pt x="402" y="137"/>
                    </a:lnTo>
                    <a:lnTo>
                      <a:pt x="379" y="140"/>
                    </a:lnTo>
                    <a:lnTo>
                      <a:pt x="350" y="121"/>
                    </a:lnTo>
                    <a:lnTo>
                      <a:pt x="341" y="114"/>
                    </a:lnTo>
                    <a:lnTo>
                      <a:pt x="333" y="107"/>
                    </a:lnTo>
                    <a:lnTo>
                      <a:pt x="317" y="100"/>
                    </a:lnTo>
                    <a:lnTo>
                      <a:pt x="294" y="102"/>
                    </a:lnTo>
                    <a:lnTo>
                      <a:pt x="277" y="109"/>
                    </a:lnTo>
                    <a:lnTo>
                      <a:pt x="246" y="119"/>
                    </a:lnTo>
                    <a:lnTo>
                      <a:pt x="212" y="127"/>
                    </a:lnTo>
                    <a:lnTo>
                      <a:pt x="184" y="127"/>
                    </a:lnTo>
                    <a:lnTo>
                      <a:pt x="167" y="114"/>
                    </a:lnTo>
                    <a:lnTo>
                      <a:pt x="161" y="105"/>
                    </a:lnTo>
                    <a:lnTo>
                      <a:pt x="159" y="93"/>
                    </a:lnTo>
                    <a:lnTo>
                      <a:pt x="157" y="83"/>
                    </a:lnTo>
                    <a:lnTo>
                      <a:pt x="154" y="74"/>
                    </a:lnTo>
                    <a:lnTo>
                      <a:pt x="152" y="68"/>
                    </a:lnTo>
                    <a:lnTo>
                      <a:pt x="149" y="67"/>
                    </a:lnTo>
                    <a:lnTo>
                      <a:pt x="115" y="78"/>
                    </a:lnTo>
                    <a:lnTo>
                      <a:pt x="91" y="88"/>
                    </a:lnTo>
                    <a:lnTo>
                      <a:pt x="67" y="96"/>
                    </a:lnTo>
                    <a:lnTo>
                      <a:pt x="45" y="102"/>
                    </a:lnTo>
                    <a:lnTo>
                      <a:pt x="22" y="102"/>
                    </a:lnTo>
                    <a:lnTo>
                      <a:pt x="7" y="92"/>
                    </a:lnTo>
                    <a:lnTo>
                      <a:pt x="1" y="85"/>
                    </a:lnTo>
                    <a:lnTo>
                      <a:pt x="0" y="74"/>
                    </a:lnTo>
                    <a:lnTo>
                      <a:pt x="1" y="61"/>
                    </a:lnTo>
                    <a:lnTo>
                      <a:pt x="4" y="55"/>
                    </a:lnTo>
                    <a:lnTo>
                      <a:pt x="7" y="48"/>
                    </a:lnTo>
                    <a:lnTo>
                      <a:pt x="10" y="43"/>
                    </a:lnTo>
                    <a:lnTo>
                      <a:pt x="14" y="36"/>
                    </a:lnTo>
                    <a:lnTo>
                      <a:pt x="18" y="30"/>
                    </a:lnTo>
                    <a:lnTo>
                      <a:pt x="21" y="24"/>
                    </a:lnTo>
                    <a:lnTo>
                      <a:pt x="29" y="14"/>
                    </a:lnTo>
                    <a:lnTo>
                      <a:pt x="36" y="7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89960" y="4064040"/>
                <a:ext cx="73080" cy="297000"/>
              </a:xfrm>
              <a:custGeom>
                <a:avLst/>
                <a:gdLst/>
                <a:ahLst/>
                <a:rect l="l" t="t" r="r" b="b"/>
                <a:pathLst>
                  <a:path w="93" h="376">
                    <a:moveTo>
                      <a:pt x="73" y="0"/>
                    </a:moveTo>
                    <a:lnTo>
                      <a:pt x="72" y="9"/>
                    </a:lnTo>
                    <a:lnTo>
                      <a:pt x="67" y="33"/>
                    </a:lnTo>
                    <a:lnTo>
                      <a:pt x="62" y="68"/>
                    </a:lnTo>
                    <a:lnTo>
                      <a:pt x="58" y="86"/>
                    </a:lnTo>
                    <a:lnTo>
                      <a:pt x="55" y="107"/>
                    </a:lnTo>
                    <a:lnTo>
                      <a:pt x="51" y="127"/>
                    </a:lnTo>
                    <a:lnTo>
                      <a:pt x="48" y="147"/>
                    </a:lnTo>
                    <a:lnTo>
                      <a:pt x="42" y="184"/>
                    </a:lnTo>
                    <a:lnTo>
                      <a:pt x="36" y="210"/>
                    </a:lnTo>
                    <a:lnTo>
                      <a:pt x="35" y="224"/>
                    </a:lnTo>
                    <a:lnTo>
                      <a:pt x="38" y="230"/>
                    </a:lnTo>
                    <a:lnTo>
                      <a:pt x="42" y="234"/>
                    </a:lnTo>
                    <a:lnTo>
                      <a:pt x="58" y="238"/>
                    </a:lnTo>
                    <a:lnTo>
                      <a:pt x="79" y="240"/>
                    </a:lnTo>
                    <a:lnTo>
                      <a:pt x="81" y="245"/>
                    </a:lnTo>
                    <a:lnTo>
                      <a:pt x="84" y="252"/>
                    </a:lnTo>
                    <a:lnTo>
                      <a:pt x="88" y="261"/>
                    </a:lnTo>
                    <a:lnTo>
                      <a:pt x="93" y="283"/>
                    </a:lnTo>
                    <a:lnTo>
                      <a:pt x="93" y="296"/>
                    </a:lnTo>
                    <a:lnTo>
                      <a:pt x="91" y="307"/>
                    </a:lnTo>
                    <a:lnTo>
                      <a:pt x="86" y="321"/>
                    </a:lnTo>
                    <a:lnTo>
                      <a:pt x="83" y="329"/>
                    </a:lnTo>
                    <a:lnTo>
                      <a:pt x="79" y="334"/>
                    </a:lnTo>
                    <a:lnTo>
                      <a:pt x="74" y="341"/>
                    </a:lnTo>
                    <a:lnTo>
                      <a:pt x="70" y="348"/>
                    </a:lnTo>
                    <a:lnTo>
                      <a:pt x="65" y="354"/>
                    </a:lnTo>
                    <a:lnTo>
                      <a:pt x="60" y="360"/>
                    </a:lnTo>
                    <a:lnTo>
                      <a:pt x="51" y="369"/>
                    </a:lnTo>
                    <a:lnTo>
                      <a:pt x="42" y="376"/>
                    </a:lnTo>
                    <a:lnTo>
                      <a:pt x="28" y="376"/>
                    </a:lnTo>
                    <a:lnTo>
                      <a:pt x="25" y="369"/>
                    </a:lnTo>
                    <a:lnTo>
                      <a:pt x="27" y="360"/>
                    </a:lnTo>
                    <a:lnTo>
                      <a:pt x="31" y="348"/>
                    </a:lnTo>
                    <a:lnTo>
                      <a:pt x="34" y="341"/>
                    </a:lnTo>
                    <a:lnTo>
                      <a:pt x="36" y="336"/>
                    </a:lnTo>
                    <a:lnTo>
                      <a:pt x="41" y="330"/>
                    </a:lnTo>
                    <a:lnTo>
                      <a:pt x="44" y="323"/>
                    </a:lnTo>
                    <a:lnTo>
                      <a:pt x="49" y="312"/>
                    </a:lnTo>
                    <a:lnTo>
                      <a:pt x="56" y="293"/>
                    </a:lnTo>
                    <a:lnTo>
                      <a:pt x="55" y="286"/>
                    </a:lnTo>
                    <a:lnTo>
                      <a:pt x="51" y="281"/>
                    </a:lnTo>
                    <a:lnTo>
                      <a:pt x="44" y="276"/>
                    </a:lnTo>
                    <a:lnTo>
                      <a:pt x="36" y="272"/>
                    </a:lnTo>
                    <a:lnTo>
                      <a:pt x="21" y="261"/>
                    </a:lnTo>
                    <a:lnTo>
                      <a:pt x="10" y="250"/>
                    </a:lnTo>
                    <a:lnTo>
                      <a:pt x="1" y="230"/>
                    </a:lnTo>
                    <a:lnTo>
                      <a:pt x="0" y="223"/>
                    </a:lnTo>
                    <a:lnTo>
                      <a:pt x="3" y="196"/>
                    </a:lnTo>
                    <a:lnTo>
                      <a:pt x="7" y="169"/>
                    </a:lnTo>
                    <a:lnTo>
                      <a:pt x="10" y="141"/>
                    </a:lnTo>
                    <a:lnTo>
                      <a:pt x="14" y="126"/>
                    </a:lnTo>
                    <a:lnTo>
                      <a:pt x="15" y="117"/>
                    </a:lnTo>
                    <a:lnTo>
                      <a:pt x="18" y="109"/>
                    </a:lnTo>
                    <a:lnTo>
                      <a:pt x="21" y="99"/>
                    </a:lnTo>
                    <a:lnTo>
                      <a:pt x="22" y="91"/>
                    </a:lnTo>
                    <a:lnTo>
                      <a:pt x="27" y="82"/>
                    </a:lnTo>
                    <a:lnTo>
                      <a:pt x="29" y="72"/>
                    </a:lnTo>
                    <a:lnTo>
                      <a:pt x="32" y="64"/>
                    </a:lnTo>
                    <a:lnTo>
                      <a:pt x="35" y="55"/>
                    </a:lnTo>
                    <a:lnTo>
                      <a:pt x="38" y="47"/>
                    </a:lnTo>
                    <a:lnTo>
                      <a:pt x="39" y="40"/>
                    </a:lnTo>
                    <a:lnTo>
                      <a:pt x="44" y="29"/>
                    </a:lnTo>
                    <a:lnTo>
                      <a:pt x="46" y="20"/>
                    </a:lnTo>
                    <a:lnTo>
                      <a:pt x="48" y="16"/>
                    </a:lnTo>
                    <a:lnTo>
                      <a:pt x="51" y="12"/>
                    </a:lnTo>
                    <a:lnTo>
                      <a:pt x="60" y="5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6183360" y="4722840"/>
              <a:ext cx="9270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National Council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Registration fees, other income sourc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Supply Division profit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Local council benefits received from BSA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Units with Special $ Needs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i="1" lang="en-GB" sz="3200" spc="-1" strike="noStrike">
                <a:solidFill>
                  <a:srgbClr val="ffff00"/>
                </a:solidFill>
                <a:latin typeface="Arial Narrow"/>
              </a:rPr>
              <a:t>Best Methods”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Uniform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Summer camp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Equipmen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Registration fe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98400" y="461880"/>
            <a:ext cx="8191440" cy="123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Arial Narrow"/>
              </a:rPr>
              <a:t>Questions?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Arial Narrow"/>
              </a:rPr>
              <a:t>Comments!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orge Crowl</dc:creator>
  <dc:description>revised March 1998</dc:description>
  <dc:language>en-US</dc:language>
  <cp:lastModifiedBy>George Crowl</cp:lastModifiedBy>
  <cp:revision>0</cp:revision>
  <dc:subject/>
  <dc:title>Classification: Marking</dc:title>
</cp:coreProperties>
</file>