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DC25BB-3A34-4EE0-ADA9-7AE3F8A100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D5BBE8-DD08-4C77-A5C8-EBD5D7BEA7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47760" y="866880"/>
            <a:ext cx="4344840" cy="32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3C2257-21FE-434F-9177-C6571D5905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sk the students to identify what they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List them on a flip chart or chalk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The BSA answers are on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2D0C39-00F3-471E-B97E-C55F374062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These are the vital signs the BSA has ident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ome of those you identified are probably also va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0BED85-F557-4D75-87BB-5A21D1ED88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B6D5BD-5634-43CF-A5CC-19354E89BF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81120" y="866880"/>
            <a:ext cx="3619440" cy="27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393840" y="3580920"/>
            <a:ext cx="6045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Lapsed / dropped charter — Complete the paperwork, if a paperwork problem.  If there are deeper causes, solve those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Not meeting — Meet with unit leader and committee chairman, try to start meetings again, contact y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No leader — Meet with committee chairman, committee and parents to find a new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No committee — Discuss prospects with unit leader and committee chairman.  Coach Committee Chairman in recruiting.  Personally recruit people to committee positions.  Contact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No new members — Help unit leader understand need for new members.  Set up school rally.  Provide incentives for boys to recr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Conflict with chartered organization — Try to determine the cause of the conflict.  Seek ways to defuse conflict.  Counsel leadership of both on ways to work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New untrained leader — Conduct Fast Start training immediately.  Invite (take) leader to next basic training.  Identify additional training opportun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Weak leadership — Counsel leaders.   Coach leaders.  Identify new, stronger lea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3998F4-B2A8-40A5-9441-D72D3611B3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Most lifesaving teams are probably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d ho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, made up of the UC, the ADC, a member of the training team, and/or a member of the membership team.  The DE should often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f there are sufficient resources to do this, some people could specialize in this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ach team will have a little different emphasis, depending on the nature of the problem.  Some may need crisis resolution, others need recruiting skills, others may just need trai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5480FF-9A5D-46DB-B80E-FB7B1B7EBC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(CF pp. 27-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ometimes a commissioner is called on to save the life of a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How does he / she know when that needs to be d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How do you go about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026529-A455-4C79-810E-6EAE735CAA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47760" y="866880"/>
            <a:ext cx="4344840" cy="32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(CF pp. 32-3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t must be pointed out that the best way to help a unit is to strengthen its leadership and that the most effective method of helping a leader develop his potential is counseling.  Commissioners must be good counselors to do their job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979A5C-A87B-465D-AC21-9B3B28A89E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47760" y="866880"/>
            <a:ext cx="4344840" cy="32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000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2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76240" y="3958560"/>
            <a:ext cx="7942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000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38757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6040" y="1809720"/>
            <a:ext cx="38757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6240" y="3958560"/>
            <a:ext cx="38757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6040" y="3958560"/>
            <a:ext cx="38757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000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255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1480" y="1809720"/>
            <a:ext cx="255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720" y="1809720"/>
            <a:ext cx="255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76240" y="3958560"/>
            <a:ext cx="255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1480" y="3958560"/>
            <a:ext cx="255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720" y="3958560"/>
            <a:ext cx="2557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000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76240" y="1809720"/>
            <a:ext cx="79423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000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23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000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3875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6040" y="1809720"/>
            <a:ext cx="3875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000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98400" y="418680"/>
            <a:ext cx="81900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000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38757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6040" y="1809720"/>
            <a:ext cx="3875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76240" y="3958560"/>
            <a:ext cx="38757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000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3875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6040" y="1809720"/>
            <a:ext cx="38757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6040" y="3958560"/>
            <a:ext cx="38757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000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38757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6040" y="1809720"/>
            <a:ext cx="38757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76240" y="3958560"/>
            <a:ext cx="79423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000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1657440"/>
            <a:ext cx="8115120" cy="129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c0128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76240" y="1809720"/>
            <a:ext cx="79423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97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255680" indent="-341280">
              <a:lnSpc>
                <a:spcPct val="97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77840" y="165240"/>
            <a:ext cx="1359000" cy="13762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60360" y="6472080"/>
            <a:ext cx="233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Northern California Commissioner Colleg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771680" y="6477120"/>
            <a:ext cx="112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February 24, 200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Commissioner Lifesaving I</a:t>
            </a:r>
            <a:br>
              <a:rPr sz="4000"/>
            </a:b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[MCS 303]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3276360"/>
            <a:ext cx="8058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Tony Mei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Boy Scout Roundtable Commissioner,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Unit Commissioner,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Marin Counci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Sample 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3120" y="1841400"/>
            <a:ext cx="8321760" cy="49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Arial"/>
              </a:rPr>
              <a:t>Vital Signs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What are they?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3000" y="2438280"/>
          <a:ext cx="1521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3000" y="2438280"/>
                    <a:ext cx="1521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Arial"/>
              </a:rPr>
              <a:t>Vital Signs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63640" y="1733400"/>
            <a:ext cx="7943760" cy="54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Youth dropping 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 youth recruiting or poor recruiting method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 adult leade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 planned program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 youth leader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 disciplin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it stops meet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arter lapses / drop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artered org. leader unhappy with the uni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nly one active adul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 parents involv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dult conflicts / poor communicat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Arial"/>
              </a:rPr>
              <a:t>TAKE ACTION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794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ult ADC / DC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some basic question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are the problems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are possible solutions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do we do first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 do we involve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do we know when unit is saved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is “plan B”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enthusiastic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pply "first aid“ (and “second aid”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mote teamwork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907320" y="1836720"/>
            <a:ext cx="1828800" cy="24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Arial"/>
              </a:rPr>
              <a:t>Hurry Cases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nit not meeting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o leade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o committe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o new member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flict with chartered organizatio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w untrained leade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eak leadership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467320" y="1873080"/>
          <a:ext cx="3676680" cy="22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7320" y="1873080"/>
                    <a:ext cx="3676680" cy="22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Arial"/>
              </a:rPr>
              <a:t>Lifesaving Team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d hoc, or organized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ring appropriate skills to bear on the problem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dapt to the individual problem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81960" y="165240"/>
            <a:ext cx="1371600" cy="13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6743880" y="4811760"/>
          <a:ext cx="2400120" cy="20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43880" y="4811760"/>
                    <a:ext cx="240012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000" spc="-1" strike="noStrike" u="sng">
                <a:solidFill>
                  <a:srgbClr val="fafd00"/>
                </a:solidFill>
                <a:uFillTx/>
                <a:latin typeface="Arial"/>
              </a:rPr>
              <a:t>REMEMBER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YOU can’t single-handedly solve problem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Solution is jointly developed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Employ all tools (District Committee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Keep trying to remedy problem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Once fixed – Keep tab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Try to fix problems before they develop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Information Resources: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Commissioner Fieldbook for Unit Service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, pages 1–22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 Narrow"/>
              </a:rPr>
              <a:t>Commissioner Administration of Unit Service</a:t>
            </a: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, Chapter 6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District Roundtables and Commissioners’ Meeting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www.netcommish.com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Discussion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Let’s share some experienc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What worked?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What didn’t work?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What resources did you use?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Any extraneous lessons learned?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8400" y="336240"/>
            <a:ext cx="8191440" cy="130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SUMMARY</a:t>
            </a:r>
            <a:br>
              <a:rPr sz="4000"/>
            </a:b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 Commissioner Lifesaving I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Watch the vital sig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Get into action fas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Don’t wait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Consult ADC or D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Ask 6 basic quest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Be enthusiastic—Show you car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Apply 1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 (and 2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 Narrow"/>
              </a:rPr>
              <a:t>nd</a:t>
            </a: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) ai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Generate atmosphere of teamwork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 Narrow"/>
              </a:rPr>
              <a:t>Continue normal car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2440" y="-360"/>
            <a:ext cx="7943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fesaving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mmissioner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!!!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94560" y="165240"/>
            <a:ext cx="1359000" cy="137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373560" y="2602080"/>
            <a:ext cx="3233520" cy="285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04960" y="228600"/>
            <a:ext cx="393408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Unit Expectations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timulation - 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Encouragement &amp; Help</a:t>
            </a: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nity - 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Make Us Feel We Are A Part Of Something Bigger</a:t>
            </a: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erspective - 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Bring Me A Fresh Viewpoint</a:t>
            </a: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rogram - 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Council And District Activities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rganization - 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How Can We Better Use The Patrol Method</a:t>
            </a: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ating - 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How Can I Do A Better Job</a:t>
            </a: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roop Committee - 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Assist Me With The Committee, and … 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Chartering Organizatio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 Narrow"/>
              <a:buChar char="»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Found by Randy Worcester in a 1953 </a:t>
            </a:r>
            <a:r>
              <a:rPr b="0" lang="en-GB" sz="1200" spc="-1" strike="noStrike" u="sng">
                <a:solidFill>
                  <a:srgbClr val="ffffff"/>
                </a:solidFill>
                <a:uFillTx/>
                <a:latin typeface="Arial Narrow"/>
              </a:rPr>
              <a:t>Scouting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Andrew Jackson Council, Jackson, M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8400" y="396720"/>
            <a:ext cx="81914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fafd00"/>
                </a:solidFill>
                <a:latin typeface="Arial"/>
              </a:rPr>
              <a:t>Elements of Successful </a:t>
            </a:r>
            <a:br>
              <a:rPr sz="3600"/>
            </a:br>
            <a:r>
              <a:rPr b="1" i="1" lang="en-GB" sz="3600" spc="-1" strike="noStrike">
                <a:solidFill>
                  <a:srgbClr val="fafd00"/>
                </a:solidFill>
                <a:latin typeface="Arial"/>
              </a:rPr>
              <a:t>Unit “Lifesaving”</a:t>
            </a:r>
            <a:endParaRPr b="1" i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Spot Problems Earl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Address Problems Right Awa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Be A “Coach-counselor”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Persuasion, Not Dictatio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Arial"/>
              </a:rPr>
              <a:t>Counseling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"Listen to someone in such a way that they will solve their own problems."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52800" y="3665520"/>
          <a:ext cx="2722680" cy="27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2800" y="3665520"/>
                    <a:ext cx="272268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8400" y="396720"/>
            <a:ext cx="8191440" cy="11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fafd00"/>
                </a:solidFill>
                <a:latin typeface="Arial"/>
              </a:rPr>
              <a:t>Elements of Successful </a:t>
            </a:r>
            <a:br>
              <a:rPr sz="3600"/>
            </a:br>
            <a:r>
              <a:rPr b="1" i="1" lang="en-GB" sz="3600" spc="-1" strike="noStrike">
                <a:solidFill>
                  <a:srgbClr val="fafd00"/>
                </a:solidFill>
                <a:latin typeface="Arial"/>
              </a:rPr>
              <a:t>Unit “Lifesaving”</a:t>
            </a:r>
            <a:endParaRPr b="1" i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Spot Problems Earl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Address Problems Right Awa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Be A “Coach-counselor”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84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Persuasion, Not Dictatio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Get Help From District Commissioner’s Staff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Don’t Let Little Problems Become Big On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Unit Health Assessment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Scouter Training?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Boy Participation?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Membership?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Advancement?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Outdoor Program?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Well-functioning Unit Organization?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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 Narrow"/>
              </a:rPr>
              <a:t>Requires Constant Unit Contac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Indicators of Unit Health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838080" y="1752480"/>
            <a:ext cx="7945560" cy="5078520"/>
            <a:chOff x="838080" y="1752480"/>
            <a:chExt cx="7945560" cy="5078520"/>
          </a:xfrm>
        </p:grpSpPr>
        <p:sp>
          <p:nvSpPr>
            <p:cNvPr id="69" name=""/>
            <p:cNvSpPr/>
            <p:nvPr/>
          </p:nvSpPr>
          <p:spPr>
            <a:xfrm>
              <a:off x="6796080" y="5759280"/>
              <a:ext cx="198612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Meeting oper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Planned progra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09960" y="5759280"/>
              <a:ext cx="198612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Meeting oper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Budget pl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Planned progra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24200" y="5759280"/>
              <a:ext cx="198576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Program Oper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Planned progra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8080" y="5759280"/>
              <a:ext cx="198612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Well-functioning Unit Organization?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96080" y="5173560"/>
              <a:ext cx="19861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09960" y="5173560"/>
              <a:ext cx="19861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Outdoor progra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24200" y="5173560"/>
              <a:ext cx="19857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8080" y="5173560"/>
              <a:ext cx="19861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Outdoor Program?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96080" y="4584600"/>
              <a:ext cx="1986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09960" y="4584600"/>
              <a:ext cx="1986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Advanceme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24200" y="4584600"/>
              <a:ext cx="19857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Advanceme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8080" y="4584600"/>
              <a:ext cx="1986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Advancement?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96080" y="3997440"/>
              <a:ext cx="1986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Membership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09960" y="3997440"/>
              <a:ext cx="1986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Membership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24200" y="3997440"/>
              <a:ext cx="19857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Membership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080" y="3997440"/>
              <a:ext cx="1986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Membership?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96080" y="2927520"/>
              <a:ext cx="19861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Attendanc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Elected Officer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9960" y="2927520"/>
              <a:ext cx="19861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Attend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Youth leadership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Patrol activ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24200" y="2927520"/>
              <a:ext cx="19857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Attendanc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Webelos d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Den activity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Den chiefs or den aid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8080" y="2927520"/>
              <a:ext cx="19861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Boy Participation?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96080" y="2341440"/>
              <a:ext cx="198612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Adult Leadersh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Adult assist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09960" y="2341440"/>
              <a:ext cx="198612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Adult assist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24200" y="2341440"/>
              <a:ext cx="198576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Leadership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Adult attend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341440"/>
              <a:ext cx="198612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 Narrow"/>
                </a:rPr>
                <a:t>Scouter Training?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96080" y="1752480"/>
              <a:ext cx="1986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CREW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09960" y="1752480"/>
              <a:ext cx="1986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TRO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24200" y="1752480"/>
              <a:ext cx="19857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PACK</a:t>
              </a:r>
              <a:r>
                <a:rPr b="0" lang="en-GB" sz="20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752480"/>
              <a:ext cx="1986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794412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8080" y="2341440"/>
              <a:ext cx="79441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8080" y="2927520"/>
              <a:ext cx="7944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8080" y="3997440"/>
              <a:ext cx="7944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8080" y="4584600"/>
              <a:ext cx="79441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8080" y="5173560"/>
              <a:ext cx="79441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080" y="5759280"/>
              <a:ext cx="79441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6829560"/>
              <a:ext cx="79441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8080" y="1752480"/>
              <a:ext cx="1800" cy="507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4200" y="1752480"/>
              <a:ext cx="1440" cy="507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9960" y="1752480"/>
              <a:ext cx="1800" cy="507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96080" y="1752480"/>
              <a:ext cx="1440" cy="507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782200" y="1752480"/>
              <a:ext cx="1440" cy="507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005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afd00"/>
                </a:solidFill>
                <a:latin typeface="Arial"/>
              </a:rPr>
              <a:t>Worksheet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825560"/>
            <a:ext cx="8055000" cy="481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hony Mei</dc:creator>
  <dc:description/>
  <dc:language>en-US</dc:language>
  <cp:lastModifiedBy>Anthony Mei</cp:lastModifiedBy>
  <cp:revision>0</cp:revision>
  <dc:subject/>
  <dc:title>Commissioner Lifesaving I [MS 303]</dc:title>
</cp:coreProperties>
</file>