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7.jpeg" ContentType="image/jpeg"/>
  <Override PartName="/ppt/media/image12.jpeg" ContentType="image/jpeg"/>
  <Override PartName="/ppt/media/image6.wmf" ContentType="image/x-wmf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393480" y="4191120"/>
            <a:ext cx="6040440" cy="41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Img"/>
          </p:nvPr>
        </p:nvSpPr>
        <p:spPr>
          <a:xfrm>
            <a:off x="1245960" y="866520"/>
            <a:ext cx="4343400" cy="325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0360" y="8294760"/>
            <a:ext cx="6186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r" pos="582768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000" spc="-1" strike="noStrike">
                <a:solidFill>
                  <a:srgbClr val="ffffff"/>
                </a:solidFill>
                <a:latin typeface="Arial Narrow"/>
              </a:rPr>
              <a:t>Lesson Plan • Master of Commissioner Science • July 2002</a:t>
            </a:r>
            <a:r>
              <a:rPr b="0" i="1" lang="en-GB" sz="1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i="1" lang="en-GB" sz="1000" spc="-1" strike="noStrike">
                <a:solidFill>
                  <a:srgbClr val="ffffff"/>
                </a:solidFill>
                <a:latin typeface="Arial Narrow"/>
              </a:rPr>
              <a:t>page </a:t>
            </a:r>
            <a:fld id="{B0DD821A-481B-4F5C-B62B-578CF97B8483}" type="slidenum">
              <a:rPr b="0" i="1" lang="en-GB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"/>
          <p:cNvSpPr/>
          <p:nvPr/>
        </p:nvSpPr>
        <p:spPr>
          <a:xfrm>
            <a:off x="401760" y="504720"/>
            <a:ext cx="6041880" cy="28116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7" name=""/>
          <p:cNvSpPr/>
          <p:nvPr/>
        </p:nvSpPr>
        <p:spPr>
          <a:xfrm>
            <a:off x="403200" y="460440"/>
            <a:ext cx="607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 Narrow"/>
              </a:rPr>
              <a:t>Master of Commissioner Science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47760" y="866880"/>
            <a:ext cx="4344840" cy="32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393840" y="4190760"/>
            <a:ext cx="604512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[Change the instructor’s name.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247760" y="866880"/>
            <a:ext cx="4344840" cy="32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393480" y="4190760"/>
            <a:ext cx="60418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47760" y="866880"/>
            <a:ext cx="4344840" cy="32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393480" y="4190760"/>
            <a:ext cx="60418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47760" y="866880"/>
            <a:ext cx="4344840" cy="32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393480" y="4190760"/>
            <a:ext cx="60418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247760" y="866880"/>
            <a:ext cx="4344840" cy="32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393480" y="4190760"/>
            <a:ext cx="60418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47760" y="866880"/>
            <a:ext cx="4344840" cy="32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393480" y="4190760"/>
            <a:ext cx="60418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47760" y="866880"/>
            <a:ext cx="4344840" cy="32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393480" y="4190760"/>
            <a:ext cx="60418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47760" y="866880"/>
            <a:ext cx="4344840" cy="32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393480" y="4186440"/>
            <a:ext cx="6041880" cy="42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247760" y="866880"/>
            <a:ext cx="4344840" cy="32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393840" y="4190760"/>
            <a:ext cx="604512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51000" indent="-351000">
              <a:lnSpc>
                <a:spcPct val="100000"/>
              </a:lnSpc>
              <a:buClr>
                <a:srgbClr val="000000"/>
              </a:buClr>
              <a:buFont typeface="Arial"/>
              <a:buAutoNum type="romanUcPeriod"/>
              <a:tabLst>
                <a:tab algn="l" pos="351000"/>
                <a:tab algn="l" pos="808200"/>
                <a:tab algn="l" pos="1265400"/>
                <a:tab algn="l" pos="1722600"/>
                <a:tab algn="l" pos="2179800"/>
                <a:tab algn="l" pos="2637000"/>
                <a:tab algn="l" pos="3094200"/>
                <a:tab algn="l" pos="3551400"/>
                <a:tab algn="l" pos="4008600"/>
                <a:tab algn="l" pos="4465800"/>
                <a:tab algn="l" pos="4923000"/>
                <a:tab algn="l" pos="5380200"/>
                <a:tab algn="l" pos="5837400"/>
                <a:tab algn="l" pos="6294600"/>
                <a:tab algn="l" pos="6751800"/>
                <a:tab algn="l" pos="7209000"/>
                <a:tab algn="l" pos="7666200"/>
                <a:tab algn="l" pos="8123400"/>
                <a:tab algn="l" pos="8580600"/>
                <a:tab algn="l" pos="9037800"/>
                <a:tab algn="l" pos="9495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What is commissioner lifesaving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0">
              <a:lnSpc>
                <a:spcPct val="100000"/>
              </a:lnSpc>
              <a:buNone/>
              <a:tabLst>
                <a:tab algn="l" pos="0"/>
                <a:tab algn="l" pos="351000"/>
                <a:tab algn="l" pos="808200"/>
                <a:tab algn="l" pos="1265400"/>
                <a:tab algn="l" pos="1722600"/>
                <a:tab algn="l" pos="2179800"/>
                <a:tab algn="l" pos="2637000"/>
                <a:tab algn="l" pos="3094200"/>
                <a:tab algn="l" pos="3551400"/>
                <a:tab algn="l" pos="4008600"/>
                <a:tab algn="l" pos="4465800"/>
                <a:tab algn="l" pos="4923000"/>
                <a:tab algn="l" pos="5380200"/>
                <a:tab algn="l" pos="5837400"/>
                <a:tab algn="l" pos="6294600"/>
                <a:tab algn="l" pos="6751800"/>
                <a:tab algn="l" pos="7209000"/>
                <a:tab algn="l" pos="7666200"/>
                <a:tab algn="l" pos="8123400"/>
                <a:tab algn="l" pos="8580600"/>
                <a:tab algn="l" pos="9037800"/>
                <a:tab algn="l" pos="9495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351000"/>
                <a:tab algn="l" pos="808200"/>
                <a:tab algn="l" pos="1265400"/>
                <a:tab algn="l" pos="1722600"/>
                <a:tab algn="l" pos="2179800"/>
                <a:tab algn="l" pos="2637000"/>
                <a:tab algn="l" pos="3094200"/>
                <a:tab algn="l" pos="3551400"/>
                <a:tab algn="l" pos="4008600"/>
                <a:tab algn="l" pos="4465800"/>
                <a:tab algn="l" pos="4923000"/>
                <a:tab algn="l" pos="5380200"/>
                <a:tab algn="l" pos="5837400"/>
                <a:tab algn="l" pos="6294600"/>
                <a:tab algn="l" pos="6751800"/>
                <a:tab algn="l" pos="7209000"/>
                <a:tab algn="l" pos="7666200"/>
                <a:tab algn="l" pos="8123400"/>
                <a:tab algn="l" pos="8580600"/>
                <a:tab algn="l" pos="9037800"/>
                <a:tab algn="l" pos="9495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No, you don’t carry a rope and life buoy.  But, when there’s a “critical illness” in one of your units, you become a “Scouting paramedic.”  You become a “lifesaving commissioner.”  You may even help put together a “lifesaving team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0">
              <a:lnSpc>
                <a:spcPct val="100000"/>
              </a:lnSpc>
              <a:buNone/>
              <a:tabLst>
                <a:tab algn="l" pos="0"/>
                <a:tab algn="l" pos="351000"/>
                <a:tab algn="l" pos="808200"/>
                <a:tab algn="l" pos="1265400"/>
                <a:tab algn="l" pos="1722600"/>
                <a:tab algn="l" pos="2179800"/>
                <a:tab algn="l" pos="2637000"/>
                <a:tab algn="l" pos="3094200"/>
                <a:tab algn="l" pos="3551400"/>
                <a:tab algn="l" pos="4008600"/>
                <a:tab algn="l" pos="4465800"/>
                <a:tab algn="l" pos="4923000"/>
                <a:tab algn="l" pos="5380200"/>
                <a:tab algn="l" pos="5837400"/>
                <a:tab algn="l" pos="6294600"/>
                <a:tab algn="l" pos="6751800"/>
                <a:tab algn="l" pos="7209000"/>
                <a:tab algn="l" pos="7666200"/>
                <a:tab algn="l" pos="8123400"/>
                <a:tab algn="l" pos="8580600"/>
                <a:tab algn="l" pos="9037800"/>
                <a:tab algn="l" pos="9495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351000"/>
                <a:tab algn="l" pos="808200"/>
                <a:tab algn="l" pos="1265400"/>
                <a:tab algn="l" pos="1722600"/>
                <a:tab algn="l" pos="2179800"/>
                <a:tab algn="l" pos="2637000"/>
                <a:tab algn="l" pos="3094200"/>
                <a:tab algn="l" pos="3551400"/>
                <a:tab algn="l" pos="4008600"/>
                <a:tab algn="l" pos="4465800"/>
                <a:tab algn="l" pos="4923000"/>
                <a:tab algn="l" pos="5380200"/>
                <a:tab algn="l" pos="5837400"/>
                <a:tab algn="l" pos="6294600"/>
                <a:tab algn="l" pos="6751800"/>
                <a:tab algn="l" pos="7209000"/>
                <a:tab algn="l" pos="7666200"/>
                <a:tab algn="l" pos="8123400"/>
                <a:tab algn="l" pos="8580600"/>
                <a:tab algn="l" pos="9037800"/>
                <a:tab algn="l" pos="9495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The urgent cases you’re likely to face include loss of adult leadership, no unit program, or conflict between unit leaders and the chartered organization.  Without “intensive care” from you or a team of lifesavers, such a unit could become terminal and stop serving ki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0">
              <a:lnSpc>
                <a:spcPct val="100000"/>
              </a:lnSpc>
              <a:buNone/>
              <a:tabLst>
                <a:tab algn="l" pos="0"/>
                <a:tab algn="l" pos="351000"/>
                <a:tab algn="l" pos="808200"/>
                <a:tab algn="l" pos="1265400"/>
                <a:tab algn="l" pos="1722600"/>
                <a:tab algn="l" pos="2179800"/>
                <a:tab algn="l" pos="2637000"/>
                <a:tab algn="l" pos="3094200"/>
                <a:tab algn="l" pos="3551400"/>
                <a:tab algn="l" pos="4008600"/>
                <a:tab algn="l" pos="4465800"/>
                <a:tab algn="l" pos="4923000"/>
                <a:tab algn="l" pos="5380200"/>
                <a:tab algn="l" pos="5837400"/>
                <a:tab algn="l" pos="6294600"/>
                <a:tab algn="l" pos="6751800"/>
                <a:tab algn="l" pos="7209000"/>
                <a:tab algn="l" pos="7666200"/>
                <a:tab algn="l" pos="8123400"/>
                <a:tab algn="l" pos="8580600"/>
                <a:tab algn="l" pos="9037800"/>
                <a:tab algn="l" pos="9495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351000"/>
                <a:tab algn="l" pos="808200"/>
                <a:tab algn="l" pos="1265400"/>
                <a:tab algn="l" pos="1722600"/>
                <a:tab algn="l" pos="2179800"/>
                <a:tab algn="l" pos="2637000"/>
                <a:tab algn="l" pos="3094200"/>
                <a:tab algn="l" pos="3551400"/>
                <a:tab algn="l" pos="4008600"/>
                <a:tab algn="l" pos="4465800"/>
                <a:tab algn="l" pos="4923000"/>
                <a:tab algn="l" pos="5380200"/>
                <a:tab algn="l" pos="5837400"/>
                <a:tab algn="l" pos="6294600"/>
                <a:tab algn="l" pos="6751800"/>
                <a:tab algn="l" pos="7209000"/>
                <a:tab algn="l" pos="7666200"/>
                <a:tab algn="l" pos="8123400"/>
                <a:tab algn="l" pos="8580600"/>
                <a:tab algn="l" pos="9037800"/>
                <a:tab algn="l" pos="9495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Dead units, obviously, provide no help to youth.  Perhaps your district volunteers have made a pact not to lose another unit.  Perhaps you have made a commitment never to lose a unit.  That will require prompt, intensive, and often persistent care when major problems occu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247760" y="866880"/>
            <a:ext cx="4344840" cy="32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393840" y="4190760"/>
            <a:ext cx="604512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51000" indent="-3510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romanUcPeriod"/>
              <a:tabLst>
                <a:tab algn="l" pos="351000"/>
                <a:tab algn="l" pos="808200"/>
                <a:tab algn="l" pos="1265400"/>
                <a:tab algn="l" pos="1722600"/>
                <a:tab algn="l" pos="2179800"/>
                <a:tab algn="l" pos="2637000"/>
                <a:tab algn="l" pos="3094200"/>
                <a:tab algn="l" pos="3551400"/>
                <a:tab algn="l" pos="4008600"/>
                <a:tab algn="l" pos="4465800"/>
                <a:tab algn="l" pos="4923000"/>
                <a:tab algn="l" pos="5380200"/>
                <a:tab algn="l" pos="5837400"/>
                <a:tab algn="l" pos="6294600"/>
                <a:tab algn="l" pos="6751800"/>
                <a:tab algn="l" pos="7209000"/>
                <a:tab algn="l" pos="7666200"/>
                <a:tab algn="l" pos="8123400"/>
                <a:tab algn="l" pos="8580600"/>
                <a:tab algn="l" pos="9037800"/>
                <a:tab algn="l" pos="9495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Watch the vital sig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351000"/>
                <a:tab algn="l" pos="808200"/>
                <a:tab algn="l" pos="1265400"/>
                <a:tab algn="l" pos="1722600"/>
                <a:tab algn="l" pos="2179800"/>
                <a:tab algn="l" pos="2637000"/>
                <a:tab algn="l" pos="3094200"/>
                <a:tab algn="l" pos="3551400"/>
                <a:tab algn="l" pos="4008600"/>
                <a:tab algn="l" pos="4465800"/>
                <a:tab algn="l" pos="4923000"/>
                <a:tab algn="l" pos="5380200"/>
                <a:tab algn="l" pos="5837400"/>
                <a:tab algn="l" pos="6294600"/>
                <a:tab algn="l" pos="6751800"/>
                <a:tab algn="l" pos="7209000"/>
                <a:tab algn="l" pos="7666200"/>
                <a:tab algn="l" pos="8123400"/>
                <a:tab algn="l" pos="8580600"/>
                <a:tab algn="l" pos="9037800"/>
                <a:tab algn="l" pos="9495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lphaUcPeriod"/>
              <a:tabLst>
                <a:tab algn="l" pos="351000"/>
                <a:tab algn="l" pos="808200"/>
                <a:tab algn="l" pos="1265400"/>
                <a:tab algn="l" pos="1722600"/>
                <a:tab algn="l" pos="2179800"/>
                <a:tab algn="l" pos="2637000"/>
                <a:tab algn="l" pos="3094200"/>
                <a:tab algn="l" pos="3551400"/>
                <a:tab algn="l" pos="4008600"/>
                <a:tab algn="l" pos="4465800"/>
                <a:tab algn="l" pos="4923000"/>
                <a:tab algn="l" pos="5380200"/>
                <a:tab algn="l" pos="5837400"/>
                <a:tab algn="l" pos="6294600"/>
                <a:tab algn="l" pos="6751800"/>
                <a:tab algn="l" pos="7209000"/>
                <a:tab algn="l" pos="7666200"/>
                <a:tab algn="l" pos="8123400"/>
                <a:tab algn="l" pos="8580600"/>
                <a:tab algn="l" pos="9037800"/>
                <a:tab algn="l" pos="9495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Just as the paramedics and other medical caregivers check vital signs, so does a good commissioner.  He or she watches the vital signs of a unit.  Any one or a group of bad signs should alert you to a life-threatening situ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351000"/>
                <a:tab algn="l" pos="808200"/>
                <a:tab algn="l" pos="1265400"/>
                <a:tab algn="l" pos="1722600"/>
                <a:tab algn="l" pos="2179800"/>
                <a:tab algn="l" pos="2637000"/>
                <a:tab algn="l" pos="3094200"/>
                <a:tab algn="l" pos="3551400"/>
                <a:tab algn="l" pos="4008600"/>
                <a:tab algn="l" pos="4465800"/>
                <a:tab algn="l" pos="4923000"/>
                <a:tab algn="l" pos="5380200"/>
                <a:tab algn="l" pos="5837400"/>
                <a:tab algn="l" pos="6294600"/>
                <a:tab algn="l" pos="6751800"/>
                <a:tab algn="l" pos="7209000"/>
                <a:tab algn="l" pos="7666200"/>
                <a:tab algn="l" pos="8123400"/>
                <a:tab algn="l" pos="8580600"/>
                <a:tab algn="l" pos="9037800"/>
                <a:tab algn="l" pos="9495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lphaUcPeriod"/>
              <a:tabLst>
                <a:tab algn="l" pos="351000"/>
                <a:tab algn="l" pos="808200"/>
                <a:tab algn="l" pos="1265400"/>
                <a:tab algn="l" pos="1722600"/>
                <a:tab algn="l" pos="2179800"/>
                <a:tab algn="l" pos="2637000"/>
                <a:tab algn="l" pos="3094200"/>
                <a:tab algn="l" pos="3551400"/>
                <a:tab algn="l" pos="4008600"/>
                <a:tab algn="l" pos="4465800"/>
                <a:tab algn="l" pos="4923000"/>
                <a:tab algn="l" pos="5380200"/>
                <a:tab algn="l" pos="5837400"/>
                <a:tab algn="l" pos="6294600"/>
                <a:tab algn="l" pos="6751800"/>
                <a:tab algn="l" pos="7209000"/>
                <a:tab algn="l" pos="7666200"/>
                <a:tab algn="l" pos="8123400"/>
                <a:tab algn="l" pos="8580600"/>
                <a:tab algn="l" pos="9037800"/>
                <a:tab algn="l" pos="9495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What are some of these life-threatening situations?  (Hold a group brainstorming session.  See the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Commissioner Fieldbook.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209680" y="866880"/>
            <a:ext cx="2514600" cy="164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93840" y="2514600"/>
            <a:ext cx="6045120" cy="556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51000" indent="-351000">
              <a:lnSpc>
                <a:spcPct val="100000"/>
              </a:lnSpc>
              <a:buClr>
                <a:srgbClr val="000000"/>
              </a:buClr>
              <a:buFont typeface="Arial"/>
              <a:buAutoNum type="romanUcPeriod"/>
              <a:tabLst>
                <a:tab algn="l" pos="351000"/>
                <a:tab algn="l" pos="808200"/>
                <a:tab algn="l" pos="1265400"/>
                <a:tab algn="l" pos="1722600"/>
                <a:tab algn="l" pos="2179800"/>
                <a:tab algn="l" pos="2637000"/>
                <a:tab algn="l" pos="3094200"/>
                <a:tab algn="l" pos="3551400"/>
                <a:tab algn="l" pos="4008600"/>
                <a:tab algn="l" pos="4465800"/>
                <a:tab algn="l" pos="4923000"/>
                <a:tab algn="l" pos="5380200"/>
                <a:tab algn="l" pos="5837400"/>
                <a:tab algn="l" pos="6294600"/>
                <a:tab algn="l" pos="6751800"/>
                <a:tab algn="l" pos="7209000"/>
                <a:tab algn="l" pos="7666200"/>
                <a:tab algn="l" pos="8123400"/>
                <a:tab algn="l" pos="8580600"/>
                <a:tab algn="l" pos="9037800"/>
                <a:tab algn="l" pos="9495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Go into action fa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0">
              <a:lnSpc>
                <a:spcPct val="100000"/>
              </a:lnSpc>
              <a:buNone/>
              <a:tabLst>
                <a:tab algn="l" pos="0"/>
                <a:tab algn="l" pos="351000"/>
                <a:tab algn="l" pos="808200"/>
                <a:tab algn="l" pos="1265400"/>
                <a:tab algn="l" pos="1722600"/>
                <a:tab algn="l" pos="2179800"/>
                <a:tab algn="l" pos="2637000"/>
                <a:tab algn="l" pos="3094200"/>
                <a:tab algn="l" pos="3551400"/>
                <a:tab algn="l" pos="4008600"/>
                <a:tab algn="l" pos="4465800"/>
                <a:tab algn="l" pos="4923000"/>
                <a:tab algn="l" pos="5380200"/>
                <a:tab algn="l" pos="5837400"/>
                <a:tab algn="l" pos="6294600"/>
                <a:tab algn="l" pos="6751800"/>
                <a:tab algn="l" pos="7209000"/>
                <a:tab algn="l" pos="7666200"/>
                <a:tab algn="l" pos="8123400"/>
                <a:tab algn="l" pos="8580600"/>
                <a:tab algn="l" pos="9037800"/>
                <a:tab algn="l" pos="9495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0">
              <a:lnSpc>
                <a:spcPct val="100000"/>
              </a:lnSpc>
              <a:buNone/>
              <a:tabLst>
                <a:tab algn="l" pos="0"/>
                <a:tab algn="l" pos="351000"/>
                <a:tab algn="l" pos="808200"/>
                <a:tab algn="l" pos="1265400"/>
                <a:tab algn="l" pos="1722600"/>
                <a:tab algn="l" pos="2179800"/>
                <a:tab algn="l" pos="2637000"/>
                <a:tab algn="l" pos="3094200"/>
                <a:tab algn="l" pos="3551400"/>
                <a:tab algn="l" pos="4008600"/>
                <a:tab algn="l" pos="4465800"/>
                <a:tab algn="l" pos="4923000"/>
                <a:tab algn="l" pos="5380200"/>
                <a:tab algn="l" pos="5837400"/>
                <a:tab algn="l" pos="6294600"/>
                <a:tab algn="l" pos="6751800"/>
                <a:tab algn="l" pos="7209000"/>
                <a:tab algn="l" pos="7666200"/>
                <a:tab algn="l" pos="8123400"/>
                <a:tab algn="l" pos="8580600"/>
                <a:tab algn="l" pos="9037800"/>
                <a:tab algn="l" pos="9495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(See the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Commissioner Fieldbook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 section, “Be a Lifesaving Commissioner.”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0">
              <a:lnSpc>
                <a:spcPct val="100000"/>
              </a:lnSpc>
              <a:buNone/>
              <a:tabLst>
                <a:tab algn="l" pos="0"/>
                <a:tab algn="l" pos="351000"/>
                <a:tab algn="l" pos="808200"/>
                <a:tab algn="l" pos="1265400"/>
                <a:tab algn="l" pos="1722600"/>
                <a:tab algn="l" pos="2179800"/>
                <a:tab algn="l" pos="2637000"/>
                <a:tab algn="l" pos="3094200"/>
                <a:tab algn="l" pos="3551400"/>
                <a:tab algn="l" pos="4008600"/>
                <a:tab algn="l" pos="4465800"/>
                <a:tab algn="l" pos="4923000"/>
                <a:tab algn="l" pos="5380200"/>
                <a:tab algn="l" pos="5837400"/>
                <a:tab algn="l" pos="6294600"/>
                <a:tab algn="l" pos="6751800"/>
                <a:tab algn="l" pos="7209000"/>
                <a:tab algn="l" pos="7666200"/>
                <a:tab algn="l" pos="8123400"/>
                <a:tab algn="l" pos="8580600"/>
                <a:tab algn="l" pos="9037800"/>
                <a:tab algn="l" pos="9495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351000"/>
                <a:tab algn="l" pos="808200"/>
                <a:tab algn="l" pos="1265400"/>
                <a:tab algn="l" pos="1722600"/>
                <a:tab algn="l" pos="2179800"/>
                <a:tab algn="l" pos="2637000"/>
                <a:tab algn="l" pos="3094200"/>
                <a:tab algn="l" pos="3551400"/>
                <a:tab algn="l" pos="4008600"/>
                <a:tab algn="l" pos="4465800"/>
                <a:tab algn="l" pos="4923000"/>
                <a:tab algn="l" pos="5380200"/>
                <a:tab algn="l" pos="5837400"/>
                <a:tab algn="l" pos="6294600"/>
                <a:tab algn="l" pos="6751800"/>
                <a:tab algn="l" pos="7209000"/>
                <a:tab algn="l" pos="7666200"/>
                <a:tab algn="l" pos="8123400"/>
                <a:tab algn="l" pos="8580600"/>
                <a:tab algn="l" pos="9037800"/>
                <a:tab algn="l" pos="9495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Don’t wait until next month’s commissioner staff meeting.  Don’t wait until someone else suggests the perfect solution.  Go into action now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0">
              <a:lnSpc>
                <a:spcPct val="100000"/>
              </a:lnSpc>
              <a:buNone/>
              <a:tabLst>
                <a:tab algn="l" pos="0"/>
                <a:tab algn="l" pos="351000"/>
                <a:tab algn="l" pos="808200"/>
                <a:tab algn="l" pos="1265400"/>
                <a:tab algn="l" pos="1722600"/>
                <a:tab algn="l" pos="2179800"/>
                <a:tab algn="l" pos="2637000"/>
                <a:tab algn="l" pos="3094200"/>
                <a:tab algn="l" pos="3551400"/>
                <a:tab algn="l" pos="4008600"/>
                <a:tab algn="l" pos="4465800"/>
                <a:tab algn="l" pos="4923000"/>
                <a:tab algn="l" pos="5380200"/>
                <a:tab algn="l" pos="5837400"/>
                <a:tab algn="l" pos="6294600"/>
                <a:tab algn="l" pos="6751800"/>
                <a:tab algn="l" pos="7209000"/>
                <a:tab algn="l" pos="7666200"/>
                <a:tab algn="l" pos="8123400"/>
                <a:tab algn="l" pos="8580600"/>
                <a:tab algn="l" pos="9037800"/>
                <a:tab algn="l" pos="9495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351000"/>
                <a:tab algn="l" pos="808200"/>
                <a:tab algn="l" pos="1265400"/>
                <a:tab algn="l" pos="1722600"/>
                <a:tab algn="l" pos="2179800"/>
                <a:tab algn="l" pos="2637000"/>
                <a:tab algn="l" pos="3094200"/>
                <a:tab algn="l" pos="3551400"/>
                <a:tab algn="l" pos="4008600"/>
                <a:tab algn="l" pos="4465800"/>
                <a:tab algn="l" pos="4923000"/>
                <a:tab algn="l" pos="5380200"/>
                <a:tab algn="l" pos="5837400"/>
                <a:tab algn="l" pos="6294600"/>
                <a:tab algn="l" pos="6751800"/>
                <a:tab algn="l" pos="7209000"/>
                <a:tab algn="l" pos="7666200"/>
                <a:tab algn="l" pos="8123400"/>
                <a:tab algn="l" pos="8580600"/>
                <a:tab algn="l" pos="9037800"/>
                <a:tab algn="l" pos="9495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A commissioner might be tempted to give the most attention to the healthiest and most active units.  Paramedics don’t do that.  Neither do lifesaving commissioners.  Establish that unit as a priority unit.  Priority units receive your most careful atten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0">
              <a:lnSpc>
                <a:spcPct val="100000"/>
              </a:lnSpc>
              <a:buNone/>
              <a:tabLst>
                <a:tab algn="l" pos="0"/>
                <a:tab algn="l" pos="351000"/>
                <a:tab algn="l" pos="808200"/>
                <a:tab algn="l" pos="1265400"/>
                <a:tab algn="l" pos="1722600"/>
                <a:tab algn="l" pos="2179800"/>
                <a:tab algn="l" pos="2637000"/>
                <a:tab algn="l" pos="3094200"/>
                <a:tab algn="l" pos="3551400"/>
                <a:tab algn="l" pos="4008600"/>
                <a:tab algn="l" pos="4465800"/>
                <a:tab algn="l" pos="4923000"/>
                <a:tab algn="l" pos="5380200"/>
                <a:tab algn="l" pos="5837400"/>
                <a:tab algn="l" pos="6294600"/>
                <a:tab algn="l" pos="6751800"/>
                <a:tab algn="l" pos="7209000"/>
                <a:tab algn="l" pos="7666200"/>
                <a:tab algn="l" pos="8123400"/>
                <a:tab algn="l" pos="8580600"/>
                <a:tab algn="l" pos="9037800"/>
                <a:tab algn="l" pos="9495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351000"/>
                <a:tab algn="l" pos="808200"/>
                <a:tab algn="l" pos="1265400"/>
                <a:tab algn="l" pos="1722600"/>
                <a:tab algn="l" pos="2179800"/>
                <a:tab algn="l" pos="2637000"/>
                <a:tab algn="l" pos="3094200"/>
                <a:tab algn="l" pos="3551400"/>
                <a:tab algn="l" pos="4008600"/>
                <a:tab algn="l" pos="4465800"/>
                <a:tab algn="l" pos="4923000"/>
                <a:tab algn="l" pos="5380200"/>
                <a:tab algn="l" pos="5837400"/>
                <a:tab algn="l" pos="6294600"/>
                <a:tab algn="l" pos="6751800"/>
                <a:tab algn="l" pos="7209000"/>
                <a:tab algn="l" pos="7666200"/>
                <a:tab algn="l" pos="8123400"/>
                <a:tab algn="l" pos="8580600"/>
                <a:tab algn="l" pos="9037800"/>
                <a:tab algn="l" pos="9495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Consult with your assistant district commissioner or district commission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0">
              <a:lnSpc>
                <a:spcPct val="100000"/>
              </a:lnSpc>
              <a:buNone/>
              <a:tabLst>
                <a:tab algn="l" pos="0"/>
                <a:tab algn="l" pos="351000"/>
                <a:tab algn="l" pos="808200"/>
                <a:tab algn="l" pos="1265400"/>
                <a:tab algn="l" pos="1722600"/>
                <a:tab algn="l" pos="2179800"/>
                <a:tab algn="l" pos="2637000"/>
                <a:tab algn="l" pos="3094200"/>
                <a:tab algn="l" pos="3551400"/>
                <a:tab algn="l" pos="4008600"/>
                <a:tab algn="l" pos="4465800"/>
                <a:tab algn="l" pos="4923000"/>
                <a:tab algn="l" pos="5380200"/>
                <a:tab algn="l" pos="5837400"/>
                <a:tab algn="l" pos="6294600"/>
                <a:tab algn="l" pos="6751800"/>
                <a:tab algn="l" pos="7209000"/>
                <a:tab algn="l" pos="7666200"/>
                <a:tab algn="l" pos="8123400"/>
                <a:tab algn="l" pos="8580600"/>
                <a:tab algn="l" pos="9037800"/>
                <a:tab algn="l" pos="9495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351000"/>
                <a:tab algn="l" pos="808200"/>
                <a:tab algn="l" pos="1265400"/>
                <a:tab algn="l" pos="1722600"/>
                <a:tab algn="l" pos="2179800"/>
                <a:tab algn="l" pos="2637000"/>
                <a:tab algn="l" pos="3094200"/>
                <a:tab algn="l" pos="3551400"/>
                <a:tab algn="l" pos="4008600"/>
                <a:tab algn="l" pos="4465800"/>
                <a:tab algn="l" pos="4923000"/>
                <a:tab algn="l" pos="5380200"/>
                <a:tab algn="l" pos="5837400"/>
                <a:tab algn="l" pos="6294600"/>
                <a:tab algn="l" pos="6751800"/>
                <a:tab algn="l" pos="7209000"/>
                <a:tab algn="l" pos="7666200"/>
                <a:tab algn="l" pos="8123400"/>
                <a:tab algn="l" pos="8580600"/>
                <a:tab algn="l" pos="9037800"/>
                <a:tab algn="l" pos="9495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Ask six basic quest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0">
              <a:lnSpc>
                <a:spcPct val="100000"/>
              </a:lnSpc>
              <a:buNone/>
              <a:tabLst>
                <a:tab algn="l" pos="0"/>
                <a:tab algn="l" pos="351000"/>
                <a:tab algn="l" pos="808200"/>
                <a:tab algn="l" pos="1265400"/>
                <a:tab algn="l" pos="1722600"/>
                <a:tab algn="l" pos="2179800"/>
                <a:tab algn="l" pos="2637000"/>
                <a:tab algn="l" pos="3094200"/>
                <a:tab algn="l" pos="3551400"/>
                <a:tab algn="l" pos="4008600"/>
                <a:tab algn="l" pos="4465800"/>
                <a:tab algn="l" pos="4923000"/>
                <a:tab algn="l" pos="5380200"/>
                <a:tab algn="l" pos="5837400"/>
                <a:tab algn="l" pos="6294600"/>
                <a:tab algn="l" pos="6751800"/>
                <a:tab algn="l" pos="7209000"/>
                <a:tab algn="l" pos="7666200"/>
                <a:tab algn="l" pos="8123400"/>
                <a:tab algn="l" pos="8580600"/>
                <a:tab algn="l" pos="9037800"/>
                <a:tab algn="l" pos="9495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351000"/>
                <a:tab algn="l" pos="808200"/>
                <a:tab algn="l" pos="1265400"/>
                <a:tab algn="l" pos="1722600"/>
                <a:tab algn="l" pos="2179800"/>
                <a:tab algn="l" pos="2637000"/>
                <a:tab algn="l" pos="3094200"/>
                <a:tab algn="l" pos="3551400"/>
                <a:tab algn="l" pos="4008600"/>
                <a:tab algn="l" pos="4465800"/>
                <a:tab algn="l" pos="4923000"/>
                <a:tab algn="l" pos="5380200"/>
                <a:tab algn="l" pos="5837400"/>
                <a:tab algn="l" pos="6294600"/>
                <a:tab algn="l" pos="6751800"/>
                <a:tab algn="l" pos="7209000"/>
                <a:tab algn="l" pos="7666200"/>
                <a:tab algn="l" pos="8123400"/>
                <a:tab algn="l" pos="8580600"/>
                <a:tab algn="l" pos="9037800"/>
                <a:tab algn="l" pos="9495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Be enthusiastic.  Demonstrate that you car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0">
              <a:lnSpc>
                <a:spcPct val="100000"/>
              </a:lnSpc>
              <a:buNone/>
              <a:tabLst>
                <a:tab algn="l" pos="0"/>
                <a:tab algn="l" pos="351000"/>
                <a:tab algn="l" pos="808200"/>
                <a:tab algn="l" pos="1265400"/>
                <a:tab algn="l" pos="1722600"/>
                <a:tab algn="l" pos="2179800"/>
                <a:tab algn="l" pos="2637000"/>
                <a:tab algn="l" pos="3094200"/>
                <a:tab algn="l" pos="3551400"/>
                <a:tab algn="l" pos="4008600"/>
                <a:tab algn="l" pos="4465800"/>
                <a:tab algn="l" pos="4923000"/>
                <a:tab algn="l" pos="5380200"/>
                <a:tab algn="l" pos="5837400"/>
                <a:tab algn="l" pos="6294600"/>
                <a:tab algn="l" pos="6751800"/>
                <a:tab algn="l" pos="7209000"/>
                <a:tab algn="l" pos="7666200"/>
                <a:tab algn="l" pos="8123400"/>
                <a:tab algn="l" pos="8580600"/>
                <a:tab algn="l" pos="9037800"/>
                <a:tab algn="l" pos="9495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351000"/>
                <a:tab algn="l" pos="808200"/>
                <a:tab algn="l" pos="1265400"/>
                <a:tab algn="l" pos="1722600"/>
                <a:tab algn="l" pos="2179800"/>
                <a:tab algn="l" pos="2637000"/>
                <a:tab algn="l" pos="3094200"/>
                <a:tab algn="l" pos="3551400"/>
                <a:tab algn="l" pos="4008600"/>
                <a:tab algn="l" pos="4465800"/>
                <a:tab algn="l" pos="4923000"/>
                <a:tab algn="l" pos="5380200"/>
                <a:tab algn="l" pos="5837400"/>
                <a:tab algn="l" pos="6294600"/>
                <a:tab algn="l" pos="6751800"/>
                <a:tab algn="l" pos="7209000"/>
                <a:tab algn="l" pos="7666200"/>
                <a:tab algn="l" pos="8123400"/>
                <a:tab algn="l" pos="8580600"/>
                <a:tab algn="l" pos="9037800"/>
                <a:tab algn="l" pos="9495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Apply “first aid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0">
              <a:lnSpc>
                <a:spcPct val="100000"/>
              </a:lnSpc>
              <a:buNone/>
              <a:tabLst>
                <a:tab algn="l" pos="0"/>
                <a:tab algn="l" pos="351000"/>
                <a:tab algn="l" pos="808200"/>
                <a:tab algn="l" pos="1265400"/>
                <a:tab algn="l" pos="1722600"/>
                <a:tab algn="l" pos="2179800"/>
                <a:tab algn="l" pos="2637000"/>
                <a:tab algn="l" pos="3094200"/>
                <a:tab algn="l" pos="3551400"/>
                <a:tab algn="l" pos="4008600"/>
                <a:tab algn="l" pos="4465800"/>
                <a:tab algn="l" pos="4923000"/>
                <a:tab algn="l" pos="5380200"/>
                <a:tab algn="l" pos="5837400"/>
                <a:tab algn="l" pos="6294600"/>
                <a:tab algn="l" pos="6751800"/>
                <a:tab algn="l" pos="7209000"/>
                <a:tab algn="l" pos="7666200"/>
                <a:tab algn="l" pos="8123400"/>
                <a:tab algn="l" pos="8580600"/>
                <a:tab algn="l" pos="9037800"/>
                <a:tab algn="l" pos="9495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buClr>
                <a:srgbClr val="000000"/>
              </a:buClr>
              <a:buFont typeface="Arial"/>
              <a:buAutoNum type="romanUcPeriod"/>
              <a:tabLst>
                <a:tab algn="l" pos="351000"/>
                <a:tab algn="l" pos="808200"/>
                <a:tab algn="l" pos="1265400"/>
                <a:tab algn="l" pos="1722600"/>
                <a:tab algn="l" pos="2179800"/>
                <a:tab algn="l" pos="2637000"/>
                <a:tab algn="l" pos="3094200"/>
                <a:tab algn="l" pos="3551400"/>
                <a:tab algn="l" pos="4008600"/>
                <a:tab algn="l" pos="4465800"/>
                <a:tab algn="l" pos="4923000"/>
                <a:tab algn="l" pos="5380200"/>
                <a:tab algn="l" pos="5837400"/>
                <a:tab algn="l" pos="6294600"/>
                <a:tab algn="l" pos="6751800"/>
                <a:tab algn="l" pos="7209000"/>
                <a:tab algn="l" pos="7666200"/>
                <a:tab algn="l" pos="8123400"/>
                <a:tab algn="l" pos="8580600"/>
                <a:tab algn="l" pos="9037800"/>
                <a:tab algn="l" pos="9495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Apply “second aid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0">
              <a:lnSpc>
                <a:spcPct val="100000"/>
              </a:lnSpc>
              <a:buNone/>
              <a:tabLst>
                <a:tab algn="l" pos="0"/>
                <a:tab algn="l" pos="351000"/>
                <a:tab algn="l" pos="808200"/>
                <a:tab algn="l" pos="1265400"/>
                <a:tab algn="l" pos="1722600"/>
                <a:tab algn="l" pos="2179800"/>
                <a:tab algn="l" pos="2637000"/>
                <a:tab algn="l" pos="3094200"/>
                <a:tab algn="l" pos="3551400"/>
                <a:tab algn="l" pos="4008600"/>
                <a:tab algn="l" pos="4465800"/>
                <a:tab algn="l" pos="4923000"/>
                <a:tab algn="l" pos="5380200"/>
                <a:tab algn="l" pos="5837400"/>
                <a:tab algn="l" pos="6294600"/>
                <a:tab algn="l" pos="6751800"/>
                <a:tab algn="l" pos="7209000"/>
                <a:tab algn="l" pos="7666200"/>
                <a:tab algn="l" pos="8123400"/>
                <a:tab algn="l" pos="8580600"/>
                <a:tab algn="l" pos="9037800"/>
                <a:tab algn="l" pos="9495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51000"/>
                <a:tab algn="l" pos="808200"/>
                <a:tab algn="l" pos="1265400"/>
                <a:tab algn="l" pos="1722600"/>
                <a:tab algn="l" pos="2179800"/>
                <a:tab algn="l" pos="2637000"/>
                <a:tab algn="l" pos="3094200"/>
                <a:tab algn="l" pos="3551400"/>
                <a:tab algn="l" pos="4008600"/>
                <a:tab algn="l" pos="4465800"/>
                <a:tab algn="l" pos="4923000"/>
                <a:tab algn="l" pos="5380200"/>
                <a:tab algn="l" pos="5837400"/>
                <a:tab algn="l" pos="6294600"/>
                <a:tab algn="l" pos="6751800"/>
                <a:tab algn="l" pos="7209000"/>
                <a:tab algn="l" pos="7666200"/>
                <a:tab algn="l" pos="8123400"/>
                <a:tab algn="l" pos="8580600"/>
                <a:tab algn="l" pos="9037800"/>
                <a:tab algn="l" pos="9495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Generate a real atmosphere of teamwork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0">
              <a:lnSpc>
                <a:spcPct val="100000"/>
              </a:lnSpc>
              <a:buNone/>
              <a:tabLst>
                <a:tab algn="l" pos="0"/>
                <a:tab algn="l" pos="351000"/>
                <a:tab algn="l" pos="808200"/>
                <a:tab algn="l" pos="1265400"/>
                <a:tab algn="l" pos="1722600"/>
                <a:tab algn="l" pos="2179800"/>
                <a:tab algn="l" pos="2637000"/>
                <a:tab algn="l" pos="3094200"/>
                <a:tab algn="l" pos="3551400"/>
                <a:tab algn="l" pos="4008600"/>
                <a:tab algn="l" pos="4465800"/>
                <a:tab algn="l" pos="4923000"/>
                <a:tab algn="l" pos="5380200"/>
                <a:tab algn="l" pos="5837400"/>
                <a:tab algn="l" pos="6294600"/>
                <a:tab algn="l" pos="6751800"/>
                <a:tab algn="l" pos="7209000"/>
                <a:tab algn="l" pos="7666200"/>
                <a:tab algn="l" pos="8123400"/>
                <a:tab algn="l" pos="8580600"/>
                <a:tab algn="l" pos="9037800"/>
                <a:tab algn="l" pos="9495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351000"/>
                <a:tab algn="l" pos="808200"/>
                <a:tab algn="l" pos="1265400"/>
                <a:tab algn="l" pos="1722600"/>
                <a:tab algn="l" pos="2179800"/>
                <a:tab algn="l" pos="2637000"/>
                <a:tab algn="l" pos="3094200"/>
                <a:tab algn="l" pos="3551400"/>
                <a:tab algn="l" pos="4008600"/>
                <a:tab algn="l" pos="4465800"/>
                <a:tab algn="l" pos="4923000"/>
                <a:tab algn="l" pos="5380200"/>
                <a:tab algn="l" pos="5837400"/>
                <a:tab algn="l" pos="6294600"/>
                <a:tab algn="l" pos="6751800"/>
                <a:tab algn="l" pos="7209000"/>
                <a:tab algn="l" pos="7666200"/>
                <a:tab algn="l" pos="8123400"/>
                <a:tab algn="l" pos="8580600"/>
                <a:tab algn="l" pos="9037800"/>
                <a:tab algn="l" pos="9495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Replacing a leader is a delicate matt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247760" y="866880"/>
            <a:ext cx="4344840" cy="32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393840" y="4190760"/>
            <a:ext cx="604512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51000" indent="-3510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romanUcPeriod"/>
              <a:tabLst>
                <a:tab algn="l" pos="351000"/>
                <a:tab algn="l" pos="808200"/>
                <a:tab algn="l" pos="1265400"/>
                <a:tab algn="l" pos="1722600"/>
                <a:tab algn="l" pos="2179800"/>
                <a:tab algn="l" pos="2637000"/>
                <a:tab algn="l" pos="3094200"/>
                <a:tab algn="l" pos="3551400"/>
                <a:tab algn="l" pos="4008600"/>
                <a:tab algn="l" pos="4465800"/>
                <a:tab algn="l" pos="4923000"/>
                <a:tab algn="l" pos="5380200"/>
                <a:tab algn="l" pos="5837400"/>
                <a:tab algn="l" pos="6294600"/>
                <a:tab algn="l" pos="6751800"/>
                <a:tab algn="l" pos="7209000"/>
                <a:tab algn="l" pos="7666200"/>
                <a:tab algn="l" pos="8123400"/>
                <a:tab algn="l" pos="8580600"/>
                <a:tab algn="l" pos="9037800"/>
                <a:tab algn="l" pos="9495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Continue normal car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351000"/>
                <a:tab algn="l" pos="808200"/>
                <a:tab algn="l" pos="1265400"/>
                <a:tab algn="l" pos="1722600"/>
                <a:tab algn="l" pos="2179800"/>
                <a:tab algn="l" pos="2637000"/>
                <a:tab algn="l" pos="3094200"/>
                <a:tab algn="l" pos="3551400"/>
                <a:tab algn="l" pos="4008600"/>
                <a:tab algn="l" pos="4465800"/>
                <a:tab algn="l" pos="4923000"/>
                <a:tab algn="l" pos="5380200"/>
                <a:tab algn="l" pos="5837400"/>
                <a:tab algn="l" pos="6294600"/>
                <a:tab algn="l" pos="6751800"/>
                <a:tab algn="l" pos="7209000"/>
                <a:tab algn="l" pos="7666200"/>
                <a:tab algn="l" pos="8123400"/>
                <a:tab algn="l" pos="8580600"/>
                <a:tab algn="l" pos="9037800"/>
                <a:tab algn="l" pos="9495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lphaUcPeriod"/>
              <a:tabLst>
                <a:tab algn="l" pos="351000"/>
                <a:tab algn="l" pos="808200"/>
                <a:tab algn="l" pos="1265400"/>
                <a:tab algn="l" pos="1722600"/>
                <a:tab algn="l" pos="2179800"/>
                <a:tab algn="l" pos="2637000"/>
                <a:tab algn="l" pos="3094200"/>
                <a:tab algn="l" pos="3551400"/>
                <a:tab algn="l" pos="4008600"/>
                <a:tab algn="l" pos="4465800"/>
                <a:tab algn="l" pos="4923000"/>
                <a:tab algn="l" pos="5380200"/>
                <a:tab algn="l" pos="5837400"/>
                <a:tab algn="l" pos="6294600"/>
                <a:tab algn="l" pos="6751800"/>
                <a:tab algn="l" pos="7209000"/>
                <a:tab algn="l" pos="7666200"/>
                <a:tab algn="l" pos="8123400"/>
                <a:tab algn="l" pos="8580600"/>
                <a:tab algn="l" pos="9037800"/>
                <a:tab algn="l" pos="9495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Medical caregivers don’t stop routine care and preventive health practices when the patient lands in the hospital.  It’s just that the emergency must come fir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351000"/>
                <a:tab algn="l" pos="808200"/>
                <a:tab algn="l" pos="1265400"/>
                <a:tab algn="l" pos="1722600"/>
                <a:tab algn="l" pos="2179800"/>
                <a:tab algn="l" pos="2637000"/>
                <a:tab algn="l" pos="3094200"/>
                <a:tab algn="l" pos="3551400"/>
                <a:tab algn="l" pos="4008600"/>
                <a:tab algn="l" pos="4465800"/>
                <a:tab algn="l" pos="4923000"/>
                <a:tab algn="l" pos="5380200"/>
                <a:tab algn="l" pos="5837400"/>
                <a:tab algn="l" pos="6294600"/>
                <a:tab algn="l" pos="6751800"/>
                <a:tab algn="l" pos="7209000"/>
                <a:tab algn="l" pos="7666200"/>
                <a:tab algn="l" pos="8123400"/>
                <a:tab algn="l" pos="8580600"/>
                <a:tab algn="l" pos="9037800"/>
                <a:tab algn="l" pos="9495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lphaUcPeriod"/>
              <a:tabLst>
                <a:tab algn="l" pos="351000"/>
                <a:tab algn="l" pos="808200"/>
                <a:tab algn="l" pos="1265400"/>
                <a:tab algn="l" pos="1722600"/>
                <a:tab algn="l" pos="2179800"/>
                <a:tab algn="l" pos="2637000"/>
                <a:tab algn="l" pos="3094200"/>
                <a:tab algn="l" pos="3551400"/>
                <a:tab algn="l" pos="4008600"/>
                <a:tab algn="l" pos="4465800"/>
                <a:tab algn="l" pos="4923000"/>
                <a:tab algn="l" pos="5380200"/>
                <a:tab algn="l" pos="5837400"/>
                <a:tab algn="l" pos="6294600"/>
                <a:tab algn="l" pos="6751800"/>
                <a:tab algn="l" pos="7209000"/>
                <a:tab algn="l" pos="7666200"/>
                <a:tab algn="l" pos="8123400"/>
                <a:tab algn="l" pos="8580600"/>
                <a:tab algn="l" pos="9037800"/>
                <a:tab algn="l" pos="9495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Use a time of crisis as a time to resolve other much smaller problems.  Sometimes, in time of crisis, you really have the attention of unit people.  It may be a good time to help them see other ways then can improve their unit program and operat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351000"/>
                <a:tab algn="l" pos="808200"/>
                <a:tab algn="l" pos="1265400"/>
                <a:tab algn="l" pos="1722600"/>
                <a:tab algn="l" pos="2179800"/>
                <a:tab algn="l" pos="2637000"/>
                <a:tab algn="l" pos="3094200"/>
                <a:tab algn="l" pos="3551400"/>
                <a:tab algn="l" pos="4008600"/>
                <a:tab algn="l" pos="4465800"/>
                <a:tab algn="l" pos="4923000"/>
                <a:tab algn="l" pos="5380200"/>
                <a:tab algn="l" pos="5837400"/>
                <a:tab algn="l" pos="6294600"/>
                <a:tab algn="l" pos="6751800"/>
                <a:tab algn="l" pos="7209000"/>
                <a:tab algn="l" pos="7666200"/>
                <a:tab algn="l" pos="8123400"/>
                <a:tab algn="l" pos="8580600"/>
                <a:tab algn="l" pos="9037800"/>
                <a:tab algn="l" pos="9495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lphaUcPeriod"/>
              <a:tabLst>
                <a:tab algn="l" pos="351000"/>
                <a:tab algn="l" pos="808200"/>
                <a:tab algn="l" pos="1265400"/>
                <a:tab algn="l" pos="1722600"/>
                <a:tab algn="l" pos="2179800"/>
                <a:tab algn="l" pos="2637000"/>
                <a:tab algn="l" pos="3094200"/>
                <a:tab algn="l" pos="3551400"/>
                <a:tab algn="l" pos="4008600"/>
                <a:tab algn="l" pos="4465800"/>
                <a:tab algn="l" pos="4923000"/>
                <a:tab algn="l" pos="5380200"/>
                <a:tab algn="l" pos="5837400"/>
                <a:tab algn="l" pos="6294600"/>
                <a:tab algn="l" pos="6751800"/>
                <a:tab algn="l" pos="7209000"/>
                <a:tab algn="l" pos="7666200"/>
                <a:tab algn="l" pos="8123400"/>
                <a:tab algn="l" pos="8580600"/>
                <a:tab algn="l" pos="9037800"/>
                <a:tab algn="l" pos="9495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Use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Commissioner Helps for Packs, Troops and Crews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 to continue normal unit car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247760" y="866880"/>
            <a:ext cx="4344840" cy="32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393480" y="4186440"/>
            <a:ext cx="6041880" cy="42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47760" y="866880"/>
            <a:ext cx="4344840" cy="32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393840" y="4190760"/>
            <a:ext cx="604512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[Change the instructor’s name.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209680" y="866880"/>
            <a:ext cx="2514600" cy="164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393840" y="2133720"/>
            <a:ext cx="6045120" cy="616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62080" indent="0">
              <a:lnSpc>
                <a:spcPct val="100000"/>
              </a:lnSpc>
              <a:buNone/>
              <a:tabLst>
                <a:tab algn="l" pos="0"/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V.  Typical hurry c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0">
              <a:lnSpc>
                <a:spcPct val="100000"/>
              </a:lnSpc>
              <a:buNone/>
              <a:tabLst>
                <a:tab algn="l" pos="0"/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Using the </a:t>
            </a:r>
            <a:r>
              <a:rPr b="1" i="1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Commissioner Fieldbook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 section on lifesaving, </a:t>
            </a:r>
            <a:r>
              <a:rPr b="1" i="1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Commissioner Helps for Packs, Troops and Crews,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and other resources, develop this course as a major problem-solving session.  By the end of class time, participants should understand how to be a vital force in solving the following unit crises:  [Next slides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0">
              <a:lnSpc>
                <a:spcPct val="100000"/>
              </a:lnSpc>
              <a:buNone/>
              <a:tabLst>
                <a:tab algn="l" pos="0"/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Unit not meeting (“stopped breathing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0">
              <a:lnSpc>
                <a:spcPct val="100000"/>
              </a:lnSpc>
              <a:buNone/>
              <a:tabLst>
                <a:tab algn="l" pos="0"/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Unit with no leader (“no heartbeat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0">
              <a:lnSpc>
                <a:spcPct val="100000"/>
              </a:lnSpc>
              <a:buNone/>
              <a:tabLst>
                <a:tab algn="l" pos="0"/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Unit with no committee (“choking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0">
              <a:lnSpc>
                <a:spcPct val="100000"/>
              </a:lnSpc>
              <a:buNone/>
              <a:tabLst>
                <a:tab algn="l" pos="0"/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Unit with no new members (“severe bleeding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0">
              <a:lnSpc>
                <a:spcPct val="100000"/>
              </a:lnSpc>
              <a:buNone/>
              <a:tabLst>
                <a:tab algn="l" pos="0"/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Unit conflict with the chartered organization (“poisoning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0">
              <a:lnSpc>
                <a:spcPct val="100000"/>
              </a:lnSpc>
              <a:buNone/>
              <a:tabLst>
                <a:tab algn="l" pos="0"/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New unit leader lacks orientation or training (“blue baby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0">
              <a:lnSpc>
                <a:spcPct val="100000"/>
              </a:lnSpc>
              <a:buNone/>
              <a:tabLst>
                <a:tab algn="l" pos="0"/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Unit with weak leadership (“comatose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0">
              <a:lnSpc>
                <a:spcPct val="100000"/>
              </a:lnSpc>
              <a:buNone/>
              <a:tabLst>
                <a:tab algn="l" pos="0"/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Use the </a:t>
            </a:r>
            <a:r>
              <a:rPr b="1" i="1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Unit Problem-Solving for Commissioners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 video, AV-04V002, with at least three of the above proble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0">
              <a:lnSpc>
                <a:spcPct val="100000"/>
              </a:lnSpc>
              <a:buNone/>
              <a:tabLst>
                <a:tab algn="l" pos="0"/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Show the appropriate video sequence to set up the probl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0">
              <a:lnSpc>
                <a:spcPct val="100000"/>
              </a:lnSpc>
              <a:buNone/>
              <a:tabLst>
                <a:tab algn="l" pos="0"/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Turn the video off and have the group members discuss their ideas for a 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0">
              <a:lnSpc>
                <a:spcPct val="100000"/>
              </a:lnSpc>
              <a:buNone/>
              <a:tabLst>
                <a:tab algn="l" pos="0"/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Return to the video for additional video solutions to the group’s ide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0">
              <a:lnSpc>
                <a:spcPct val="100000"/>
              </a:lnSpc>
              <a:buNone/>
              <a:tabLst>
                <a:tab algn="l" pos="0"/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0">
              <a:lnSpc>
                <a:spcPct val="100000"/>
              </a:lnSpc>
              <a:buNone/>
              <a:tabLst>
                <a:tab algn="l" pos="0"/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(Check with the session leaders of “Practical Solutions to Common Unit Needs” and “No-lapse/No-Drop Commitment” to be sure each of you is using different problems from the video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47760" y="866880"/>
            <a:ext cx="4344840" cy="32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393480" y="4190760"/>
            <a:ext cx="60418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98040" y="419040"/>
            <a:ext cx="8186760" cy="113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5880" y="1809360"/>
            <a:ext cx="793908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75880" y="3956040"/>
            <a:ext cx="793908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98040" y="419040"/>
            <a:ext cx="8186760" cy="113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75880" y="1809360"/>
            <a:ext cx="38739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43880" y="1809360"/>
            <a:ext cx="38739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75880" y="3956040"/>
            <a:ext cx="38739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43880" y="3956040"/>
            <a:ext cx="38739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98040" y="419040"/>
            <a:ext cx="8186760" cy="113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5880" y="1809360"/>
            <a:ext cx="255600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60040" y="1809360"/>
            <a:ext cx="255600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44200" y="1809360"/>
            <a:ext cx="255600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75880" y="3956040"/>
            <a:ext cx="255600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60040" y="3956040"/>
            <a:ext cx="255600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44200" y="3956040"/>
            <a:ext cx="255600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98040" y="419040"/>
            <a:ext cx="8186760" cy="113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75880" y="1809360"/>
            <a:ext cx="793908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8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600" spc="-1" strike="noStrike">
              <a:solidFill>
                <a:srgbClr val="ff9b03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8040" y="419040"/>
            <a:ext cx="8186760" cy="113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75880" y="1809360"/>
            <a:ext cx="793908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8040" y="419040"/>
            <a:ext cx="8186760" cy="113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75880" y="1809360"/>
            <a:ext cx="387396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43880" y="1809360"/>
            <a:ext cx="387396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98040" y="419040"/>
            <a:ext cx="8186760" cy="113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98040" y="419040"/>
            <a:ext cx="818676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600" spc="-1" strike="noStrike">
              <a:solidFill>
                <a:srgbClr val="ff9b03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98040" y="419040"/>
            <a:ext cx="8186760" cy="113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75880" y="1809360"/>
            <a:ext cx="38739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43880" y="1809360"/>
            <a:ext cx="387396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75880" y="3956040"/>
            <a:ext cx="38739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98040" y="419040"/>
            <a:ext cx="8186760" cy="113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75880" y="1809360"/>
            <a:ext cx="793908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8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600" spc="-1" strike="noStrike">
              <a:solidFill>
                <a:srgbClr val="ff9b03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98040" y="419040"/>
            <a:ext cx="8186760" cy="113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75880" y="1809360"/>
            <a:ext cx="387396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43880" y="1809360"/>
            <a:ext cx="38739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43880" y="3956040"/>
            <a:ext cx="38739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98040" y="419040"/>
            <a:ext cx="8186760" cy="113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75880" y="1809360"/>
            <a:ext cx="38739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43880" y="1809360"/>
            <a:ext cx="38739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75880" y="3956040"/>
            <a:ext cx="793908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8040" y="419040"/>
            <a:ext cx="8186760" cy="113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5880" y="1809360"/>
            <a:ext cx="793908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75880" y="3956040"/>
            <a:ext cx="793908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98040" y="419040"/>
            <a:ext cx="8186760" cy="113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75880" y="1809360"/>
            <a:ext cx="38739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43880" y="1809360"/>
            <a:ext cx="38739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75880" y="3956040"/>
            <a:ext cx="38739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43880" y="3956040"/>
            <a:ext cx="38739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98040" y="419040"/>
            <a:ext cx="8186760" cy="113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75880" y="1809360"/>
            <a:ext cx="255600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60040" y="1809360"/>
            <a:ext cx="255600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44200" y="1809360"/>
            <a:ext cx="255600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75880" y="3956040"/>
            <a:ext cx="255600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60040" y="3956040"/>
            <a:ext cx="255600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44200" y="3956040"/>
            <a:ext cx="255600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98040" y="419040"/>
            <a:ext cx="8186760" cy="113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75880" y="1809360"/>
            <a:ext cx="793908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98040" y="419040"/>
            <a:ext cx="8186760" cy="113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75880" y="1809360"/>
            <a:ext cx="387396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43880" y="1809360"/>
            <a:ext cx="387396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98040" y="419040"/>
            <a:ext cx="8186760" cy="113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98040" y="419040"/>
            <a:ext cx="818676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600" spc="-1" strike="noStrike">
              <a:solidFill>
                <a:srgbClr val="ff9b03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98040" y="419040"/>
            <a:ext cx="8186760" cy="113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75880" y="1809360"/>
            <a:ext cx="38739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43880" y="1809360"/>
            <a:ext cx="387396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75880" y="3956040"/>
            <a:ext cx="38739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98040" y="419040"/>
            <a:ext cx="8186760" cy="113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75880" y="1809360"/>
            <a:ext cx="387396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43880" y="1809360"/>
            <a:ext cx="38739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43880" y="3956040"/>
            <a:ext cx="38739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98040" y="419040"/>
            <a:ext cx="8186760" cy="113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5880" y="1809360"/>
            <a:ext cx="38739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43880" y="1809360"/>
            <a:ext cx="38739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5880" y="3956040"/>
            <a:ext cx="793908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05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8040" y="419040"/>
            <a:ext cx="8186760" cy="113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62120" y="1657440"/>
            <a:ext cx="8115120" cy="1299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c0128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75880" y="1809360"/>
            <a:ext cx="793908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177840" y="165240"/>
            <a:ext cx="1359000" cy="1376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05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99920" y="361800"/>
            <a:ext cx="8110440" cy="113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762120" y="1657440"/>
            <a:ext cx="8115120" cy="1299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c0128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05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00280" y="406080"/>
            <a:ext cx="8115120" cy="132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57160" y="1943280"/>
            <a:ext cx="8058240" cy="35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6600" spc="-1" strike="noStrike">
                <a:solidFill>
                  <a:srgbClr val="ffff00"/>
                </a:solidFill>
                <a:latin typeface="Arial Narrow"/>
              </a:rPr>
              <a:t>MCS 303</a:t>
            </a:r>
            <a:endParaRPr b="1" lang="en-US" sz="6600" spc="-1" strike="noStrike">
              <a:solidFill>
                <a:srgbClr val="ff9b03"/>
              </a:solidFill>
              <a:latin typeface="Arial Narrow"/>
            </a:endParaRPr>
          </a:p>
          <a:p>
            <a:pPr marL="343080"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600" spc="-1" strike="noStrike">
              <a:solidFill>
                <a:srgbClr val="ff9b03"/>
              </a:solidFill>
              <a:latin typeface="Arial Narrow"/>
            </a:endParaRPr>
          </a:p>
          <a:p>
            <a:pPr marL="343080"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6600" spc="-1" strike="noStrike">
                <a:solidFill>
                  <a:srgbClr val="ff9b03"/>
                </a:solidFill>
                <a:latin typeface="Arial Narrow"/>
              </a:rPr>
              <a:t>Commissioner</a:t>
            </a:r>
            <a:endParaRPr b="1" lang="en-US" sz="6600" spc="-1" strike="noStrike">
              <a:solidFill>
                <a:srgbClr val="ff9b03"/>
              </a:solidFill>
              <a:latin typeface="Arial Narrow"/>
            </a:endParaRPr>
          </a:p>
          <a:p>
            <a:pPr marL="343080"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6600" spc="-1" strike="noStrike">
                <a:solidFill>
                  <a:srgbClr val="ff9b03"/>
                </a:solidFill>
                <a:latin typeface="Arial Narrow"/>
              </a:rPr>
              <a:t>Lifesaving I</a:t>
            </a:r>
            <a:endParaRPr b="1" lang="en-US" sz="6600" spc="-1" strike="noStrike">
              <a:solidFill>
                <a:srgbClr val="ff9b03"/>
              </a:solidFill>
              <a:latin typeface="Arial Narrow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54160" y="266760"/>
            <a:ext cx="1250640" cy="1268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064040" y="274680"/>
            <a:ext cx="1219320" cy="1235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7653240" y="244440"/>
            <a:ext cx="1270080" cy="1312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554200" y="5700600"/>
            <a:ext cx="450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Prepared by: George Crow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05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98400" y="41868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afd00"/>
                </a:solidFill>
                <a:latin typeface="Arial"/>
              </a:rPr>
              <a:t>Unit with No Leader</a:t>
            </a: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76240" y="180972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(“no heartbeat”)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252960" y="2660760"/>
            <a:ext cx="2914560" cy="41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05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98400" y="41868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afd00"/>
                </a:solidFill>
                <a:latin typeface="Arial"/>
              </a:rPr>
              <a:t>Unit with No Committee</a:t>
            </a: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6240" y="180972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(“choking”)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419640" y="1822320"/>
            <a:ext cx="2395440" cy="503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05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98400" y="41868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afd00"/>
                </a:solidFill>
                <a:latin typeface="Arial"/>
              </a:rPr>
              <a:t>Unit with No New Members</a:t>
            </a: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76240" y="180972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(“severe bleeding”)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621320" y="1892160"/>
            <a:ext cx="252252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05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98400" y="336240"/>
            <a:ext cx="8191440" cy="130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afd00"/>
                </a:solidFill>
                <a:latin typeface="Arial"/>
              </a:rPr>
              <a:t>Unit Conflict with the</a:t>
            </a:r>
            <a:br>
              <a:rPr sz="4000"/>
            </a:br>
            <a:r>
              <a:rPr b="1" i="1" lang="en-GB" sz="4000" spc="-1" strike="noStrike">
                <a:solidFill>
                  <a:srgbClr val="fafd00"/>
                </a:solidFill>
                <a:latin typeface="Arial"/>
              </a:rPr>
              <a:t>Chartered Organization</a:t>
            </a: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76240" y="180972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(“poisoning”)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079720" y="3121200"/>
            <a:ext cx="5900760" cy="329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05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98400" y="41868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afd00"/>
                </a:solidFill>
                <a:latin typeface="Arial"/>
              </a:rPr>
              <a:t>New Unit Leader</a:t>
            </a: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76240" y="180972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Lacks orientation or training (“blue baby”)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05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98400" y="41868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afd00"/>
                </a:solidFill>
                <a:latin typeface="Arial"/>
              </a:rPr>
              <a:t>Unit with Weak Leadership</a:t>
            </a: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76240" y="180972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(comatose)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486160" y="2498760"/>
            <a:ext cx="4678200" cy="400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05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98400" y="460440"/>
            <a:ext cx="8191440" cy="133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76240" y="180972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6000" spc="-1" strike="noStrike">
                <a:solidFill>
                  <a:srgbClr val="ffff00"/>
                </a:solidFill>
                <a:latin typeface="Arial Narrow"/>
              </a:rPr>
              <a:t>Questions?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6000" spc="-1" strike="noStrike">
                <a:solidFill>
                  <a:srgbClr val="ffff00"/>
                </a:solidFill>
                <a:latin typeface="Arial Narrow"/>
              </a:rPr>
              <a:t>Comments!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05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98400" y="336240"/>
            <a:ext cx="8191440" cy="130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afd00"/>
                </a:solidFill>
                <a:latin typeface="Arial"/>
              </a:rPr>
              <a:t>What is</a:t>
            </a:r>
            <a:br>
              <a:rPr sz="4000"/>
            </a:br>
            <a:r>
              <a:rPr b="1" i="1" lang="en-GB" sz="4000" spc="-1" strike="noStrike">
                <a:solidFill>
                  <a:srgbClr val="fafd00"/>
                </a:solidFill>
                <a:latin typeface="Arial"/>
              </a:rPr>
              <a:t>Commissioner Lifesaving?</a:t>
            </a: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76240" y="180972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Scouting paramedic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Urgent cases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95240" indent="-3380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Loss of adult leadership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95240" indent="-3380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No unit program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95240" indent="-3380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Conflict among leaders and/or institution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Dead units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6384960" y="4811760"/>
          <a:ext cx="2400120" cy="204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84960" y="4811760"/>
                    <a:ext cx="2400120" cy="20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05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98400" y="41868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afd00"/>
                </a:solidFill>
                <a:latin typeface="Arial"/>
              </a:rPr>
              <a:t>Watch the Vital Signs</a:t>
            </a: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76240" y="180972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What are the good signs?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What are the bad signs? 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What is life-threatening?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826320" y="2103480"/>
          <a:ext cx="1743120" cy="432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6320" y="2103480"/>
                    <a:ext cx="1743120" cy="43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05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98400" y="41868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afd00"/>
                </a:solidFill>
                <a:latin typeface="Arial"/>
              </a:rPr>
              <a:t>Go Into Action Fast</a:t>
            </a: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76240" y="1809360"/>
            <a:ext cx="794376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ffff00"/>
                </a:solidFill>
                <a:latin typeface="Arial Narrow"/>
              </a:rPr>
              <a:t>Don’t wait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Consult ADC or DC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Ask six basic questions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Be enthusiastic.  Care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Apply “first aid”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Apply “second aid”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Generate teamwork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Replacing a leader is delicate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715000" y="3292560"/>
            <a:ext cx="2895480" cy="16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05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98400" y="41868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afd00"/>
                </a:solidFill>
                <a:latin typeface="Arial"/>
              </a:rPr>
              <a:t>Continue Normal Care</a:t>
            </a: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76240" y="180972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Don’t stop routine care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Use the crisis to resolve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other problems.  You have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their attention!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Use </a:t>
            </a:r>
            <a:r>
              <a:rPr b="1" i="1" lang="en-GB" sz="3200" spc="-1" strike="noStrike">
                <a:solidFill>
                  <a:srgbClr val="ffff00"/>
                </a:solidFill>
                <a:latin typeface="Arial Narrow"/>
              </a:rPr>
              <a:t>Commissioner Helps</a:t>
            </a:r>
            <a:br>
              <a:rPr sz="3200"/>
            </a:br>
            <a:r>
              <a:rPr b="1" i="1" lang="en-GB" sz="3200" spc="-1" strike="noStrike">
                <a:solidFill>
                  <a:srgbClr val="ffff00"/>
                </a:solidFill>
                <a:latin typeface="Arial Narrow"/>
              </a:rPr>
              <a:t> for Packs, Troops and Crews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093000" y="2413080"/>
            <a:ext cx="3051000" cy="444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05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98400" y="460440"/>
            <a:ext cx="8191440" cy="133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76240" y="180972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6000" spc="-1" strike="noStrike">
                <a:solidFill>
                  <a:srgbClr val="ffff00"/>
                </a:solidFill>
                <a:latin typeface="Arial Narrow"/>
              </a:rPr>
              <a:t>Questions?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6000" spc="-1" strike="noStrike">
                <a:solidFill>
                  <a:srgbClr val="ffff00"/>
                </a:solidFill>
                <a:latin typeface="Arial Narrow"/>
              </a:rPr>
              <a:t>Comments!</a:t>
            </a:r>
            <a:endParaRPr b="1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05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00280" y="406080"/>
            <a:ext cx="8115120" cy="132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57160" y="1943280"/>
            <a:ext cx="8058240" cy="35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6600" spc="-1" strike="noStrike">
                <a:solidFill>
                  <a:srgbClr val="ffff00"/>
                </a:solidFill>
                <a:latin typeface="Arial Narrow"/>
              </a:rPr>
              <a:t>MCS 304</a:t>
            </a:r>
            <a:endParaRPr b="1" lang="en-US" sz="6600" spc="-1" strike="noStrike">
              <a:solidFill>
                <a:srgbClr val="ff9b03"/>
              </a:solidFill>
              <a:latin typeface="Arial Narrow"/>
            </a:endParaRPr>
          </a:p>
          <a:p>
            <a:pPr marL="343080"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6600" spc="-1" strike="noStrike">
              <a:solidFill>
                <a:srgbClr val="ff9b03"/>
              </a:solidFill>
              <a:latin typeface="Arial Narrow"/>
            </a:endParaRPr>
          </a:p>
          <a:p>
            <a:pPr marL="343080"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6600" spc="-1" strike="noStrike">
                <a:solidFill>
                  <a:srgbClr val="ff9b03"/>
                </a:solidFill>
                <a:latin typeface="Arial Narrow"/>
              </a:rPr>
              <a:t>Commissioner</a:t>
            </a:r>
            <a:endParaRPr b="1" lang="en-US" sz="6600" spc="-1" strike="noStrike">
              <a:solidFill>
                <a:srgbClr val="ff9b03"/>
              </a:solidFill>
              <a:latin typeface="Arial Narrow"/>
            </a:endParaRPr>
          </a:p>
          <a:p>
            <a:pPr marL="343080"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6600" spc="-1" strike="noStrike">
                <a:solidFill>
                  <a:srgbClr val="ff9b03"/>
                </a:solidFill>
                <a:latin typeface="Arial Narrow"/>
              </a:rPr>
              <a:t>Lifesaving II</a:t>
            </a:r>
            <a:endParaRPr b="1" lang="en-US" sz="6600" spc="-1" strike="noStrike">
              <a:solidFill>
                <a:srgbClr val="ff9b03"/>
              </a:solidFill>
              <a:latin typeface="Arial Narrow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54160" y="266760"/>
            <a:ext cx="1250640" cy="1268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064040" y="274680"/>
            <a:ext cx="1219320" cy="12351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7653240" y="244440"/>
            <a:ext cx="1270080" cy="13129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592000" y="5608800"/>
            <a:ext cx="450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Prepared by: George Crow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05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98400" y="41868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afd00"/>
                </a:solidFill>
                <a:latin typeface="Arial"/>
              </a:rPr>
              <a:t>Typical Hurry Cases</a:t>
            </a: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6240" y="180972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Problem solving session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Resources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95240" indent="-3380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ffff00"/>
                </a:solidFill>
                <a:latin typeface="Arial Narrow"/>
              </a:rPr>
              <a:t>Commissioner Fieldbook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95240" indent="-3380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ffff00"/>
                </a:solidFill>
                <a:latin typeface="Arial Narrow"/>
              </a:rPr>
              <a:t>Helps for Packs, Troops and Crews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05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98400" y="41868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afd00"/>
                </a:solidFill>
                <a:latin typeface="Arial"/>
              </a:rPr>
              <a:t>Unit Not Meeting</a:t>
            </a: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76240" y="180972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(“stopped breathing”)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048120" y="2700360"/>
            <a:ext cx="3747960" cy="3956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orge Crowl</dc:creator>
  <dc:description>revised March 1998</dc:description>
  <dc:language>en-US</dc:language>
  <cp:lastModifiedBy>George Crowl</cp:lastModifiedBy>
  <cp:revision>0</cp:revision>
  <dc:subject/>
  <dc:title>Classification: Marking</dc:title>
</cp:coreProperties>
</file>