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move the slid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B309-0800-44BF-80A8-7CC9268B4F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ADC-9C25-4346-BB77-0940FDD8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EBC-0619-44D8-AC60-6216D297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E3F-4E30-498F-BE56-3010336D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135-B01B-4E6F-8E42-B9310BB8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123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C81-F671-4656-8B1A-C34A5ED5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EC4-CB43-4DAD-B2D9-E160C7B4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DBD-9906-44BC-9673-55DBB468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A54-ADD9-4F09-9D7E-FADE21C5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123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D39-F8B2-42E1-A813-0981B4F5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17B-DBB7-4F5E-81A1-0EBE1A56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466-75AD-4FD0-A379-40BA53E6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829-93A9-4330-B0A3-212D944B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2448"/>
              </a:gs>
              <a:gs pos="50000">
                <a:srgbClr val="003366"/>
              </a:gs>
              <a:gs pos="100000">
                <a:srgbClr val="0024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096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 algn="ct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 algn="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909A6B-BC73-4B82-B6DA-8497DF0C174A}" type="slidenum"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0240" indent="-300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651960" indent="-24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1005840" indent="-2008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1407960" indent="-2008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1810440" indent="-2008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1810440" indent="-2008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1810440" indent="-2008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2448"/>
              </a:gs>
              <a:gs pos="50000">
                <a:srgbClr val="003366"/>
              </a:gs>
              <a:gs pos="100000">
                <a:srgbClr val="0024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7080" indent="-3070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667080" indent="-2556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1028520" indent="-205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1440000" indent="-205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1851480" indent="-205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1851480" indent="-20556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1851480" indent="-20556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80800"/>
            <a:ext cx="878544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0" spc="-1" strike="noStrike">
                <a:solidFill>
                  <a:srgbClr val="cccccc"/>
                </a:solidFill>
                <a:latin typeface="FrancineHmk"/>
              </a:rPr>
              <a:t>Venturing and</a:t>
            </a:r>
            <a:br>
              <a:rPr sz="8000"/>
            </a:br>
            <a:r>
              <a:rPr b="0" lang="en-GB" sz="8000" spc="-1" strike="noStrike">
                <a:solidFill>
                  <a:srgbClr val="cccccc"/>
                </a:solidFill>
                <a:latin typeface="FrancineHmk"/>
              </a:rPr>
              <a:t>The Commissioner</a:t>
            </a:r>
            <a:br>
              <a:rPr sz="8000"/>
            </a:br>
            <a:r>
              <a:rPr b="0" lang="en-GB" sz="4400" spc="-1" strike="noStrike">
                <a:solidFill>
                  <a:srgbClr val="cccccc"/>
                </a:solidFill>
                <a:latin typeface="FrancineHmk"/>
              </a:rPr>
              <a:t>MCS 308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39800" indent="-28260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NorCal Commissioner's Colle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David D. Frydenlun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ific Skyline Counci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1080" y="46080"/>
            <a:ext cx="7772400" cy="16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What You Can Do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7120" y="168588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earn the Program (Get Trained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Use Stove Pipe Commissioner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pecialized in Ventur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Have an ADC for Ventur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omote Harmonious Troop/Crew Relationship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Keep Units Healthy Siz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90360" y="240840"/>
            <a:ext cx="580068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cccccc"/>
                </a:solidFill>
                <a:latin typeface="FrancineHmk"/>
              </a:rPr>
              <a:t>What is Venturing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2200" y="225900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Youth, 14 (after 8</a:t>
            </a:r>
            <a:r>
              <a:rPr b="0" lang="en-GB" sz="3600" spc="-1" strike="noStrike" baseline="33000">
                <a:solidFill>
                  <a:srgbClr val="ffffff"/>
                </a:solidFill>
                <a:latin typeface="FrancineHmk"/>
              </a:rPr>
              <a:t>th</a:t>
            </a: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 Grade) thru 20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an Be Coe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ore Challenging Than Boy Scou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any Program Model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90360" y="240840"/>
            <a:ext cx="580068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cccccc"/>
                </a:solidFill>
                <a:latin typeface="FrancineHmk"/>
              </a:rPr>
              <a:t>Program Model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2200" y="2258640"/>
            <a:ext cx="8229600" cy="35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ea Scouts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Outdoor (High Adventure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por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Arts and Hobbi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Religious Life and Communit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8000" y="125280"/>
            <a:ext cx="77724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Flexible Structur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1120" y="1612440"/>
            <a:ext cx="78976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eet Needs of Youth and Sponsor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ogram Locally Designe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elf Written Rul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elf Defined Uniform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elf Defined Goal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National Examples/Model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33640" y="47520"/>
            <a:ext cx="7472160" cy="16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Advancement/Awards</a:t>
            </a:r>
            <a:br>
              <a:rPr sz="4800"/>
            </a:b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rogram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87240" y="2554200"/>
            <a:ext cx="707364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ersonal Developmen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ersonal Goals Base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Bronze (Program Linked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Gold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ilver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5818320"/>
            <a:ext cx="82296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33640" y="47520"/>
            <a:ext cx="7472160" cy="16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Advancement/Awards</a:t>
            </a:r>
            <a:br>
              <a:rPr sz="4800"/>
            </a:b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rogram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17600" y="2133720"/>
            <a:ext cx="707400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kill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Ranger (Outdoor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Quartermaster (Sea Scouts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Quest (Sports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rust (Religious and Community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Eagle (Continuing Scouts)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818320"/>
            <a:ext cx="82296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482560"/>
            <a:ext cx="8229600" cy="24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Youth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Elected Officer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11" name=""/>
          <p:cNvSpPr/>
          <p:nvPr/>
        </p:nvSpPr>
        <p:spPr>
          <a:xfrm>
            <a:off x="1441440" y="496800"/>
            <a:ext cx="6207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Leadership System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422280" y="3873600"/>
            <a:ext cx="82296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984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Adul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39800" indent="-282600">
              <a:lnSpc>
                <a:spcPct val="125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Advisors/Associate Adviso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9800" indent="-282600">
              <a:lnSpc>
                <a:spcPct val="125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Skippers/Mates (Sea Scouting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20680" y="2042640"/>
            <a:ext cx="7243920" cy="27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artnered Crew (Extension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Neighborhood Crew (Core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pecial Interest Crew (Core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479520"/>
            <a:ext cx="6207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Troop Relationships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1494000" y="5224320"/>
            <a:ext cx="61545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52200"/>
            <a:ext cx="63118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Special Challenge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3120" y="109548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ifferent Youth Protection Issues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Age Rang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o is an Adult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18 – 20 Year olds?  21+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roop Resentmen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eadership (Youth Run?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Varied Program Structur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