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7F3-3323-4867-A26F-466A8AC2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958-5BAC-4263-BC04-1ACDC9FC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D38-2C84-4CE6-95B3-FA495D56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E5B-5158-4760-844A-6F9821F4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3BB-B9F3-4996-9F1F-689BB742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C62C-F575-4029-8157-24B15E2C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447-6F3E-441D-9D7F-BD3778E2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8E5-5963-4446-884A-70E076EF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93D-0C75-46ED-87B1-7A422862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205-1059-4B39-9D52-BF994359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51EC-A48B-4AA7-9C67-A224F916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254-4E4F-4F56-A8DB-A3EDD2BA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BCA85-7AC6-4CE6-BFD6-F6F384AF4E38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018800"/>
            <a:ext cx="907092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Arial"/>
              </a:rPr>
              <a:t>The Commissioner Leader's Top-10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CS 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mmissioner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ebruary 28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ndrew Crom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DC, Stanford 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cific Skyline Council, B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21160" y="2286000"/>
            <a:ext cx="1293840" cy="12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#4: Know the danger signs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07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ew, overloaded leaders with multiple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ubmasters/Scoutmasters doing paper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nfrequent scout or committee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ack of advancement; loss of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un-Trained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couts not having fun, or adults a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rents/Scouters controlling boy-led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afety violations or concerns (cf. GT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4C7-7EC5-4FA3-88BB-8D49B2FBEC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#3: Respond to problems calmly but promptly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You have experience--you know a problem when you se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ddress small problems before they become l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f they get large, get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lways be constru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member your "ripcord": Safety always trumps politics &amp; feel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1E3-3C54-4F60-9395-6727E17CA5D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#2: Resources: Know where to get hel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SA texts: Commissioner's Fieldbook for Uni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SA (re)training: Commissioner Fast Start on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eer commissio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DCs, DC, CC, district/council professi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couting.org, netcommish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CB4-B400-4187-8889-34FA1627749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#1: Be Trained, and self-improve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"/>
              </a:rPr>
              <a:t>As you learn &amp; improve, so will your un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djust your skills for the unit. Units grow and change; so do their commissioner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Get/stay ahead with new training (SSD, SA, COS, Wood Badge). Hone your people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ast Start for Commissioners: Do it to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mmissioner College each year. Network with peers: Everyone has something to teac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ursue your Arrowhead aw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43800" y="6400800"/>
            <a:ext cx="1293840" cy="4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976-D23C-447C-9ABD-31E1835C3C3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Those Resources agai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SA texts: Commissioner's Fieldbook for Uni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SA (re)training: Commissioner Fast Start on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eer commissio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DCs, DC, CC, district/council professi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SA: scouting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Non-BSA: netcommish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970-416B-46B4-B280-E44F6945E27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02920" y="1018800"/>
            <a:ext cx="907092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Arial"/>
              </a:rPr>
              <a:t>The Commissioner Leader's Top-10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CS 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mmissioner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ebruary 28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ndrew Crom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DC, Stanford 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cific Skyline Council, B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21160" y="2286000"/>
            <a:ext cx="1293840" cy="12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mmissioners: the ”grandparents” in sc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commissioners: The Top 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You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F71-F581-4D7B-9A71-9A5A57577DF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What's a Commissioner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couting is a </a:t>
            </a:r>
            <a:r>
              <a:rPr b="0" i="1" lang="fi-FI" sz="3200" spc="-1" strike="noStrike">
                <a:solidFill>
                  <a:srgbClr val="000000"/>
                </a:solidFill>
                <a:latin typeface="Arial"/>
              </a:rPr>
              <a:t>franchise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program, provided by a distant National and implemented by local volunte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raining of volunteers is essential–but still is no substitute for </a:t>
            </a:r>
            <a:r>
              <a:rPr b="0" i="1" lang="fi-FI" sz="3200" spc="-1" strike="noStrike">
                <a:solidFill>
                  <a:srgbClr val="000000"/>
                </a:solidFill>
                <a:latin typeface="Arial"/>
              </a:rPr>
              <a:t>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xperienced gray-haired scouters don't retire; they become commissio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mmissioners are scouting's grandparents: Lots of expertise, not in charge, best as quiet coaches, still get to have fun with the k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B7F-3F1A-4D94-B666-A3901B1B8EA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#10: Visit your units. Listen and observe. Be service-oriented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You must be there and see what happens to report, praise, or fix it. Every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aise publicly, advise privately.  Do any note-taking/"scoring" privately, after the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uild trust over time, through engagement. Listen actively and empath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You're a volunteer coach, not the boss. We are assigned (i.e. univited). Be a good gu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Your goal: Make things better -- for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5BE-BE8B-4158-864E-68ADDFC8179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#9: Play all your roles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riend of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iaison to District/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"Doctor" to fix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ach/counselor for adult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EA3-133F-4F7F-B9BA-8DBF81C9D86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#8: Build relationships with key unit individual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olunteers are individu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No individual relationships = no unit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k yoursel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Who needs my help 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What help would I want in this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What will make the unit succ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ind the person who needs your help. Then help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36E6-A48D-4531-87BE-9F9A2226F3E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#7: Build relationships with scouting professional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mmissioners are special. Professionals know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e can help professionals succeed too,often  in ways no one else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You are the professionals' "feet on the street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fessionals are your backstop, resource, &amp; handoff a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EB3-B8F8-405E-89EF-FE36EBBE7F5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#6: Exceed unit expecta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You have the expertise and can "see it coming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e proactive -- look for ways to contribu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e Prepared with solutions and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"Do your best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FC0-CC07-42AF-A542-2B3093FB1C7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#5: Use scouting metrics to help the unit succeed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"/>
              </a:rPr>
              <a:t>"Help units succeed"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is primary Commissioner 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e measure this: Quality Unit and timely rechart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easure progress toward these goals throughout th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member to help the unit feel rewarded for their accomplish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ABA-F680-444D-9736-421CADB4720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22:41:52Z</dcterms:created>
  <dc:creator/>
  <dc:description/>
  <dc:language>en-US</dc:language>
  <cp:lastModifiedBy/>
  <dcterms:modified xsi:type="dcterms:W3CDTF">2009-02-28T00:36:42Z</dcterms:modified>
  <cp:revision>39</cp:revision>
  <dc:subject/>
  <dc:title/>
</cp:coreProperties>
</file>