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283A-CE06-41C3-B003-1521AAAE6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7FC4A-3D84-452E-93EE-355A0487A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DC4FB-0AD1-4E53-AE36-BE136348F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27259-63F1-4641-BB7D-BC6525B7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D4AB8-0D2F-457F-AA62-08A9DA0AF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7EDE-C0E8-45AE-8ADD-9DDF1AF37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B1490-7F79-49DF-A979-F43621F3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70700-47C9-4425-A686-92A6240DE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CC18-965C-4E3B-9162-7B77557E6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CEE53-27B1-4489-86C8-3A0D508A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CF85D-68BD-4E2C-91F5-271C79AB0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2C72-D2A4-47CD-AE33-2A5E45FB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16ED3-BF57-4D50-AFCF-5E5EDB41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37D92-EF2E-4135-B4CC-157314EA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EC58-0AE3-423F-A04C-D9E4171CE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A2975-A925-42E3-822B-6FB837EC9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4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F9618-6AA0-4F07-8BCB-68A315E96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A9E6-57C7-43AB-9447-D0A1B3660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2900-ED7E-49BF-B968-6FEBA8DAC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A198-DBC5-4DA0-9DF5-4B5286F2E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80067-D959-48DA-AF57-2FA1A8325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A866-4B5A-4470-81E3-A01E48A9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95BA-14E0-4A41-8332-C6D8F7DD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6AA4F-3444-4A20-AE3E-E519757D9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DDD9D-8A5A-4613-B775-5A70D594B05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7A89A-7751-4CB8-BC97-5C5E33420B4A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3581280" y="838080"/>
            <a:ext cx="1690920" cy="1654200"/>
          </a:xfrm>
          <a:prstGeom prst="rect">
            <a:avLst/>
          </a:prstGeom>
          <a:ln w="0">
            <a:noFill/>
          </a:ln>
        </p:spPr>
      </p:pic>
      <p:sp>
        <p:nvSpPr>
          <p:cNvPr id="3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2895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5400" spc="-1" strike="noStrike">
                <a:solidFill>
                  <a:srgbClr val="ffffcc"/>
                </a:solidFill>
                <a:latin typeface="Tahoma"/>
              </a:rPr>
              <a:t>The Commissioner’s</a:t>
            </a:r>
            <a:br>
              <a:rPr sz="5400"/>
            </a:br>
            <a:r>
              <a:rPr b="0" lang="fi-FI" sz="5400" spc="-1" strike="noStrike">
                <a:solidFill>
                  <a:srgbClr val="ffffcc"/>
                </a:solidFill>
                <a:latin typeface="Tahoma"/>
              </a:rPr>
              <a:t> Top 10</a:t>
            </a:r>
            <a:br>
              <a:rPr sz="4000"/>
            </a:b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#4: Know the Danger Sig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Journey to Excellence as Guid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Few, overloaded leaders with multiple ro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Cubmasters/Scoutmasters doing paper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Infrequent scout or committee meeting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Lack of advancement; loss of memb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un-Trained lead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Scouts not having fun, or adults angr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Parents/Scouters controlling boy-led activi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Safety violations or concer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4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4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4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#3: Respond to Problems calmly,</a:t>
            </a:r>
            <a:br>
              <a:rPr sz="4000"/>
            </a:b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but promptly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You have experience – You know a problem when you see i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Address small problems before they become significa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If they become significant, get hel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Always be constructiv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Remember: Safety always overrides politics and feeling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#2: Know and Use your Resourc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BSA texts – Commissioner's Fieldbook for Unit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BSA Training - Commissioner Web Site and Commissioner Colle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Pe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District and Council Professionals and Volunte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scouting.org &amp; norcalcommissioner.or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#1: Be Trained and Continually</a:t>
            </a:r>
            <a:br>
              <a:rPr sz="4000"/>
            </a:b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Self-Improv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Be an example - As you learn &amp; improve, so will your uni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Adjust your skills for the unit – Units grow and change; so do their commissioner n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Stay ahead with new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Fast Start for Commissioner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Pursue Commissioner Aw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Commissioner Colle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Pursue College Degre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4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205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Unit Service 10 Command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51080" indent="-451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 unit leader is the most important person in Scouting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1080" indent="-451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t leaders are not dependent on us – We are dependent on them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1080" indent="-451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ts are not interruptions of our work – They are the purpose of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1080" indent="-451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t adults do us a favor when they cal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1080" indent="-451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 unit Scouter is central to our team, not an outsider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1080" indent="-451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t leaders are not cold statistics – They are human beings with feelings and emotions like our ow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1080" indent="-451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 unit leader is not someone to argue or match wits with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1080" indent="-451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t adults bring us their needs – It is our job to meet those need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1080" indent="-451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Unit leaders are deserving of the most courteous treatment we can give them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451080" indent="-451080">
              <a:lnSpc>
                <a:spcPct val="90000"/>
              </a:lnSpc>
              <a:spcBef>
                <a:spcPts val="550"/>
              </a:spcBef>
              <a:buClr>
                <a:srgbClr val="800000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ahoma"/>
              </a:rPr>
              <a:t>A unit is the lifeblood of the council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54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estions &amp; Discuss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514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304920" y="2819520"/>
            <a:ext cx="8540640" cy="37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dfca"/>
                </a:solidFill>
                <a:latin typeface="Tahoma"/>
              </a:rPr>
              <a:t>Under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upled with 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ahoma"/>
              </a:rPr>
              <a:t>Good Communi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ovides goo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Scouting Rel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3124080" y="457200"/>
            <a:ext cx="2971800" cy="18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80520" y="1142640"/>
            <a:ext cx="8541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Qualities of a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Good Commissioner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276720" y="3124080"/>
            <a:ext cx="251460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04920" y="1219320"/>
            <a:ext cx="85406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"/>
          <p:cNvSpPr/>
          <p:nvPr/>
        </p:nvSpPr>
        <p:spPr>
          <a:xfrm>
            <a:off x="609480" y="12193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ahoma"/>
              </a:rPr>
              <a:t>Intentionally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begin to build a good relationship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en the partnership thrives, Scouting thrives.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When the partnership is not working well, Scouting suffers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#10: Visit your Units – Listen and Observe.  Be Service-Oriented</a:t>
            </a: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You must be there and see what happens to report, praise, or fix i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Praise publicly – advise privately (Do any note taking privately, after the meetin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Build trust over time – Listen actively and empath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You're a volunteer coach, not the boss (Be a good guest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Your goal: ”Make things better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#9: Know and Carry out </a:t>
            </a:r>
            <a:br>
              <a:rPr sz="4000"/>
            </a:b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all your Role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Friend of uni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Liaison to District and Counci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"Doctor" to fix probl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Teac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Coach – Counselor for adult lead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#8: Build Relationships with</a:t>
            </a:r>
            <a:br>
              <a:rPr sz="4000"/>
            </a:b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Key Unit Individu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Volunteers are individu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No individual relationships = no unit relation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Ask yourself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Who needs my help next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What help would I want in this situation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Tahoma"/>
              </a:rPr>
              <a:t>What will make the unit succeed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Find the person who needs your help – Then help the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#7: Build Relationships with Scouting Professiona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Good volunteer-professional relationships are characterized by</a:t>
            </a:r>
            <a:r>
              <a:rPr b="0" lang="en-US" sz="32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tual trust, mutual respect, and mutual recognition</a:t>
            </a:r>
            <a:r>
              <a:rPr b="0" lang="en-US" sz="32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ccff"/>
                </a:solidFill>
                <a:latin typeface="Tahoma"/>
              </a:rPr>
              <a:t>of each other’s role and competenc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Develop good communic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eath of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5562720" y="5029200"/>
            <a:ext cx="1371600" cy="13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ffffcc"/>
                </a:solidFill>
                <a:latin typeface="Tahoma"/>
              </a:rPr>
              <a:t>#6: Exceed Unit Expectation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You have the expertise and can "see it coming.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Be proactive – Look for ways to contribut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Be Prepared with solutions and idea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"Do Your Best"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cc"/>
                </a:solidFill>
                <a:latin typeface="Tahoma"/>
              </a:rPr>
              <a:t>#5: Use Scouting Metrics to help the Unit succeed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"Help units succeed" is primary Commissioner mis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Journey to Excell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996633"/>
              </a:buClr>
              <a:buSzPct val="4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Tahoma"/>
              </a:rPr>
              <a:t>Measure progress toward these goals throughout the ye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996633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Tahoma"/>
              </a:rPr>
              <a:t>Remember to help the unit feel rewarded for their accomplish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0T08:03:56Z</dcterms:created>
  <dc:creator>Al Friedrich</dc:creator>
  <dc:description/>
  <dc:language>en-US</dc:language>
  <cp:lastModifiedBy>Al Friedrich</cp:lastModifiedBy>
  <dcterms:modified xsi:type="dcterms:W3CDTF">2011-02-21T02:01:41Z</dcterms:modified>
  <cp:revision>44</cp:revision>
  <dc:subject/>
  <dc:title>Annual  Commissioner Service Plan</dc:title>
</cp:coreProperties>
</file>