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9.jpeg" ContentType="image/jpe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B8011-EDB8-48B7-98DC-C1332213E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0E1A6-2F9D-41A6-8D88-3DB90CF40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1CDA7-DD55-4A14-AF55-5EED910B52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1D4-D330-4ABD-8BCF-7D827A0B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3E3-7E96-4728-B440-60540E9A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646B9-0C19-4E27-A883-B1802A58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2F370-B60D-4323-930E-18A477C7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F5ACA-62EE-4E74-B2A3-44F7F0C4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F8681-EC68-4EA9-B5FA-18FC6D8C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4B85E-F896-4B77-9029-8AC5A3FC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72718-DF35-498B-A5AB-A8020EEB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B37AB-4AB0-4C26-AE33-884787A5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6E9D9-8548-4AC0-ABC0-1E710F45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112E7-F5B4-4D1E-8868-E15885DF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EAAA9-02B2-4893-B35D-5C4234C9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A3D-021A-481E-BD47-9F13D89B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759E5-2968-404A-8A5E-8E96D51C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33E73-B895-4900-9065-D3ED3EBA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B6700-8F44-49B9-A2AA-F6344C22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A3754-0B7E-4D5A-B1F8-4C1B2868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C90EC-E3A5-48FE-B61D-3A83D656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985BA-63A3-4142-9FF1-FCDB18E4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F56D3-781C-425F-B610-1BB60D6D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F4E7B-1A2C-4B02-AD27-8FEAABC9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29AB9-C7F7-4E89-9AFF-A9BDFFE1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B94C7-F47C-4D17-9999-51A72445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777-ECB1-4003-AE37-3D4172A2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A343A-A3A6-46C6-8752-D3F267AB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7FD5-B36A-45D9-8EE4-9385FCD7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F225-A7D2-471A-834D-D30605BD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5E15-F4B2-40B2-BCDE-3761F48C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6543-5A1C-4CDE-829B-E7141B73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D63C-56FE-4E8E-891D-D06CE003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18EA-6BBF-4D24-B9A7-035786E8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C9E5-7FC4-4047-9802-61778A0D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FCC-DE0E-45A4-9379-1B8B9031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2FC7-841E-44C0-A46A-62D1A456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1812-C1AE-47A1-A441-E0D8CC5C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C91E-7400-4166-AC28-8304F7F1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55CE-53E5-4C44-81D6-2606FA7F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9531-E88D-47B6-AEED-7440154E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5A028-58E9-4F5D-A534-5042156D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CDD8-C05D-479F-933C-1BC170D7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8D8C9-4D23-49D7-B2BB-9E5ED948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59703-3D1A-447D-A100-801A95AF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6D29-3CEB-481F-93FB-BBBD871A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5F5-44BA-4120-B2EE-8239CB08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11FB9-7C18-4FB3-BF82-69167514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0F63-3AC2-4A7A-9F4A-2C1E506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1F08-27E3-47E9-8A0F-4E7328E8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0F10-240E-41B4-B37F-310BDDC1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5492-0AE6-4CC9-8B49-3EF9210F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E3BD-D0FE-47DF-A228-122181C1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0CC1B-B619-41E6-8F1C-07FE3183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C28D6-A044-455C-97FB-DE552B9D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E643D-8A55-4062-BC97-29871825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5B96E-9A53-446F-8606-2EC677F1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13C-9C38-4F3B-B0A0-1BBE0A0F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4214D-E408-4886-A241-1D159191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32CE1-B868-41E8-AE0A-91ABC426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7A201-DA06-4C05-994D-125D46E4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2CF65-BC1F-4964-9E80-63EF6478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5E2BA-57B4-4278-9B6D-6EC8AB87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06D5-82AF-4F3F-876E-B83B0BA5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54F36-FC52-43BC-B47F-03ABCD98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B7C3-73E5-462E-B7BE-F470CA22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4C847-03C0-45B4-8C5B-1640DF69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1B99A-8BA3-42F8-943B-1209DF14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2A2-B594-4F32-B9B9-8E8301A5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C8A62-6028-4074-9636-09482DF6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76AED-19AC-485B-B6D2-29AB0A77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D41CB-8C2E-4E11-B075-45B82F8E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EB2EA-D85A-4D57-B725-F347D752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32EB5-C227-4468-A4FC-471E6519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74CC2-7511-4EFA-85F5-654932E9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EDE37-84FF-45D0-822E-98A9C9C2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C553D-D0C0-4B0B-8915-31981AA5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19EF2-42D2-4530-AFB0-B53401C6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D3EFB-2491-423F-B147-A2D34AF1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0BB-2D98-4964-9939-C13C23B7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DCB61-64C4-4147-9C72-DB285DFB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92148-13C4-4F54-91AF-E230E742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454D2-1BD1-476A-95D8-31EB99B3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21DC4-8EA5-4FE1-BB1B-A8A47F25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51697-2D6E-47C2-8C0B-2EDBA1F8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0C374-5CD9-42B4-9BB3-34580630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E1FAB-3948-4B0A-9A26-8F527BF3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AB618-8993-4D3A-A7FD-0615BF63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9D561-C99D-4217-A1B1-3C091295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BF864-EA0C-4E59-AD52-83211982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C6C-EA10-44BB-A99C-7D01AF7E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32A6B-A56C-4848-B51D-32A6E40D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16A03-EA73-4C0B-8E4E-293D0A68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F27DC-25FE-440B-8CCC-4DE42917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9E375-2370-4729-A25E-2F821131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0F44D-6544-4F80-B772-26E65165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1D154-59D3-4C31-8522-4F4D0A24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8044C-3480-4F3F-9848-00BC7EEE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A0452-4B87-47D3-9CCE-4743958B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9B88C-C4C2-461B-9EB8-B37B7648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D1873-9E13-40F4-8FF0-1B6EF5BC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AB3-EF9B-47AA-9295-455B688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466CA-64F4-416F-B369-D5A0AF8A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1B0F6-5E2C-49D1-A0B1-181A3810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91AF6-658B-4E2D-9BEB-B0437835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62E89-F8F2-450C-A9AF-7D531B0F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D68DC-DD31-4D2F-8E76-D20B8629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97419-31C8-49F4-B4B9-DB850E0F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53F47-463B-4C4D-8146-CCD2B1D2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7DFDD-954F-47AB-ACC9-91834A49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4E514-1A03-40D6-AB0F-D9679856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0855C-E5E3-4A11-9133-93799E4E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C77-0CAF-4ECC-8EE5-BFF8FF10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5F987-7027-49A7-8274-50304102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1B79D-BD76-48F5-ADF8-1203B0F9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95E36-53BE-4745-8366-4B9B16D8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D0D9C-EA21-49C1-AF1D-0D8EB39A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B1DE4-3193-4135-868F-E983BF35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D30BD-65E3-4258-B313-4D76D855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80BF3-C709-417E-90AD-D07785E5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D456F-D6FF-4D96-8578-5AA637DB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35FA6-5F96-4182-9C28-F995F4A8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EFF40-D0E7-4E67-8A8F-1489D666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A2A8E-DA24-4E51-BA4E-87B10ECDF9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6E770-FCA6-402A-B8DE-231DFEDC3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450F1-4C0E-4CDA-ADA8-8E6B67D9ED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EDC96-A98F-4DF2-AE4F-0107F4E1A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AnnivGrStandard_Rev.gif"/>
          <p:cNvPicPr/>
          <p:nvPr/>
        </p:nvPicPr>
        <p:blipFill>
          <a:blip r:embed="rId3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1FAB6-815D-464F-B28E-02B36F1FE2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9332E-B379-46F2-B34A-29D99294C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A56B2-7841-4F08-A2C4-60A3974FC4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309DE-5ADA-46E4-BF87-F01258FE5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4B28A-2663-4268-AB93-56A8C9FACD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5791B-AE94-4AE8-BE8C-5640AF919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DC544-44A8-444F-AE5F-267A5130E0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4F460-44C3-4D6A-AA12-9AC0D5A4A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69C22-F5C5-4950-9521-547EC8E4E0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94A66-2891-471B-9209-9A6E8BFA8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04627-212B-49FC-B17D-13C217901F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388A1-E7DD-4B51-B14F-300C076B4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41009-5788-4019-B86C-A810F06F85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97DAE-727C-41DD-82E9-E6DF8FDFD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7"/>
          <p:cNvSpPr/>
          <p:nvPr/>
        </p:nvSpPr>
        <p:spPr>
          <a:xfrm>
            <a:off x="0" y="5867280"/>
            <a:ext cx="9144000" cy="990720"/>
          </a:xfrm>
          <a:custGeom>
            <a:avLst/>
            <a:gdLst/>
            <a:ahLst/>
            <a:rect l="l" t="t" r="r" b="b"/>
            <a:pathLst>
              <a:path w="9144000" h="990600">
                <a:moveTo>
                  <a:pt x="0" y="0"/>
                </a:moveTo>
                <a:lnTo>
                  <a:pt x="4607626" y="215735"/>
                </a:lnTo>
                <a:lnTo>
                  <a:pt x="9144000" y="0"/>
                </a:lnTo>
                <a:lnTo>
                  <a:pt x="9144000" y="990600"/>
                </a:lnTo>
                <a:lnTo>
                  <a:pt x="0" y="990600"/>
                </a:lnTo>
                <a:lnTo>
                  <a:pt x="0" y="0"/>
                </a:lnTo>
                <a:close/>
              </a:path>
            </a:pathLst>
          </a:custGeom>
          <a:solidFill>
            <a:srgbClr val="003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AnnivGrStandard_Rev.gif"/>
          <p:cNvPicPr/>
          <p:nvPr/>
        </p:nvPicPr>
        <p:blipFill>
          <a:blip r:embed="rId2"/>
          <a:stretch/>
        </p:blipFill>
        <p:spPr>
          <a:xfrm>
            <a:off x="6357960" y="6213600"/>
            <a:ext cx="2568600" cy="4093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5EF51-3E9E-429A-9AEC-D6DAA513AB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5E464-2ACC-4626-9C6E-CBB3DE20E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3"/>
          <p:cNvSpPr/>
          <p:nvPr/>
        </p:nvSpPr>
        <p:spPr>
          <a:xfrm>
            <a:off x="38088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8637A-3473-4F43-B140-245E028A0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Journey_to_excellence Clean.JPG"/>
          <p:cNvPicPr/>
          <p:nvPr/>
        </p:nvPicPr>
        <p:blipFill>
          <a:blip r:embed="rId1"/>
          <a:stretch/>
        </p:blipFill>
        <p:spPr>
          <a:xfrm>
            <a:off x="1905120" y="871560"/>
            <a:ext cx="5486400" cy="3132000"/>
          </a:xfrm>
          <a:prstGeom prst="rect">
            <a:avLst/>
          </a:prstGeom>
          <a:ln w="0">
            <a:noFill/>
          </a:ln>
        </p:spPr>
      </p:pic>
      <p:sp>
        <p:nvSpPr>
          <p:cNvPr id="460" name="TextBox 4"/>
          <p:cNvSpPr/>
          <p:nvPr/>
        </p:nvSpPr>
        <p:spPr>
          <a:xfrm>
            <a:off x="1380960" y="4246560"/>
            <a:ext cx="67392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 Awards and Inc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lver Beaver A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2015640"/>
            <a:ext cx="82296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Nomination of Council, District and Unit Scou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33600" y="3638520"/>
            <a:ext cx="22831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ained Pa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015640"/>
            <a:ext cx="82296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ssioner’s Field Book for Unit Service, page 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45000" y="3138480"/>
            <a:ext cx="1827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rowhead Hon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145960"/>
            <a:ext cx="8229600" cy="39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ssioner’s Field Book for Unit Service, page 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933720" y="3508200"/>
            <a:ext cx="1276560" cy="17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issioner's Ke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822960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ssioner’s Field Book for Unit Service, page 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219480" y="3787920"/>
            <a:ext cx="245412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57200" y="1976040"/>
            <a:ext cx="82296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ssioner Field Book for Unit Service, page 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0" y="1080720"/>
            <a:ext cx="91440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stinguished Commissioner Service Award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505400" y="2832120"/>
            <a:ext cx="2058840" cy="27306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819440" y="3825720"/>
            <a:ext cx="234468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llege of Commissioner Science Deg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2295360"/>
            <a:ext cx="822960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he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ter of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tor of Commissioner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llege of Commissioner Science Deg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2960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tor of Commissioner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281400" y="3502080"/>
            <a:ext cx="259092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ligious A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ed by Religious Instit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456000" y="3573360"/>
            <a:ext cx="2139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strict Award of Mer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205236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Nomination of District and Unit Scou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510000" y="3521160"/>
            <a:ext cx="232416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1:54:58Z</dcterms:created>
  <dc:creator>Neil Lupton</dc:creator>
  <dc:description/>
  <dc:language>en-US</dc:language>
  <cp:lastModifiedBy>Al Friedrich</cp:lastModifiedBy>
  <dcterms:modified xsi:type="dcterms:W3CDTF">2011-02-26T21:07:20Z</dcterms:modified>
  <cp:revision>98</cp:revision>
  <dc:subject/>
  <dc:title>Slide 1</dc:title>
</cp:coreProperties>
</file>