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620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Click to move the slide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45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68644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6200" y="868644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FDF26-26F6-4D21-816B-E476CF17B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9160" y="109440"/>
            <a:ext cx="77673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6920" y="2533320"/>
            <a:ext cx="870588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86920" y="5008680"/>
            <a:ext cx="870588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9160" y="109440"/>
            <a:ext cx="77673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6920" y="2533320"/>
            <a:ext cx="4248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8040" y="2533320"/>
            <a:ext cx="4248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86920" y="5008680"/>
            <a:ext cx="4248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8040" y="5008680"/>
            <a:ext cx="4248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89160" y="109440"/>
            <a:ext cx="77673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6920" y="2533320"/>
            <a:ext cx="28029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2533320"/>
            <a:ext cx="28029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4000" y="2533320"/>
            <a:ext cx="28029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86920" y="5008680"/>
            <a:ext cx="28029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5008680"/>
            <a:ext cx="28029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4000" y="5008680"/>
            <a:ext cx="28029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89160" y="109440"/>
            <a:ext cx="77673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86920" y="2533320"/>
            <a:ext cx="87058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89160" y="109440"/>
            <a:ext cx="77673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86920" y="2533320"/>
            <a:ext cx="87058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9160" y="109440"/>
            <a:ext cx="77673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6920" y="2533320"/>
            <a:ext cx="4248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8040" y="2533320"/>
            <a:ext cx="4248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9160" y="109440"/>
            <a:ext cx="77673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89160" y="109440"/>
            <a:ext cx="7767360" cy="1062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2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9160" y="109440"/>
            <a:ext cx="77673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6920" y="2533320"/>
            <a:ext cx="4248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8040" y="2533320"/>
            <a:ext cx="4248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86920" y="5008680"/>
            <a:ext cx="4248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89160" y="109440"/>
            <a:ext cx="77673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86920" y="2533320"/>
            <a:ext cx="87058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89160" y="109440"/>
            <a:ext cx="77673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6920" y="2533320"/>
            <a:ext cx="4248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8040" y="2533320"/>
            <a:ext cx="4248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8040" y="5008680"/>
            <a:ext cx="4248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89160" y="109440"/>
            <a:ext cx="77673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6920" y="2533320"/>
            <a:ext cx="4248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8040" y="2533320"/>
            <a:ext cx="4248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86920" y="5008680"/>
            <a:ext cx="870588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89160" y="109440"/>
            <a:ext cx="77673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6920" y="2533320"/>
            <a:ext cx="870588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86920" y="5008680"/>
            <a:ext cx="870588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9160" y="109440"/>
            <a:ext cx="77673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6920" y="2533320"/>
            <a:ext cx="4248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8040" y="2533320"/>
            <a:ext cx="4248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86920" y="5008680"/>
            <a:ext cx="4248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8040" y="5008680"/>
            <a:ext cx="4248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89160" y="109440"/>
            <a:ext cx="77673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6920" y="2533320"/>
            <a:ext cx="28029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0280" y="2533320"/>
            <a:ext cx="28029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74000" y="2533320"/>
            <a:ext cx="28029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86920" y="5008680"/>
            <a:ext cx="28029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0280" y="5008680"/>
            <a:ext cx="28029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74000" y="5008680"/>
            <a:ext cx="28029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89160" y="109440"/>
            <a:ext cx="77673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86920" y="2533320"/>
            <a:ext cx="87058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9160" y="109440"/>
            <a:ext cx="77673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6920" y="2533320"/>
            <a:ext cx="4248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8040" y="2533320"/>
            <a:ext cx="4248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9160" y="109440"/>
            <a:ext cx="77673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89160" y="109440"/>
            <a:ext cx="7767360" cy="1062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2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89160" y="109440"/>
            <a:ext cx="77673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6920" y="2533320"/>
            <a:ext cx="4248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8040" y="2533320"/>
            <a:ext cx="4248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86920" y="5008680"/>
            <a:ext cx="4248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89160" y="109440"/>
            <a:ext cx="77673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6920" y="2533320"/>
            <a:ext cx="4248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8040" y="2533320"/>
            <a:ext cx="4248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8040" y="5008680"/>
            <a:ext cx="4248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9160" y="109440"/>
            <a:ext cx="77673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6920" y="2533320"/>
            <a:ext cx="4248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8040" y="2533320"/>
            <a:ext cx="4248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86920" y="5008680"/>
            <a:ext cx="870588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2448"/>
              </a:gs>
              <a:gs pos="50000">
                <a:srgbClr val="003366"/>
              </a:gs>
              <a:gs pos="100000">
                <a:srgbClr val="0024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9160" y="109440"/>
            <a:ext cx="77673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6920" y="2533320"/>
            <a:ext cx="87058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0">
              <a:lnSpc>
                <a:spcPct val="112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325800" indent="-32580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2" marL="325800" indent="-32580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3" marL="325800" indent="-32580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4" marL="325800" indent="-32580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5" marL="325800" indent="-32580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6" marL="325800" indent="-32580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4440" y="1544400"/>
            <a:ext cx="8226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2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3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4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5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6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9440" y="115560"/>
            <a:ext cx="787536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000" spc="-1" strike="noStrike">
                <a:solidFill>
                  <a:srgbClr val="dddddd"/>
                </a:solidFill>
                <a:latin typeface="FrancineHmk"/>
              </a:rPr>
              <a:t>Becoming a Better Commissioner</a:t>
            </a:r>
            <a:br>
              <a:rPr sz="8000"/>
            </a:br>
            <a:r>
              <a:rPr b="0" lang="en-GB" sz="4400" spc="-1" strike="noStrike">
                <a:solidFill>
                  <a:srgbClr val="dddddd"/>
                </a:solidFill>
                <a:latin typeface="FrancineHmk"/>
              </a:rPr>
              <a:t>MCS 424 </a:t>
            </a:r>
            <a:endParaRPr b="0" lang="en-US" sz="4400" spc="-1" strike="noStrike">
              <a:solidFill>
                <a:srgbClr val="dddddd"/>
              </a:solidFill>
              <a:latin typeface="FrancineHm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3935160"/>
            <a:ext cx="829296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NorCal Commissioner's Colleg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-34308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David D. Frydenlund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-34308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Pacific Skyline Council</a:t>
            </a:r>
            <a:endParaRPr b="0" lang="en-US" sz="24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88800" y="153720"/>
            <a:ext cx="776916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 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44680" y="1332000"/>
            <a:ext cx="850104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cineHmk"/>
              </a:rPr>
              <a:t>Don't Fall Prey to the Unit Pathology Trap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cineHmk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FrancineHmk"/>
              </a:rPr>
              <a:t>Never Confuse Reporting With Helping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cineHmk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FrancineHmk"/>
              </a:rPr>
              <a:t>Never Confuse Diagnosis With Cure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5160"/>
            <a:ext cx="776916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FrancineHmk"/>
              </a:rPr>
              <a:t>Ask Yourself:</a:t>
            </a:r>
            <a:endParaRPr b="0" lang="en-US" sz="44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36320" y="1345680"/>
            <a:ext cx="8707320" cy="29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Who Do You Turn to for Assistance?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Someone: 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With Knowledge and Skill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5160"/>
            <a:ext cx="776916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FrancineHmk"/>
              </a:rPr>
              <a:t>Ask Yourself:</a:t>
            </a:r>
            <a:endParaRPr b="0" lang="en-US" sz="44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36320" y="1345680"/>
            <a:ext cx="870732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Who Do You Turn to for Assistance?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Someone: 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With Knowledge and Skill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You Trust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5160"/>
            <a:ext cx="776916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FrancineHmk"/>
              </a:rPr>
              <a:t>Ask Yourself:</a:t>
            </a:r>
            <a:endParaRPr b="0" lang="en-US" sz="44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36320" y="1257480"/>
            <a:ext cx="87073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Who Do You Turn to for Assistance?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Someone: 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With Knowledge and Skill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You Trust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You Lik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5160"/>
            <a:ext cx="776916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FrancineHmk"/>
              </a:rPr>
              <a:t>Ask Yourself:</a:t>
            </a:r>
            <a:endParaRPr b="0" lang="en-US" sz="44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36320" y="1243080"/>
            <a:ext cx="870732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Who Do You Turn to for Assistance?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Someone: 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With Knowledge and Skill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You Trust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You Lik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Who Will NOT Embarrass You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5160"/>
            <a:ext cx="776916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FrancineHmk"/>
              </a:rPr>
              <a:t>Ask Yourself:</a:t>
            </a:r>
            <a:endParaRPr b="0" lang="en-US" sz="44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36320" y="1243080"/>
            <a:ext cx="870732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Who Do You Turn to for Assistance?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Someone: 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With Knowledge and Skill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You Trust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You Lik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Who Will NOT Embarrass You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Not Necessarily in that Order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5160"/>
            <a:ext cx="776916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FrancineHmk"/>
              </a:rPr>
              <a:t>Ask Yourself:</a:t>
            </a:r>
            <a:endParaRPr b="0" lang="en-US" sz="44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39320" y="1652760"/>
            <a:ext cx="7440840" cy="35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Would You Rather Be: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Told or Asked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5160"/>
            <a:ext cx="776916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FrancineHmk"/>
              </a:rPr>
              <a:t>Ask Yourself:</a:t>
            </a:r>
            <a:endParaRPr b="0" lang="en-US" sz="44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39320" y="1652760"/>
            <a:ext cx="7440840" cy="35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Would You Rather Be: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Told or Asked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Ordered or Influenced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5160"/>
            <a:ext cx="776916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FrancineHmk"/>
              </a:rPr>
              <a:t>Ask Yourself:</a:t>
            </a:r>
            <a:endParaRPr b="0" lang="en-US" sz="44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9320" y="1652760"/>
            <a:ext cx="7440840" cy="35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Would You Rather Be: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Told or Asked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Ordered or Influenced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Dictated To or Mentored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88800" y="153720"/>
            <a:ext cx="776916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 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77560" y="1262160"/>
            <a:ext cx="87073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No One is So Hard to Help as: 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omeone Who Does Not Want to be Helped!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88800" y="109440"/>
            <a:ext cx="7769160" cy="22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 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14160" y="1163520"/>
            <a:ext cx="822780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Becoming a Better Commissioner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Winning Friends and Influencing Peopl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MCS 424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88800" y="153720"/>
            <a:ext cx="776916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dddddd"/>
                </a:solidFill>
                <a:latin typeface="FrancineHmk"/>
              </a:rPr>
              <a:t>Key Idea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62200" y="1919160"/>
            <a:ext cx="485928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ineHmk"/>
              </a:rPr>
              <a:t>Relationships</a:t>
            </a:r>
            <a:endParaRPr b="0" lang="en-US" sz="44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ineHmk"/>
              </a:rPr>
              <a:t>Timing</a:t>
            </a:r>
            <a:endParaRPr b="0" lang="en-US" sz="44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ineHmk"/>
              </a:rPr>
              <a:t>Style</a:t>
            </a:r>
            <a:endParaRPr b="0" lang="en-US" sz="44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09240" y="168120"/>
            <a:ext cx="77691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dddddd"/>
                </a:solidFill>
                <a:latin typeface="FrancineHmk"/>
              </a:rPr>
              <a:t>Relationship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36320" y="2057040"/>
            <a:ext cx="870732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How Do You Feel About Help From a: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cineHmk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Stranger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cineHmk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Authority Figur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cineHmk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Associate or Peer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cineHmk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Friend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09240" y="168120"/>
            <a:ext cx="77691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dddddd"/>
                </a:solidFill>
                <a:latin typeface="FrancineHmk"/>
              </a:rPr>
              <a:t>Relationship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36320" y="1652400"/>
            <a:ext cx="870732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cineHmk"/>
              </a:rPr>
              <a:t>How Do You Turn a Stranger Into a Friend?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cineHmk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FrancineHmk"/>
              </a:rPr>
              <a:t>Shared Experience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cineHmk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FrancineHmk"/>
              </a:rPr>
              <a:t>Careful Listening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cineHmk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FrancineHmk"/>
              </a:rPr>
              <a:t>Sympathy With Situation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cineHmk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FrancineHmk"/>
              </a:rPr>
              <a:t>Empathy With Problems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88800" y="154080"/>
            <a:ext cx="7769160" cy="10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FrancineHmk"/>
              </a:rPr>
              <a:t>Timing</a:t>
            </a:r>
            <a:endParaRPr b="0" lang="en-US" sz="44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41320" y="2157480"/>
            <a:ext cx="7966080" cy="30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Most People: 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Resist Sudden Chang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Resist Big Chang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88800" y="154080"/>
            <a:ext cx="7769160" cy="10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FrancineHmk"/>
              </a:rPr>
              <a:t>Timing</a:t>
            </a:r>
            <a:endParaRPr b="0" lang="en-US" sz="44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86920" y="1301760"/>
            <a:ext cx="87073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The Power of Patienc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cineHmk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Ideas, Like Seeds, Need Time to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cineHmk"/>
              </a:rPr>
              <a:t>               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Germinat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cineHmk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Not All Fields are Ready for All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Seed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cineHmk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From Small Acorns Come Mighty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Oak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cineHmk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But Not Overnight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88800" y="154080"/>
            <a:ext cx="7769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dddddd"/>
                </a:solidFill>
                <a:latin typeface="FrancineHmk"/>
              </a:rPr>
              <a:t>Style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86920" y="1819080"/>
            <a:ext cx="870732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Know What You Are Abou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Believe in What You Know 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Know and Admit to What You Do       Not Know  (Don't Blow Smoke)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Speculation is OK IF it is Clearly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Labeled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88800" y="154080"/>
            <a:ext cx="7769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dddddd"/>
                </a:solidFill>
                <a:latin typeface="FrancineHmk"/>
              </a:rPr>
              <a:t>Style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36320" y="2286000"/>
            <a:ext cx="870732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There is No End to What We Can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Accomplish -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IF: We Do Not Worry About 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Who Will Get the Credi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88800" y="154080"/>
            <a:ext cx="7769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dddddd"/>
                </a:solidFill>
                <a:latin typeface="FrancineHmk"/>
              </a:rPr>
              <a:t>Style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86920" y="1899720"/>
            <a:ext cx="8707320" cy="46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People Prefer Implementing Their Own Ideas (Even if They are Borrowed or Planted)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All Great Ideas Must be Carefully Sold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88800" y="154080"/>
            <a:ext cx="7769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dddddd"/>
                </a:solidFill>
                <a:latin typeface="FrancineHmk"/>
              </a:rPr>
              <a:t>Style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701280" y="1782720"/>
            <a:ext cx="81946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Praise in Public, Criticize in Privat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cineHmk"/>
              </a:rPr>
              <a:t>Always Look Forward, Assigning Blame is Usually a Waste of Tim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88800" y="154080"/>
            <a:ext cx="7769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dddddd"/>
                </a:solidFill>
                <a:latin typeface="FrancineHmk"/>
              </a:rPr>
              <a:t>Style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11080" y="2138040"/>
            <a:ext cx="7996320" cy="34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Anecdotes and Parables 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Are Powerfu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(Even if Partially Fiction) 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88800" y="153720"/>
            <a:ext cx="776916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  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86920" y="1440000"/>
            <a:ext cx="87073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cineHmk"/>
              </a:rPr>
              <a:t>It's All About How to Do Your Job</a:t>
            </a:r>
            <a:endParaRPr b="0" lang="en-US" sz="44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88800" y="153720"/>
            <a:ext cx="776916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Thoughts to Live By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66400" y="1400040"/>
            <a:ext cx="87073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Remember the Golden Rule: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Do Unto Others...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You will never go far wrong treating others with courtesy, kindness and respect.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88800" y="154080"/>
            <a:ext cx="776916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FrancineHmk"/>
              </a:rPr>
              <a:t>Original Commissioners</a:t>
            </a: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 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8560" y="1762200"/>
            <a:ext cx="905508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Senior Scoutmaster in Area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Aid (Mentor) to Other Scoutmaster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Administrativ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Field Skill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88800" y="153720"/>
            <a:ext cx="776916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 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76120" y="1262160"/>
            <a:ext cx="87076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cineHmk"/>
              </a:rPr>
              <a:t>Modern Commissioner Mission</a:t>
            </a:r>
            <a:endParaRPr b="0" lang="en-US" sz="40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cineHmk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FrancineHmk"/>
              </a:rPr>
              <a:t>Helping Units Succeed</a:t>
            </a:r>
            <a:endParaRPr b="0" lang="en-US" sz="40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8800" y="196560"/>
            <a:ext cx="776916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FrancineHmk"/>
              </a:rPr>
              <a:t>Commissioner Styles/Roles</a:t>
            </a:r>
            <a:endParaRPr b="0" lang="en-US" sz="40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20880" y="1395000"/>
            <a:ext cx="808344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Commissioner as Enforcer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8800" y="196560"/>
            <a:ext cx="776916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FrancineHmk"/>
              </a:rPr>
              <a:t>Commissioner Styles/Roles</a:t>
            </a:r>
            <a:endParaRPr b="0" lang="en-US" sz="40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30240" y="1568520"/>
            <a:ext cx="808344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Commissioner as Enforcer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Commissioner as Inspector/Spy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88800" y="196560"/>
            <a:ext cx="776916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FrancineHmk"/>
              </a:rPr>
              <a:t>Commissioner Styles/Roles</a:t>
            </a:r>
            <a:endParaRPr b="0" lang="en-US" sz="40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30240" y="1568520"/>
            <a:ext cx="808344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Commissioner as Enforcer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Commissioner as Inspector/Spy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cineHmk"/>
              </a:rPr>
              <a:t>Commissioner as Aid/Mentor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8800" y="128520"/>
            <a:ext cx="776916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Our Focus Today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47320" y="1351080"/>
            <a:ext cx="87073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rancineHmk"/>
              </a:rPr>
              <a:t>Mentor</a:t>
            </a:r>
            <a:endParaRPr b="0" lang="en-US" sz="48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2:17:16Z</dcterms:created>
  <dc:creator/>
  <dc:description/>
  <dc:language>en-US</dc:language>
  <cp:lastModifiedBy/>
  <dcterms:modified xsi:type="dcterms:W3CDTF">2007-02-08T04:38:34Z</dcterms:modified>
  <cp:revision>4</cp:revision>
  <dc:subject/>
  <dc:title/>
</cp:coreProperties>
</file>