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607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10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72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392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6515280"/>
            <a:ext cx="39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10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E3ECC2-C0C3-4212-88CF-AC96C5699C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576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219320" y="3257280"/>
            <a:ext cx="670536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08C-D549-412C-9158-5920697D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4760" y="463680"/>
            <a:ext cx="6551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3D54-5666-429A-B8AC-0C445852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463680"/>
            <a:ext cx="6551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68E-3625-4D49-BA73-723669A6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4760" y="463680"/>
            <a:ext cx="6551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432-2123-4953-892F-21082224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4760" y="463680"/>
            <a:ext cx="6551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3EA-BA9E-4D59-8006-7641950D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463680"/>
            <a:ext cx="6551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147-35B1-4492-BA4A-DDAF9FC6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463680"/>
            <a:ext cx="6551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3A58-923C-4325-81E1-0439CFA4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463680"/>
            <a:ext cx="6551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6365-220A-4570-B225-47B56B2B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04760" y="463680"/>
            <a:ext cx="65516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5776-26AB-4C18-8359-5E009731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463680"/>
            <a:ext cx="6551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A6B-6207-4418-8AE6-34CC4738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463680"/>
            <a:ext cx="6551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5CD9-D5C1-4E1F-BA5A-85524B28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4760" y="463680"/>
            <a:ext cx="6551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8E98-55C6-4179-87E5-AE81FA59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463680"/>
            <a:ext cx="65516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1903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476760"/>
            <a:ext cx="289404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76760"/>
            <a:ext cx="1903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9B23CE-9F03-4397-825E-82CE39CDEBC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66680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0769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Using Computer Data to Assist in Membership Valid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dd St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uncil Commissioner - Pacific Skyline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ster City / Palo Alto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Trained Scoutmasters</a:t>
            </a:r>
            <a:br>
              <a:rPr sz="4400"/>
            </a:b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MyBSA--&gt; Training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0160" y="1981080"/>
            <a:ext cx="74818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DA1C-4D48-43B0-BDA7-A0ACB8F1C74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4/200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Retention</a:t>
            </a:r>
            <a:br>
              <a:rPr sz="4400"/>
            </a:b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MyBSA--&gt; MS Analysis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0160" y="1981080"/>
            <a:ext cx="74818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BCDB-8CA4-4633-A2E8-C405C19BB3C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4/200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How to Verify Membershi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going involvement by Unit and District Commissio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thly review of District Totals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ort membership rosters into spreadsheet and sort various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hip Audit Report on MyB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A2D1-3DC6-4655-9183-20CCD4F0690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4/2007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District Totals Repor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259056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tive list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gistered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ber of registered youth and ad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ime Recharter / Top Leader Trained / Quality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E30-A576-4D46-A1F1-C5A0AA2EF4A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4/2007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District Totals Report</a:t>
            </a:r>
            <a:br>
              <a:rPr sz="4400"/>
            </a:b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ScoutNET --&gt; Membership --&gt; Membership Reports --&gt; Management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0160" y="1981080"/>
            <a:ext cx="74818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F7D0-CD24-46AD-9618-C739174B043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4/2007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Sorting Council Roster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ScoutNET --&gt; Membership --&gt; Registrant Print Selections --&gt; Export to File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0160" y="1981080"/>
            <a:ext cx="74818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D925-794B-4848-BBD6-2F12A96BCD6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4/2007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Membership Audit Report</a:t>
            </a:r>
            <a:br>
              <a:rPr sz="4400"/>
            </a:b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MyBSA--&gt; SE Only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160" y="1981080"/>
            <a:ext cx="74818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3C5-C518-441B-A3ED-4B48103FB089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4/2007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Things to Look F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20574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s than 4 y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out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mp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al youth regist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id in only one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ck/T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op/Cr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w/Crew/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8A9-3BB1-481B-BA9D-7919A344734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4/2007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655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Centennial Quality Tracking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MyBSA--&gt; Centennial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0160" y="1981080"/>
            <a:ext cx="74818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0401-4880-466D-B45C-4FD96B389C88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4/2007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Membership Valid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ncil and District Commissioners play a key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st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engaged i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take certification signatures ligh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ed benefit is more Quality Units and better program delivered to our yout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CE0-2CFD-495E-84BA-4182E080B20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4/2007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8954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stand BSA’s membership valid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 where to get the data to insure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 some ideas to improve unit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FF65-9692-43C5-8A7F-2579F0A7E48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4/2007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95480" y="2514600"/>
            <a:ext cx="4267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questions or com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dd St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iff@bes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79C-2211-44CA-BE6F-F008F1FC561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4/2007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Membership Valid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validation process in place and Commissioners play important role in it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ncil and District Key 3 must formally certify they understand the process and that the procedures are being enfor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all responsible to ensure integrity of BSA membership ro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overstate membership nor number of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85E-074D-40C7-928D-79713BCD6FD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4/2007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dded Benefi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3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s formal means to improve units that are not Quality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s means to track Centennial Quality Unit/District/Counci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673E-0268-4129-BC10-AED4E7D1E70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4/2007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Validation Procedures (1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low registration procedures to maintain BSA standards of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lcoming call to unit leader when a new unit is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l Registration Cards directly to unit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hip fees paid by council must be approved by Scout Executive with Board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889-2F3A-4001-ACB9-46A2C81FA59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4/2007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Validation Procedures (2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uct semiannual “unit health” re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ch for unusual or no changes in unit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e all youth participants are regis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individuals (including District Key 3s) certify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administrative and documentation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E478-C0F8-48F0-88CF-F31C618C011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4/200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Unit Health Review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-serving Exec and Commissioner team evaluate every unit in district in January and 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gn rating of “Good”, “Fair” or “Po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d” implies a Quality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ten action plans prepared for all “Fair” and “Poor” units detailing steps necessary to become Quality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on plans to be monitored month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32F9-5A32-4873-AD9C-1290D9F37CC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4/200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Unit Health Indicator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670572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lity Unit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ur per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cipation in district and counci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ndtable atte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ult leader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AB92-38B7-4E20-8223-F267F18857F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4/2007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dult Leader Training</a:t>
            </a:r>
            <a:br>
              <a:rPr sz="4400"/>
            </a:b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MyBSA--&gt; Training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0160" y="1981080"/>
            <a:ext cx="74818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5CA1-2551-4C47-B080-5C912BF7B06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24/2007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dd Stiff</dc:creator>
  <dc:description/>
  <dc:language>en-US</dc:language>
  <cp:lastModifiedBy>Judd Stiff</cp:lastModifiedBy>
  <cp:revision>0</cp:revision>
  <dc:subject/>
  <dc:title>Membership Validation</dc:title>
</cp:coreProperties>
</file>